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type.wav" ContentType="audio/x-wav"/>
  <Override PartName="/ppt/media/image6.jpeg" ContentType="image/jpeg"/>
  <Override PartName="/ppt/media/image19.wmf" ContentType="image/x-wmf"/>
  <Override PartName="/ppt/media/image8.jpeg" ContentType="image/jpeg"/>
  <Override PartName="/ppt/media/image13.wmf" ContentType="image/x-wmf"/>
  <Override PartName="/ppt/media/ricochet.wav" ContentType="audio/x-wav"/>
  <Override PartName="/ppt/media/image16.png" ContentType="image/png"/>
  <Override PartName="/ppt/media/image4.wmf" ContentType="image/x-wmf"/>
  <Override PartName="/ppt/media/image27.wmf" ContentType="image/x-wmf"/>
  <Override PartName="/ppt/media/glass.wav" ContentType="audio/x-wav"/>
  <Override PartName="/ppt/media/image5.wmf" ContentType="image/x-wmf"/>
  <Override PartName="/ppt/media/camera.wav" ContentType="audio/x-wav"/>
  <Override PartName="/ppt/media/image7.wmf" ContentType="image/x-wmf"/>
  <Override PartName="/ppt/media/image10.gif" ContentType="image/gif"/>
  <Override PartName="/ppt/media/image25.wmf" ContentType="image/x-wmf"/>
  <Override PartName="/ppt/media/chimes.wav" ContentType="audio/x-wav"/>
  <Override PartName="/ppt/media/image2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9.jpeg" ContentType="image/jpeg"/>
  <Override PartName="/ppt/media/image23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1.gif" ContentType="image/gif"/>
  <Override PartName="/ppt/media/image12.gif" ContentType="image/gi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9124920"/>
            <a:ext cx="360" cy="19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70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007-05F7-4034-ABD3-BA1E435A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64C-FD00-43DF-B9F7-5575DB9F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3DB-1CAB-4BDE-839A-56526EA6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1A7-9DAB-4B0D-971E-BC8C447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FCC-74FD-465D-9E41-6A3D7880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74A-3F5B-4D72-ADF7-4D29DC8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8F9-FD46-4273-A481-DA65186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1FB-8D8D-4987-81D7-762D28D8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2F0-57BB-4045-903C-62777431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C49-491A-44F5-810C-9AC3A359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0DA-11EE-458E-8154-6039BA6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41B-CA63-42AA-B94B-847D436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B9186-B919-42C0-B7EB-5917A58FE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4.xml"/><Relationship Id="rId1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5638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l processo comun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La comunicazione ad una e due v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Comunicazione non verb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 problemi del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 corr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Alcuni assiomi del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Ascolto 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8153640" cy="5205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ankGothic Lt BT"/>
              </a:rPr>
              <a:t>COMUNICAZIONE INTER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232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1936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807696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dell’attegg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3880"/>
            <a:ext cx="8381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Stile di atteggiamento e rapporto nei confronti dell'altro o del      gruppo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sicuro, esitante, amichevole, altero, aggressivo, compiacevole, umile ecc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Stato dell’u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gioviale, collerico, depresso, euforico, allarmato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status e di gerarch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chi è up/ chi è down, capo, gregario, servo, padrone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fiducia, diffidenza, rispetto, amore, ansia, paura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ti credo, non mi piaci, ho paura di te, è bello vederti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una visione esistenziale, di credenze e valori profond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fede, al servizio degli altri, fanatismo, fondamentalismo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867280"/>
            <a:ext cx="8610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SIAMO TRASPARENTI COME CASE DI V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990720"/>
            <a:ext cx="76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 compo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 linguaggio che esprimono l’atteggiamento e il tipo di rap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63691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2AAAE-4319-4B9F-9D63-C9654B3B78F0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dur="indefinite" fill="hold">
                      <p:stCondLst>
                        <p:cond delay="indefinite"/>
                      </p:stCondLst>
                      <p:childTnLst>
                        <p:par>
                          <p:cTn id="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dur="indefinite" fill="hold">
                      <p:stCondLst>
                        <p:cond delay="indefinite"/>
                      </p:stCondLst>
                      <p:childTnLst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dur="indefinite" fill="hold">
                      <p:stCondLst>
                        <p:cond delay="indefinite"/>
                      </p:stCondLst>
                      <p:childTnLst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glass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dur="indefinite" fill="hold">
                      <p:stCondLst>
                        <p:cond delay="indefinite"/>
                      </p:stCondLst>
                      <p:childTnLst>
                        <p:par>
                          <p:cTn id="6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dur="indefinite" fill="hold">
                      <p:stCondLst>
                        <p:cond delay="indefinite"/>
                      </p:stCondLst>
                      <p:childTnLst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contraddi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 sorriso può controbilanciare una frase dura; uno sguardo sfuggente può contrapporsi ad una frase am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sostitui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es. invece di dire ciao si saluta con un gesto della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essere complementa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es. il buongiorno si accompagna ad una stretta di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sottoline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olume di voce crescente per indicare un ordine o che si affievolisce per significare confid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33520"/>
            <a:ext cx="578160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Rapporto tra comportame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verbali e non verb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dur="indefinite" fill="hold">
                      <p:stCondLst>
                        <p:cond delay="indefinite"/>
                      </p:stCondLst>
                      <p:childTnLst>
                        <p:par>
                          <p:cTn id="6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dur="indefinite" fill="hold">
                      <p:stCondLst>
                        <p:cond delay="indefinite"/>
                      </p:stCondLst>
                      <p:childTnLst>
                        <p:par>
                          <p:cTn id="6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47280"/>
            <a:ext cx="8381880" cy="1096920"/>
          </a:xfrm>
          <a:prstGeom prst="rect">
            <a:avLst/>
          </a:prstGeom>
          <a:solidFill>
            <a:srgbClr val="93d3d1"/>
          </a:solidFill>
          <a:ln w="1260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3333cc"/>
                </a:solidFill>
                <a:latin typeface="Times New Roman"/>
              </a:rPr>
              <a:t>I SEGNALI DI INFORMAZIONE RETROAT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76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Feed-back </a:t>
            </a:r>
            <a:r>
              <a:rPr b="1" lang="en-GB" sz="2000" spc="-1" strike="noStrike">
                <a:solidFill>
                  <a:srgbClr val="ff6600"/>
                </a:solidFill>
                <a:latin typeface="Times New Roman"/>
              </a:rPr>
              <a:t>di ascolto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che denota</a:t>
            </a:r>
            <a:r>
              <a:rPr b="1" lang="en-GB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ttenzione al messaggi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Feed-back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di comprensione e accordo - disaccordo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sul messaggio decodif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Imitazione posturale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 ricalco ) che denota  forte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accettazion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dell’intero messaggio di chi pa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dur="indefinite" fill="hold">
                      <p:stCondLst>
                        <p:cond delay="indefinite"/>
                      </p:stCondLst>
                      <p:childTnLst>
                        <p:par>
                          <p:cTn id="6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39160" cy="4915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2360" y="11430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1: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 BISOGNA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OSSERVARE L’INSI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5720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11520" cy="504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914400"/>
            <a:ext cx="63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REGOLA 2 :</a:t>
            </a:r>
            <a:r>
              <a:rPr b="0" lang="en-GB" sz="2000" spc="-1" strike="noStrike">
                <a:solidFill>
                  <a:srgbClr val="000000"/>
                </a:solidFill>
                <a:latin typeface="Bahama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Bahamas"/>
              </a:rPr>
              <a:t>GUARDARE OLTRE L’APPAR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95280"/>
            <a:ext cx="452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COSA CI STA DIETRO LA MASCHERA ?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È VERO IL MESSAGGIO ESPLICITO O QUELLO NASCOSTO ?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QUALE CONVIENE RECEPIR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dur="indefinite" fill="hold">
                      <p:stCondLst>
                        <p:cond delay="indefinite"/>
                      </p:stCondLst>
                      <p:childTnLst>
                        <p:par>
                          <p:cTn id="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18268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231444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20286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920" y="973080"/>
            <a:ext cx="69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REGOLA 3: </a:t>
            </a:r>
            <a:r>
              <a:rPr b="1" lang="en-GB" sz="2000" spc="-1" strike="noStrike">
                <a:solidFill>
                  <a:srgbClr val="cc0000"/>
                </a:solidFill>
                <a:latin typeface="Bahamas"/>
              </a:rPr>
              <a:t>LA CNV VA LETTA NELLA SUA DINA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44792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I CAMBIAMENTI, LE ALTERAZIONI, DICONO DI PIU’ DEI SEGNALI SI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080" y="99072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4 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: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LA CNV VA LETTA NEL SUO CON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57640" y="2405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043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2133720" cy="277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1676520"/>
            <a:ext cx="211464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rtiv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2133360" cy="277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9880" y="2610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209680"/>
            <a:ext cx="1523880" cy="163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267080" y="2133720"/>
            <a:ext cx="211464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rtivo!!!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dur="indefinite" fill="hold">
                      <p:stCondLst>
                        <p:cond delay="indefinite"/>
                      </p:stCondLst>
                      <p:childTnLst>
                        <p:par>
                          <p:cTn id="7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dur="indefinite" fill="hold">
                      <p:stCondLst>
                        <p:cond delay="indefinite"/>
                      </p:stCondLst>
                      <p:childTnLst>
                        <p:par>
                          <p:cTn id="7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ricochet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080" y="99072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4 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: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LA CNV VA LETTA NEL SUO CON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52480"/>
            <a:ext cx="81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Bahamas"/>
              </a:rPr>
              <a:t>LA SITUAZIONE, IL MOMENTO, I RAPPORTI, DANNO SENSI DIVERSI AGLI STESSI SEG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9076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9076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62120" cy="3009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2562120" cy="300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95480" y="327672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6668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767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2209680"/>
            <a:ext cx="1552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g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0" y="2057400"/>
            <a:ext cx="1552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oc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dur="indefinite" fill="hold">
                      <p:stCondLst>
                        <p:cond delay="indefinite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dur="indefinite" fill="hold">
                      <p:stCondLst>
                        <p:cond delay="indefinite"/>
                      </p:stCondLst>
                      <p:childTnLst>
                        <p:par>
                          <p:cTn id="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dur="indefinite" fill="hold">
                      <p:stCondLst>
                        <p:cond delay="indefinite"/>
                      </p:stCondLst>
                      <p:childTnLst>
                        <p:par>
                          <p:cTn id="7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dur="indefinite" fill="hold">
                      <p:stCondLst>
                        <p:cond delay="indefinite"/>
                      </p:stCondLst>
                      <p:childTnLst>
                        <p:par>
                          <p:cTn id="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5181480"/>
            <a:ext cx="6434280" cy="811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a di entrare per la porta della ra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isogna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PRIRE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la porta del sen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549360"/>
            <a:ext cx="353232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ANIFESTO / ES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G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ELLA SFERA DEL SOC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NGUAGGIO VERB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92280"/>
            <a:ext cx="3657600" cy="22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ASCOSTO / IM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SICO-LO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ELLA SFERA DELL’AFFE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GUAGGIO PARAVERBALE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L CORP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LL’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197000"/>
          <a:ext cx="4954320" cy="27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49543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dur="indefinite" fill="hold">
                      <p:stCondLst>
                        <p:cond delay="indefinite"/>
                      </p:stCondLst>
                      <p:childTnLst>
                        <p:par>
                          <p:cTn id="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dur="indefinite" fill="hold">
                      <p:stCondLst>
                        <p:cond delay="indefinite"/>
                      </p:stCondLst>
                      <p:childTnLst>
                        <p:par>
                          <p:cTn id="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dur="indefinite" fill="hold">
                      <p:stCondLst>
                        <p:cond delay="indefinite"/>
                      </p:stCondLst>
                      <p:childTnLst>
                        <p:par>
                          <p:cTn id="7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dur="indefinite" fill="hold">
                      <p:stCondLst>
                        <p:cond delay="indefinite"/>
                      </p:stCondLst>
                      <p:childTnLst>
                        <p:par>
                          <p:cTn id="8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1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apidità di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ntrollo costante del pot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iduzione di interferenze d’ordine ambientale-psic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360" y="1844640"/>
            <a:ext cx="3959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Svanta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ifficoltà nel trasmettere fedelmente un conc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ssibilità di incomprensioni, poiché  spesso a parole uguali si attribuiscono significati dive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ischio di dare per scontate le conoscenze di chi ascol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ifficoltà di sapere cosa è stato comp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0880"/>
            <a:ext cx="75614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comunicazione a 1 v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48240" y="1238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3716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981080"/>
            <a:ext cx="1440" cy="4496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46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i n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MORI” ovverosia disturbi / interferenze di na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95480"/>
            <a:ext cx="274320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isica o ogg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5600" y="2881440"/>
            <a:ext cx="3921120" cy="373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l Canale e/o sui Comunic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895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733920"/>
            <a:ext cx="2743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emantica o di    sign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440" y="3706920"/>
            <a:ext cx="3943440" cy="643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lla Codificazione e sulla Decod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952880"/>
            <a:ext cx="2743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ffettiva e/o psico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733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4952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16520" y="4734000"/>
            <a:ext cx="4035240" cy="1194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i filtri affettivi o psicosoc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i quali diamo valore ai nost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nterlocutori e ai loro messag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dur="indefinite" fill="hold">
                      <p:stCondLst>
                        <p:cond delay="indefinite"/>
                      </p:stCondLst>
                      <p:childTnLst>
                        <p:par>
                          <p:cTn id="8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dur="indefinite" fill="hold">
                      <p:stCondLst>
                        <p:cond delay="indefinite"/>
                      </p:stCondLst>
                      <p:childTnLst>
                        <p:par>
                          <p:cTn id="8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dur="indefinite" fill="hold">
                      <p:stCondLst>
                        <p:cond delay="indefinite"/>
                      </p:stCondLst>
                      <p:childTnLst>
                        <p:par>
                          <p:cTn id="8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dur="indefinite" fill="hold">
                      <p:stCondLst>
                        <p:cond delay="indefinite"/>
                      </p:stCondLst>
                      <p:childTnLst>
                        <p:par>
                          <p:cTn id="8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dur="indefinite" fill="hold">
                      <p:stCondLst>
                        <p:cond delay="indefinite"/>
                      </p:stCondLst>
                      <p:childTnLst>
                        <p:par>
                          <p:cTn id="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457200"/>
            <a:ext cx="77724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li effetti dei problemi d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276720"/>
            <a:ext cx="2590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E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23920" y="203976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DISTO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3920" y="394488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NEF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3920" y="272556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DISPE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333540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NEFFIC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23920" y="463068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TALVOLTA 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2362320"/>
            <a:ext cx="12193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97180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3581280"/>
            <a:ext cx="1219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67080" y="3578400"/>
            <a:ext cx="1219320" cy="615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3578040"/>
            <a:ext cx="1219320" cy="130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dur="indefinite" fill="hold">
                      <p:stCondLst>
                        <p:cond delay="indefinite"/>
                      </p:stCondLst>
                      <p:childTnLst>
                        <p:par>
                          <p:cTn id="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dur="indefinite" fill="hold">
                      <p:stCondLst>
                        <p:cond delay="indefinite"/>
                      </p:stCondLst>
                      <p:childTnLst>
                        <p:par>
                          <p:cTn id="8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dur="indefinite" fill="hold">
                      <p:stCondLst>
                        <p:cond delay="indefinite"/>
                      </p:stCondLst>
                      <p:childTnLst>
                        <p:par>
                          <p:cTn id="8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dur="indefinite" fill="hold">
                      <p:stCondLst>
                        <p:cond delay="indefinite"/>
                      </p:stCondLst>
                      <p:childTnLst>
                        <p:par>
                          <p:cTn id="8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dur="indefinite" fill="hold">
                      <p:stCondLst>
                        <p:cond delay="indefinite"/>
                      </p:stCondLst>
                      <p:childTnLst>
                        <p:par>
                          <p:cTn id="8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dur="indefinite" fill="hold">
                      <p:stCondLst>
                        <p:cond delay="indefinite"/>
                      </p:stCondLst>
                      <p:childTnLst>
                        <p:par>
                          <p:cTn id="9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dur="indefinite" fill="hold">
                      <p:stCondLst>
                        <p:cond delay="indefinite"/>
                      </p:stCondLst>
                      <p:childTnLst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dur="indefinite" fill="hold">
                      <p:stCondLst>
                        <p:cond delay="indefinite"/>
                      </p:stCondLst>
                      <p:childTnLst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dur="indefinite" fill="hold">
                      <p:stCondLst>
                        <p:cond delay="indefinite"/>
                      </p:stCondLst>
                      <p:childTnLst>
                        <p:par>
                          <p:cTn id="9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dur="indefinite" fill="hold">
                      <p:stCondLst>
                        <p:cond delay="indefinite"/>
                      </p:stCondLst>
                      <p:childTnLst>
                        <p:par>
                          <p:cTn id="9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dur="indefinite" fill="hold">
                      <p:stCondLst>
                        <p:cond delay="indefinite"/>
                      </p:stCondLst>
                      <p:childTnLst>
                        <p:par>
                          <p:cTn id="9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495680"/>
            <a:ext cx="8382240" cy="2113200"/>
          </a:xfrm>
          <a:prstGeom prst="rect">
            <a:avLst/>
          </a:prstGeom>
          <a:solidFill>
            <a:srgbClr val="0000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Ridond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Verifica della compr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Eliminazione delle cause ( se possibil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114800"/>
            <a:ext cx="6400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 CORRETTIVI 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143000"/>
            <a:ext cx="6477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ER I PROBLEMI DI NATURA FISICA O OGGE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D ESEMPI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RUMOR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AL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ISAGIO FI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OCE TROPPO BASSA DI CHI PAR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CUSTICA PRECARIA ECC.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dur="indefinite" fill="hold">
                      <p:stCondLst>
                        <p:cond delay="indefinite"/>
                      </p:stCondLst>
                      <p:childTnLst>
                        <p:par>
                          <p:cTn id="9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0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dur="indefinite" fill="hold">
                      <p:stCondLst>
                        <p:cond delay="indefinite"/>
                      </p:stCondLst>
                      <p:childTnLst>
                        <p:par>
                          <p:cTn id="9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dur="indefinite" fill="hold">
                      <p:stCondLst>
                        <p:cond delay="indefinite"/>
                      </p:stCondLst>
                      <p:childTnLst>
                        <p:par>
                          <p:cTn id="9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63" dur="indefinite" fill="hold">
                      <p:stCondLst>
                        <p:cond delay="indefinite"/>
                      </p:stCondLst>
                      <p:childTnLst>
                        <p:par>
                          <p:cTn id="9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69" dur="indefinite" fill="hold">
                      <p:stCondLst>
                        <p:cond delay="indefinite"/>
                      </p:stCondLst>
                      <p:childTnLst>
                        <p:par>
                          <p:cTn id="9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81" dur="indefinite" fill="hold">
                      <p:stCondLst>
                        <p:cond delay="indefinite"/>
                      </p:stCondLst>
                      <p:childTnLst>
                        <p:par>
                          <p:cTn id="9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75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5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5" name="typ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9520" y="790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9040" y="900000"/>
          <a:ext cx="849636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900000"/>
                    <a:ext cx="849636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80880" y="838080"/>
            <a:ext cx="85345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 FILTRI SEMANTICI  O DI SIGN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dur="indefinite" fill="hold">
                      <p:stCondLst>
                        <p:cond delay="indefinite"/>
                      </p:stCondLst>
                      <p:childTnLst>
                        <p:par>
                          <p:cTn id="9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71520" y="766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900000"/>
          <a:ext cx="7943760" cy="50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00000"/>
                    <a:ext cx="794376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304920"/>
            <a:ext cx="83059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 FILTRI AFFETTIVI O PSICOSO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371600"/>
            <a:ext cx="746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Ridond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Verifica della compre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Eliminazione delle cause ( se possibi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Inolt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r superare o contornare il muro dell’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COMPRENSIONE SEMAN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048120"/>
            <a:ext cx="8686800" cy="358128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si mettere nella testa di chi deve cap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Preparare e strutturare bene il messaggio nel contenuto e nella  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Adeguarsi al livello di comprensione dei nostri interlocu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Usare un linguaggio chiaro e comprensi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Voce e pronuncia chiara e dist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Fare opportune pause di tanto in ta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Riassumere di tanto in tanto se necess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formarsi a priori sui nostri interlocutori, sulle loro aspettative,  sul loro livello di              conoscenza ed esperien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 ascoltare, soprattutto i messaggi impliciti o nas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urare l'e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teressare l'udi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Mostrare convinzione, entusia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Lucida Sans Unicode"/>
              </a:rPr>
              <a:t>Anc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2040" y="990720"/>
            <a:ext cx="45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esenza di uno o di entrambi i muri,  che fa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dur="indefinite" fill="hold">
                      <p:stCondLst>
                        <p:cond delay="indefinite"/>
                      </p:stCondLst>
                      <p:childTnLst>
                        <p:par>
                          <p:cTn id="10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dur="indefinite" fill="hold">
                      <p:stCondLst>
                        <p:cond delay="indefinite"/>
                      </p:stCondLst>
                      <p:childTnLst>
                        <p:par>
                          <p:cTn id="10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dur="indefinite" fill="hold">
                      <p:stCondLst>
                        <p:cond delay="indefinite"/>
                      </p:stCondLst>
                      <p:childTnLst>
                        <p:par>
                          <p:cTn id="1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dur="indefinite" fill="hold">
                      <p:stCondLst>
                        <p:cond delay="indefinite"/>
                      </p:stCondLst>
                      <p:childTnLst>
                        <p:par>
                          <p:cTn id="10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dur="indefinite" fill="hold">
                      <p:stCondLst>
                        <p:cond delay="indefinite"/>
                      </p:stCondLst>
                      <p:childTnLst>
                        <p:par>
                          <p:cTn id="10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dur="indefinite" fill="hold">
                      <p:stCondLst>
                        <p:cond delay="indefinite"/>
                      </p:stCondLst>
                      <p:childTnLst>
                        <p:par>
                          <p:cTn id="10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dur="indefinite" fill="hold">
                      <p:stCondLst>
                        <p:cond delay="indefinite"/>
                      </p:stCondLst>
                      <p:childTnLst>
                        <p:par>
                          <p:cTn id="1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dur="indefinite" fill="hold">
                      <p:stCondLst>
                        <p:cond delay="indefinite"/>
                      </p:stCondLst>
                      <p:childTnLst>
                        <p:par>
                          <p:cTn id="10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dur="indefinite" fill="hold">
                      <p:stCondLst>
                        <p:cond delay="indefinite"/>
                      </p:stCondLst>
                      <p:childTnLst>
                        <p:par>
                          <p:cTn id="10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dur="indefinite" fill="hold">
                      <p:stCondLst>
                        <p:cond delay="indefinite"/>
                      </p:stCondLst>
                      <p:childTnLst>
                        <p:par>
                          <p:cTn id="10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dur="indefinite" fill="hold">
                      <p:stCondLst>
                        <p:cond delay="indefinite"/>
                      </p:stCondLst>
                      <p:childTnLst>
                        <p:par>
                          <p:cTn id="10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dur="indefinite" fill="hold">
                      <p:stCondLst>
                        <p:cond delay="indefinite"/>
                      </p:stCondLst>
                      <p:childTnLst>
                        <p:par>
                          <p:cTn id="10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dur="indefinite" fill="hold">
                      <p:stCondLst>
                        <p:cond delay="indefinite"/>
                      </p:stCondLst>
                      <p:childTnLst>
                        <p:par>
                          <p:cTn id="10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dur="indefinite" fill="hold">
                      <p:stCondLst>
                        <p:cond delay="indefinite"/>
                      </p:stCondLst>
                      <p:childTnLst>
                        <p:par>
                          <p:cTn id="1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dur="indefinite" fill="hold">
                      <p:stCondLst>
                        <p:cond delay="indefinite"/>
                      </p:stCondLst>
                      <p:childTnLst>
                        <p:par>
                          <p:cTn id="1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dur="indefinite" fill="hold">
                      <p:stCondLst>
                        <p:cond delay="indefinite"/>
                      </p:stCondLst>
                      <p:childTnLst>
                        <p:par>
                          <p:cTn id="1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dur="indefinite" fill="hold">
                      <p:stCondLst>
                        <p:cond delay="indefinite"/>
                      </p:stCondLst>
                      <p:childTnLst>
                        <p:par>
                          <p:cTn id="1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dur="indefinite" fill="hold">
                      <p:stCondLst>
                        <p:cond delay="indefinite"/>
                      </p:stCondLst>
                      <p:childTnLst>
                        <p:par>
                          <p:cTn id="1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895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066680"/>
            <a:ext cx="8001000" cy="7855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superare o contornare il muro dell’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COMUNICA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 quanto sopr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981080"/>
            <a:ext cx="8229600" cy="457200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formarsi e tenere conto di: cultura / valori / pregiudizi  degli altri comunic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urare in particolare il primo momento dell’incontro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(fase di riscaldam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 entrare nella testa dell’altro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cosa si aspetta, che sa, quali sono i suoi punti forti e quelli da non toccare ec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Da cui anche saper percepire i segnali deboli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(feedback)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del suo linguaggio non-verbale (paraverbale, corpo e atteggiam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Da cui anche calibrare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il proprio ritmo, voce, vocabolario, gesti e atteggiamenti sui suoi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reare un rapporto di accettazione (meglio ancora di empat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Rispettare il punto di vista altrui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.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Rispettare la pers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e serve, stabilire una forma di contratto psicologico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verificare e negoziare cioè la disponibilità e il consenso degli ascoltatori a lavorare con v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Metterci entusiasmo e calore (atteggiamento positiv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ontrollare l’ansia, ma senza esagerare nello sfo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dur="indefinite" fill="hold">
                      <p:stCondLst>
                        <p:cond delay="indefinite"/>
                      </p:stCondLst>
                      <p:childTnLst>
                        <p:par>
                          <p:cTn id="1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dur="indefinite" fill="hold">
                      <p:stCondLst>
                        <p:cond delay="indefinite"/>
                      </p:stCondLst>
                      <p:childTnLst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dur="indefinite" fill="hold">
                      <p:stCondLst>
                        <p:cond delay="indefinite"/>
                      </p:stCondLst>
                      <p:childTnLst>
                        <p:par>
                          <p:cTn id="1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dur="indefinite" fill="hold">
                      <p:stCondLst>
                        <p:cond delay="indefinite"/>
                      </p:stCondLst>
                      <p:childTnLst>
                        <p:par>
                          <p:cTn id="1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dur="indefinite" fill="hold">
                      <p:stCondLst>
                        <p:cond delay="indefinite"/>
                      </p:stCondLst>
                      <p:childTnLst>
                        <p:par>
                          <p:cTn id="1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dur="indefinite" fill="hold">
                      <p:stCondLst>
                        <p:cond delay="indefinite"/>
                      </p:stCondLst>
                      <p:childTnLst>
                        <p:par>
                          <p:cTn id="1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dur="indefinite" fill="hold">
                      <p:stCondLst>
                        <p:cond delay="indefinite"/>
                      </p:stCondLst>
                      <p:childTnLst>
                        <p:par>
                          <p:cTn id="1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dur="indefinite" fill="hold">
                      <p:stCondLst>
                        <p:cond delay="indefinite"/>
                      </p:stCondLst>
                      <p:childTnLst>
                        <p:par>
                          <p:cTn id="1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dur="indefinite" fill="hold">
                      <p:stCondLst>
                        <p:cond delay="indefinite"/>
                      </p:stCondLst>
                      <p:childTnLst>
                        <p:par>
                          <p:cTn id="1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3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dur="indefinite" fill="hold">
                      <p:stCondLst>
                        <p:cond delay="indefinite"/>
                      </p:stCondLst>
                      <p:childTnLst>
                        <p:par>
                          <p:cTn id="1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3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dur="indefinite" fill="hold">
                      <p:stCondLst>
                        <p:cond delay="indefinite"/>
                      </p:stCondLst>
                      <p:childTnLst>
                        <p:par>
                          <p:cTn id="1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3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dur="indefinite" fill="hold">
                      <p:stCondLst>
                        <p:cond delay="indefinite"/>
                      </p:stCondLst>
                      <p:childTnLst>
                        <p:par>
                          <p:cTn id="1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3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3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dur="indefinite" fill="hold">
                      <p:stCondLst>
                        <p:cond delay="indefinite"/>
                      </p:stCondLst>
                      <p:childTnLst>
                        <p:par>
                          <p:cTn id="1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3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dur="indefinite" fill="hold">
                      <p:stCondLst>
                        <p:cond delay="indefinite"/>
                      </p:stCondLst>
                      <p:childTnLst>
                        <p:par>
                          <p:cTn id="1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3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dur="indefinite" fill="hold">
                      <p:stCondLst>
                        <p:cond delay="indefinite"/>
                      </p:stCondLst>
                      <p:childTnLst>
                        <p:par>
                          <p:cTn id="1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3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dur="indefinite" fill="hold">
                      <p:stCondLst>
                        <p:cond delay="indefinite"/>
                      </p:stCondLst>
                      <p:childTnLst>
                        <p:par>
                          <p:cTn id="1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3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3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066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DUE COSE PIÙ IMPORTANT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23880"/>
            <a:ext cx="5770800" cy="381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RIENTAMENTO A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0574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OSTARE IL BARICENTRO DELL’ATTENZION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L PROPRIO EGOCENTRISMO VERSO L’ALTRO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438280"/>
            <a:ext cx="6504120" cy="381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PERSI METTERE NELLA TESTA DELL’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76520" y="3048120"/>
            <a:ext cx="2717640" cy="3436920"/>
            <a:chOff x="1676520" y="3048120"/>
            <a:chExt cx="2717640" cy="3436920"/>
          </a:xfrm>
        </p:grpSpPr>
        <p:grpSp>
          <p:nvGrpSpPr>
            <p:cNvPr id="203" name=""/>
            <p:cNvGrpSpPr/>
            <p:nvPr/>
          </p:nvGrpSpPr>
          <p:grpSpPr>
            <a:xfrm>
              <a:off x="1676520" y="3048120"/>
              <a:ext cx="2717640" cy="3436920"/>
              <a:chOff x="1676520" y="3048120"/>
              <a:chExt cx="2717640" cy="343692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6520" y="5064120"/>
                <a:ext cx="1035000" cy="1131840"/>
              </a:xfrm>
              <a:custGeom>
                <a:avLst/>
                <a:gdLst/>
                <a:ahLst/>
                <a:rect l="l" t="t" r="r" b="b"/>
                <a:pathLst>
                  <a:path w="3692" h="4130">
                    <a:moveTo>
                      <a:pt x="3557" y="1815"/>
                    </a:moveTo>
                    <a:lnTo>
                      <a:pt x="3427" y="2027"/>
                    </a:lnTo>
                    <a:lnTo>
                      <a:pt x="3427" y="2167"/>
                    </a:lnTo>
                    <a:lnTo>
                      <a:pt x="3692" y="2687"/>
                    </a:lnTo>
                    <a:lnTo>
                      <a:pt x="3605" y="2792"/>
                    </a:lnTo>
                    <a:lnTo>
                      <a:pt x="3367" y="2830"/>
                    </a:lnTo>
                    <a:lnTo>
                      <a:pt x="3382" y="3005"/>
                    </a:lnTo>
                    <a:lnTo>
                      <a:pt x="3290" y="3135"/>
                    </a:lnTo>
                    <a:lnTo>
                      <a:pt x="3275" y="3195"/>
                    </a:lnTo>
                    <a:lnTo>
                      <a:pt x="3265" y="3312"/>
                    </a:lnTo>
                    <a:lnTo>
                      <a:pt x="3082" y="3417"/>
                    </a:lnTo>
                    <a:lnTo>
                      <a:pt x="3067" y="3522"/>
                    </a:lnTo>
                    <a:lnTo>
                      <a:pt x="3152" y="3675"/>
                    </a:lnTo>
                    <a:lnTo>
                      <a:pt x="3160" y="3780"/>
                    </a:lnTo>
                    <a:lnTo>
                      <a:pt x="3067" y="3902"/>
                    </a:lnTo>
                    <a:lnTo>
                      <a:pt x="2230" y="3912"/>
                    </a:lnTo>
                    <a:lnTo>
                      <a:pt x="2047" y="4130"/>
                    </a:lnTo>
                    <a:lnTo>
                      <a:pt x="1442" y="3577"/>
                    </a:lnTo>
                    <a:lnTo>
                      <a:pt x="865" y="3130"/>
                    </a:lnTo>
                    <a:lnTo>
                      <a:pt x="525" y="2972"/>
                    </a:lnTo>
                    <a:lnTo>
                      <a:pt x="277" y="2915"/>
                    </a:lnTo>
                    <a:lnTo>
                      <a:pt x="250" y="2807"/>
                    </a:lnTo>
                    <a:lnTo>
                      <a:pt x="225" y="2695"/>
                    </a:lnTo>
                    <a:lnTo>
                      <a:pt x="205" y="2575"/>
                    </a:lnTo>
                    <a:lnTo>
                      <a:pt x="187" y="2452"/>
                    </a:lnTo>
                    <a:lnTo>
                      <a:pt x="172" y="2327"/>
                    </a:lnTo>
                    <a:lnTo>
                      <a:pt x="157" y="2202"/>
                    </a:lnTo>
                    <a:lnTo>
                      <a:pt x="142" y="2080"/>
                    </a:lnTo>
                    <a:lnTo>
                      <a:pt x="122" y="1957"/>
                    </a:lnTo>
                    <a:lnTo>
                      <a:pt x="95" y="1880"/>
                    </a:lnTo>
                    <a:lnTo>
                      <a:pt x="70" y="1797"/>
                    </a:lnTo>
                    <a:lnTo>
                      <a:pt x="50" y="1717"/>
                    </a:lnTo>
                    <a:lnTo>
                      <a:pt x="32" y="1637"/>
                    </a:lnTo>
                    <a:lnTo>
                      <a:pt x="20" y="1557"/>
                    </a:lnTo>
                    <a:lnTo>
                      <a:pt x="10" y="1477"/>
                    </a:lnTo>
                    <a:lnTo>
                      <a:pt x="2" y="1397"/>
                    </a:lnTo>
                    <a:lnTo>
                      <a:pt x="0" y="1320"/>
                    </a:lnTo>
                    <a:lnTo>
                      <a:pt x="2" y="1240"/>
                    </a:lnTo>
                    <a:lnTo>
                      <a:pt x="10" y="1162"/>
                    </a:lnTo>
                    <a:lnTo>
                      <a:pt x="20" y="1085"/>
                    </a:lnTo>
                    <a:lnTo>
                      <a:pt x="35" y="1010"/>
                    </a:lnTo>
                    <a:lnTo>
                      <a:pt x="55" y="935"/>
                    </a:lnTo>
                    <a:lnTo>
                      <a:pt x="80" y="865"/>
                    </a:lnTo>
                    <a:lnTo>
                      <a:pt x="107" y="792"/>
                    </a:lnTo>
                    <a:lnTo>
                      <a:pt x="145" y="725"/>
                    </a:lnTo>
                    <a:lnTo>
                      <a:pt x="182" y="657"/>
                    </a:lnTo>
                    <a:lnTo>
                      <a:pt x="230" y="592"/>
                    </a:lnTo>
                    <a:lnTo>
                      <a:pt x="282" y="530"/>
                    </a:lnTo>
                    <a:lnTo>
                      <a:pt x="340" y="470"/>
                    </a:lnTo>
                    <a:lnTo>
                      <a:pt x="400" y="412"/>
                    </a:lnTo>
                    <a:lnTo>
                      <a:pt x="470" y="357"/>
                    </a:lnTo>
                    <a:lnTo>
                      <a:pt x="547" y="307"/>
                    </a:lnTo>
                    <a:lnTo>
                      <a:pt x="627" y="257"/>
                    </a:lnTo>
                    <a:lnTo>
                      <a:pt x="715" y="212"/>
                    </a:lnTo>
                    <a:lnTo>
                      <a:pt x="810" y="172"/>
                    </a:lnTo>
                    <a:lnTo>
                      <a:pt x="912" y="132"/>
                    </a:lnTo>
                    <a:lnTo>
                      <a:pt x="1020" y="100"/>
                    </a:lnTo>
                    <a:lnTo>
                      <a:pt x="1135" y="70"/>
                    </a:lnTo>
                    <a:lnTo>
                      <a:pt x="1257" y="42"/>
                    </a:lnTo>
                    <a:lnTo>
                      <a:pt x="1387" y="20"/>
                    </a:lnTo>
                    <a:lnTo>
                      <a:pt x="1525" y="2"/>
                    </a:lnTo>
                    <a:lnTo>
                      <a:pt x="1552" y="0"/>
                    </a:lnTo>
                    <a:lnTo>
                      <a:pt x="1582" y="0"/>
                    </a:lnTo>
                    <a:lnTo>
                      <a:pt x="1612" y="0"/>
                    </a:lnTo>
                    <a:lnTo>
                      <a:pt x="1647" y="0"/>
                    </a:lnTo>
                    <a:lnTo>
                      <a:pt x="1682" y="2"/>
                    </a:lnTo>
                    <a:lnTo>
                      <a:pt x="1720" y="5"/>
                    </a:lnTo>
                    <a:lnTo>
                      <a:pt x="1757" y="10"/>
                    </a:lnTo>
                    <a:lnTo>
                      <a:pt x="1800" y="12"/>
                    </a:lnTo>
                    <a:lnTo>
                      <a:pt x="1840" y="20"/>
                    </a:lnTo>
                    <a:lnTo>
                      <a:pt x="1882" y="25"/>
                    </a:lnTo>
                    <a:lnTo>
                      <a:pt x="1927" y="32"/>
                    </a:lnTo>
                    <a:lnTo>
                      <a:pt x="1970" y="42"/>
                    </a:lnTo>
                    <a:lnTo>
                      <a:pt x="2017" y="52"/>
                    </a:lnTo>
                    <a:lnTo>
                      <a:pt x="2062" y="62"/>
                    </a:lnTo>
                    <a:lnTo>
                      <a:pt x="2107" y="72"/>
                    </a:lnTo>
                    <a:lnTo>
                      <a:pt x="2155" y="85"/>
                    </a:lnTo>
                    <a:lnTo>
                      <a:pt x="2200" y="97"/>
                    </a:lnTo>
                    <a:lnTo>
                      <a:pt x="2247" y="112"/>
                    </a:lnTo>
                    <a:lnTo>
                      <a:pt x="2295" y="127"/>
                    </a:lnTo>
                    <a:lnTo>
                      <a:pt x="2340" y="142"/>
                    </a:lnTo>
                    <a:lnTo>
                      <a:pt x="2387" y="157"/>
                    </a:lnTo>
                    <a:lnTo>
                      <a:pt x="2430" y="175"/>
                    </a:lnTo>
                    <a:lnTo>
                      <a:pt x="2475" y="195"/>
                    </a:lnTo>
                    <a:lnTo>
                      <a:pt x="2520" y="212"/>
                    </a:lnTo>
                    <a:lnTo>
                      <a:pt x="2560" y="232"/>
                    </a:lnTo>
                    <a:lnTo>
                      <a:pt x="2602" y="252"/>
                    </a:lnTo>
                    <a:lnTo>
                      <a:pt x="2642" y="275"/>
                    </a:lnTo>
                    <a:lnTo>
                      <a:pt x="2680" y="297"/>
                    </a:lnTo>
                    <a:lnTo>
                      <a:pt x="2717" y="317"/>
                    </a:lnTo>
                    <a:lnTo>
                      <a:pt x="2752" y="342"/>
                    </a:lnTo>
                    <a:lnTo>
                      <a:pt x="2785" y="367"/>
                    </a:lnTo>
                    <a:lnTo>
                      <a:pt x="2817" y="392"/>
                    </a:lnTo>
                    <a:lnTo>
                      <a:pt x="2887" y="470"/>
                    </a:lnTo>
                    <a:lnTo>
                      <a:pt x="2952" y="542"/>
                    </a:lnTo>
                    <a:lnTo>
                      <a:pt x="3012" y="607"/>
                    </a:lnTo>
                    <a:lnTo>
                      <a:pt x="3065" y="672"/>
                    </a:lnTo>
                    <a:lnTo>
                      <a:pt x="3117" y="735"/>
                    </a:lnTo>
                    <a:lnTo>
                      <a:pt x="3162" y="797"/>
                    </a:lnTo>
                    <a:lnTo>
                      <a:pt x="3207" y="860"/>
                    </a:lnTo>
                    <a:lnTo>
                      <a:pt x="3247" y="930"/>
                    </a:lnTo>
                    <a:lnTo>
                      <a:pt x="3287" y="1005"/>
                    </a:lnTo>
                    <a:lnTo>
                      <a:pt x="3325" y="1085"/>
                    </a:lnTo>
                    <a:lnTo>
                      <a:pt x="3362" y="1172"/>
                    </a:lnTo>
                    <a:lnTo>
                      <a:pt x="3400" y="1275"/>
                    </a:lnTo>
                    <a:lnTo>
                      <a:pt x="3437" y="1387"/>
                    </a:lnTo>
                    <a:lnTo>
                      <a:pt x="3475" y="1512"/>
                    </a:lnTo>
                    <a:lnTo>
                      <a:pt x="3515" y="1655"/>
                    </a:lnTo>
                    <a:lnTo>
                      <a:pt x="3557" y="181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716120" y="3048120"/>
                <a:ext cx="2678040" cy="3436920"/>
                <a:chOff x="1716120" y="3048120"/>
                <a:chExt cx="2678040" cy="343692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1816200" y="3095640"/>
                  <a:ext cx="1760400" cy="1941480"/>
                  <a:chOff x="1816200" y="3095640"/>
                  <a:chExt cx="1760400" cy="1941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2446200" y="3098880"/>
                    <a:ext cx="79560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5" h="2930">
                        <a:moveTo>
                          <a:pt x="2835" y="385"/>
                        </a:moveTo>
                        <a:lnTo>
                          <a:pt x="2758" y="332"/>
                        </a:lnTo>
                        <a:lnTo>
                          <a:pt x="2678" y="282"/>
                        </a:lnTo>
                        <a:lnTo>
                          <a:pt x="2593" y="237"/>
                        </a:lnTo>
                        <a:lnTo>
                          <a:pt x="2505" y="197"/>
                        </a:lnTo>
                        <a:lnTo>
                          <a:pt x="2418" y="160"/>
                        </a:lnTo>
                        <a:lnTo>
                          <a:pt x="2323" y="125"/>
                        </a:lnTo>
                        <a:lnTo>
                          <a:pt x="2228" y="97"/>
                        </a:lnTo>
                        <a:lnTo>
                          <a:pt x="2133" y="72"/>
                        </a:lnTo>
                        <a:lnTo>
                          <a:pt x="2033" y="52"/>
                        </a:lnTo>
                        <a:lnTo>
                          <a:pt x="1933" y="35"/>
                        </a:lnTo>
                        <a:lnTo>
                          <a:pt x="1833" y="22"/>
                        </a:lnTo>
                        <a:lnTo>
                          <a:pt x="1730" y="15"/>
                        </a:lnTo>
                        <a:lnTo>
                          <a:pt x="1630" y="10"/>
                        </a:lnTo>
                        <a:lnTo>
                          <a:pt x="1528" y="10"/>
                        </a:lnTo>
                        <a:lnTo>
                          <a:pt x="1430" y="15"/>
                        </a:lnTo>
                        <a:lnTo>
                          <a:pt x="1330" y="22"/>
                        </a:lnTo>
                        <a:lnTo>
                          <a:pt x="1233" y="37"/>
                        </a:lnTo>
                        <a:lnTo>
                          <a:pt x="1135" y="55"/>
                        </a:lnTo>
                        <a:lnTo>
                          <a:pt x="1043" y="75"/>
                        </a:lnTo>
                        <a:lnTo>
                          <a:pt x="950" y="100"/>
                        </a:lnTo>
                        <a:lnTo>
                          <a:pt x="860" y="130"/>
                        </a:lnTo>
                        <a:lnTo>
                          <a:pt x="775" y="165"/>
                        </a:lnTo>
                        <a:lnTo>
                          <a:pt x="693" y="202"/>
                        </a:lnTo>
                        <a:lnTo>
                          <a:pt x="615" y="247"/>
                        </a:lnTo>
                        <a:lnTo>
                          <a:pt x="540" y="295"/>
                        </a:lnTo>
                        <a:lnTo>
                          <a:pt x="470" y="345"/>
                        </a:lnTo>
                        <a:lnTo>
                          <a:pt x="408" y="402"/>
                        </a:lnTo>
                        <a:lnTo>
                          <a:pt x="350" y="465"/>
                        </a:lnTo>
                        <a:lnTo>
                          <a:pt x="295" y="530"/>
                        </a:lnTo>
                        <a:lnTo>
                          <a:pt x="248" y="600"/>
                        </a:lnTo>
                        <a:lnTo>
                          <a:pt x="208" y="675"/>
                        </a:lnTo>
                        <a:lnTo>
                          <a:pt x="173" y="752"/>
                        </a:lnTo>
                        <a:lnTo>
                          <a:pt x="83" y="1097"/>
                        </a:lnTo>
                        <a:lnTo>
                          <a:pt x="70" y="1695"/>
                        </a:lnTo>
                        <a:lnTo>
                          <a:pt x="168" y="2037"/>
                        </a:lnTo>
                        <a:lnTo>
                          <a:pt x="208" y="2312"/>
                        </a:lnTo>
                        <a:lnTo>
                          <a:pt x="273" y="2492"/>
                        </a:lnTo>
                        <a:lnTo>
                          <a:pt x="285" y="2632"/>
                        </a:lnTo>
                        <a:lnTo>
                          <a:pt x="265" y="2730"/>
                        </a:lnTo>
                        <a:lnTo>
                          <a:pt x="273" y="2805"/>
                        </a:lnTo>
                        <a:lnTo>
                          <a:pt x="308" y="2930"/>
                        </a:lnTo>
                        <a:lnTo>
                          <a:pt x="213" y="2810"/>
                        </a:lnTo>
                        <a:lnTo>
                          <a:pt x="208" y="2647"/>
                        </a:lnTo>
                        <a:lnTo>
                          <a:pt x="208" y="2492"/>
                        </a:lnTo>
                        <a:lnTo>
                          <a:pt x="168" y="2297"/>
                        </a:lnTo>
                        <a:lnTo>
                          <a:pt x="118" y="2185"/>
                        </a:lnTo>
                        <a:lnTo>
                          <a:pt x="70" y="1935"/>
                        </a:lnTo>
                        <a:lnTo>
                          <a:pt x="35" y="1837"/>
                        </a:lnTo>
                        <a:lnTo>
                          <a:pt x="0" y="1515"/>
                        </a:lnTo>
                        <a:lnTo>
                          <a:pt x="55" y="970"/>
                        </a:lnTo>
                        <a:lnTo>
                          <a:pt x="175" y="705"/>
                        </a:lnTo>
                        <a:lnTo>
                          <a:pt x="315" y="525"/>
                        </a:lnTo>
                        <a:lnTo>
                          <a:pt x="345" y="505"/>
                        </a:lnTo>
                        <a:lnTo>
                          <a:pt x="378" y="480"/>
                        </a:lnTo>
                        <a:lnTo>
                          <a:pt x="413" y="452"/>
                        </a:lnTo>
                        <a:lnTo>
                          <a:pt x="455" y="425"/>
                        </a:lnTo>
                        <a:lnTo>
                          <a:pt x="498" y="392"/>
                        </a:lnTo>
                        <a:lnTo>
                          <a:pt x="545" y="362"/>
                        </a:lnTo>
                        <a:lnTo>
                          <a:pt x="598" y="330"/>
                        </a:lnTo>
                        <a:lnTo>
                          <a:pt x="653" y="295"/>
                        </a:lnTo>
                        <a:lnTo>
                          <a:pt x="713" y="262"/>
                        </a:lnTo>
                        <a:lnTo>
                          <a:pt x="773" y="230"/>
                        </a:lnTo>
                        <a:lnTo>
                          <a:pt x="838" y="197"/>
                        </a:lnTo>
                        <a:lnTo>
                          <a:pt x="905" y="165"/>
                        </a:lnTo>
                        <a:lnTo>
                          <a:pt x="978" y="135"/>
                        </a:lnTo>
                        <a:lnTo>
                          <a:pt x="1053" y="107"/>
                        </a:lnTo>
                        <a:lnTo>
                          <a:pt x="1130" y="82"/>
                        </a:lnTo>
                        <a:lnTo>
                          <a:pt x="1210" y="60"/>
                        </a:lnTo>
                        <a:lnTo>
                          <a:pt x="1293" y="40"/>
                        </a:lnTo>
                        <a:lnTo>
                          <a:pt x="1380" y="22"/>
                        </a:lnTo>
                        <a:lnTo>
                          <a:pt x="1468" y="12"/>
                        </a:lnTo>
                        <a:lnTo>
                          <a:pt x="1560" y="2"/>
                        </a:lnTo>
                        <a:lnTo>
                          <a:pt x="1653" y="0"/>
                        </a:lnTo>
                        <a:lnTo>
                          <a:pt x="1750" y="2"/>
                        </a:lnTo>
                        <a:lnTo>
                          <a:pt x="1848" y="10"/>
                        </a:lnTo>
                        <a:lnTo>
                          <a:pt x="1950" y="22"/>
                        </a:lnTo>
                        <a:lnTo>
                          <a:pt x="2053" y="40"/>
                        </a:lnTo>
                        <a:lnTo>
                          <a:pt x="2160" y="67"/>
                        </a:lnTo>
                        <a:lnTo>
                          <a:pt x="2268" y="100"/>
                        </a:lnTo>
                        <a:lnTo>
                          <a:pt x="2375" y="140"/>
                        </a:lnTo>
                        <a:lnTo>
                          <a:pt x="2488" y="190"/>
                        </a:lnTo>
                        <a:lnTo>
                          <a:pt x="2600" y="245"/>
                        </a:lnTo>
                        <a:lnTo>
                          <a:pt x="2718" y="310"/>
                        </a:lnTo>
                        <a:lnTo>
                          <a:pt x="2835" y="3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452680" y="3098880"/>
                    <a:ext cx="103500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93" h="4130">
                        <a:moveTo>
                          <a:pt x="3558" y="1815"/>
                        </a:moveTo>
                        <a:lnTo>
                          <a:pt x="3428" y="2028"/>
                        </a:lnTo>
                        <a:lnTo>
                          <a:pt x="3428" y="2168"/>
                        </a:lnTo>
                        <a:lnTo>
                          <a:pt x="3693" y="2688"/>
                        </a:lnTo>
                        <a:lnTo>
                          <a:pt x="3605" y="2793"/>
                        </a:lnTo>
                        <a:lnTo>
                          <a:pt x="3368" y="2830"/>
                        </a:lnTo>
                        <a:lnTo>
                          <a:pt x="3380" y="3005"/>
                        </a:lnTo>
                        <a:lnTo>
                          <a:pt x="3290" y="3135"/>
                        </a:lnTo>
                        <a:lnTo>
                          <a:pt x="3275" y="3195"/>
                        </a:lnTo>
                        <a:lnTo>
                          <a:pt x="3265" y="3313"/>
                        </a:lnTo>
                        <a:lnTo>
                          <a:pt x="3083" y="3418"/>
                        </a:lnTo>
                        <a:lnTo>
                          <a:pt x="3068" y="3523"/>
                        </a:lnTo>
                        <a:lnTo>
                          <a:pt x="3153" y="3675"/>
                        </a:lnTo>
                        <a:lnTo>
                          <a:pt x="3160" y="3780"/>
                        </a:lnTo>
                        <a:lnTo>
                          <a:pt x="3068" y="3903"/>
                        </a:lnTo>
                        <a:lnTo>
                          <a:pt x="2230" y="3913"/>
                        </a:lnTo>
                        <a:lnTo>
                          <a:pt x="2045" y="4130"/>
                        </a:lnTo>
                        <a:lnTo>
                          <a:pt x="1440" y="3578"/>
                        </a:lnTo>
                        <a:lnTo>
                          <a:pt x="865" y="3130"/>
                        </a:lnTo>
                        <a:lnTo>
                          <a:pt x="525" y="2973"/>
                        </a:lnTo>
                        <a:lnTo>
                          <a:pt x="278" y="2915"/>
                        </a:lnTo>
                        <a:lnTo>
                          <a:pt x="250" y="2808"/>
                        </a:lnTo>
                        <a:lnTo>
                          <a:pt x="225" y="2695"/>
                        </a:lnTo>
                        <a:lnTo>
                          <a:pt x="205" y="2575"/>
                        </a:lnTo>
                        <a:lnTo>
                          <a:pt x="188" y="2453"/>
                        </a:lnTo>
                        <a:lnTo>
                          <a:pt x="170" y="2328"/>
                        </a:lnTo>
                        <a:lnTo>
                          <a:pt x="158" y="2203"/>
                        </a:lnTo>
                        <a:lnTo>
                          <a:pt x="140" y="2080"/>
                        </a:lnTo>
                        <a:lnTo>
                          <a:pt x="123" y="1958"/>
                        </a:lnTo>
                        <a:lnTo>
                          <a:pt x="95" y="1880"/>
                        </a:lnTo>
                        <a:lnTo>
                          <a:pt x="70" y="1798"/>
                        </a:lnTo>
                        <a:lnTo>
                          <a:pt x="50" y="1718"/>
                        </a:lnTo>
                        <a:lnTo>
                          <a:pt x="33" y="1638"/>
                        </a:lnTo>
                        <a:lnTo>
                          <a:pt x="18" y="1558"/>
                        </a:lnTo>
                        <a:lnTo>
                          <a:pt x="8" y="1478"/>
                        </a:lnTo>
                        <a:lnTo>
                          <a:pt x="3" y="1398"/>
                        </a:lnTo>
                        <a:lnTo>
                          <a:pt x="0" y="1320"/>
                        </a:lnTo>
                        <a:lnTo>
                          <a:pt x="3" y="1240"/>
                        </a:lnTo>
                        <a:lnTo>
                          <a:pt x="8" y="1163"/>
                        </a:lnTo>
                        <a:lnTo>
                          <a:pt x="18" y="1085"/>
                        </a:lnTo>
                        <a:lnTo>
                          <a:pt x="35" y="1010"/>
                        </a:lnTo>
                        <a:lnTo>
                          <a:pt x="53" y="935"/>
                        </a:lnTo>
                        <a:lnTo>
                          <a:pt x="80" y="865"/>
                        </a:lnTo>
                        <a:lnTo>
                          <a:pt x="108" y="793"/>
                        </a:lnTo>
                        <a:lnTo>
                          <a:pt x="145" y="725"/>
                        </a:lnTo>
                        <a:lnTo>
                          <a:pt x="183" y="658"/>
                        </a:lnTo>
                        <a:lnTo>
                          <a:pt x="230" y="593"/>
                        </a:lnTo>
                        <a:lnTo>
                          <a:pt x="280" y="530"/>
                        </a:lnTo>
                        <a:lnTo>
                          <a:pt x="338" y="470"/>
                        </a:lnTo>
                        <a:lnTo>
                          <a:pt x="400" y="413"/>
                        </a:lnTo>
                        <a:lnTo>
                          <a:pt x="470" y="358"/>
                        </a:lnTo>
                        <a:lnTo>
                          <a:pt x="545" y="308"/>
                        </a:lnTo>
                        <a:lnTo>
                          <a:pt x="625" y="258"/>
                        </a:lnTo>
                        <a:lnTo>
                          <a:pt x="715" y="213"/>
                        </a:lnTo>
                        <a:lnTo>
                          <a:pt x="810" y="173"/>
                        </a:lnTo>
                        <a:lnTo>
                          <a:pt x="913" y="133"/>
                        </a:lnTo>
                        <a:lnTo>
                          <a:pt x="1020" y="100"/>
                        </a:lnTo>
                        <a:lnTo>
                          <a:pt x="1135" y="70"/>
                        </a:lnTo>
                        <a:lnTo>
                          <a:pt x="1258" y="43"/>
                        </a:lnTo>
                        <a:lnTo>
                          <a:pt x="1388" y="20"/>
                        </a:lnTo>
                        <a:lnTo>
                          <a:pt x="1525" y="3"/>
                        </a:lnTo>
                        <a:lnTo>
                          <a:pt x="1553" y="0"/>
                        </a:lnTo>
                        <a:lnTo>
                          <a:pt x="1580" y="0"/>
                        </a:lnTo>
                        <a:lnTo>
                          <a:pt x="1613" y="0"/>
                        </a:lnTo>
                        <a:lnTo>
                          <a:pt x="1648" y="0"/>
                        </a:lnTo>
                        <a:lnTo>
                          <a:pt x="1683" y="3"/>
                        </a:lnTo>
                        <a:lnTo>
                          <a:pt x="1720" y="5"/>
                        </a:lnTo>
                        <a:lnTo>
                          <a:pt x="1758" y="10"/>
                        </a:lnTo>
                        <a:lnTo>
                          <a:pt x="1798" y="13"/>
                        </a:lnTo>
                        <a:lnTo>
                          <a:pt x="1840" y="20"/>
                        </a:lnTo>
                        <a:lnTo>
                          <a:pt x="1883" y="25"/>
                        </a:lnTo>
                        <a:lnTo>
                          <a:pt x="1928" y="33"/>
                        </a:lnTo>
                        <a:lnTo>
                          <a:pt x="1970" y="43"/>
                        </a:lnTo>
                        <a:lnTo>
                          <a:pt x="2015" y="53"/>
                        </a:lnTo>
                        <a:lnTo>
                          <a:pt x="2063" y="63"/>
                        </a:lnTo>
                        <a:lnTo>
                          <a:pt x="2108" y="73"/>
                        </a:lnTo>
                        <a:lnTo>
                          <a:pt x="2155" y="85"/>
                        </a:lnTo>
                        <a:lnTo>
                          <a:pt x="2200" y="98"/>
                        </a:lnTo>
                        <a:lnTo>
                          <a:pt x="2248" y="113"/>
                        </a:lnTo>
                        <a:lnTo>
                          <a:pt x="2293" y="128"/>
                        </a:lnTo>
                        <a:lnTo>
                          <a:pt x="2340" y="143"/>
                        </a:lnTo>
                        <a:lnTo>
                          <a:pt x="2385" y="158"/>
                        </a:lnTo>
                        <a:lnTo>
                          <a:pt x="2430" y="175"/>
                        </a:lnTo>
                        <a:lnTo>
                          <a:pt x="2475" y="195"/>
                        </a:lnTo>
                        <a:lnTo>
                          <a:pt x="2518" y="213"/>
                        </a:lnTo>
                        <a:lnTo>
                          <a:pt x="2560" y="233"/>
                        </a:lnTo>
                        <a:lnTo>
                          <a:pt x="2603" y="253"/>
                        </a:lnTo>
                        <a:lnTo>
                          <a:pt x="2643" y="275"/>
                        </a:lnTo>
                        <a:lnTo>
                          <a:pt x="2680" y="298"/>
                        </a:lnTo>
                        <a:lnTo>
                          <a:pt x="2718" y="318"/>
                        </a:lnTo>
                        <a:lnTo>
                          <a:pt x="2753" y="343"/>
                        </a:lnTo>
                        <a:lnTo>
                          <a:pt x="2785" y="368"/>
                        </a:lnTo>
                        <a:lnTo>
                          <a:pt x="2818" y="393"/>
                        </a:lnTo>
                        <a:lnTo>
                          <a:pt x="2888" y="470"/>
                        </a:lnTo>
                        <a:lnTo>
                          <a:pt x="2953" y="543"/>
                        </a:lnTo>
                        <a:lnTo>
                          <a:pt x="3010" y="608"/>
                        </a:lnTo>
                        <a:lnTo>
                          <a:pt x="3065" y="673"/>
                        </a:lnTo>
                        <a:lnTo>
                          <a:pt x="3115" y="735"/>
                        </a:lnTo>
                        <a:lnTo>
                          <a:pt x="3163" y="798"/>
                        </a:lnTo>
                        <a:lnTo>
                          <a:pt x="3208" y="860"/>
                        </a:lnTo>
                        <a:lnTo>
                          <a:pt x="3248" y="930"/>
                        </a:lnTo>
                        <a:lnTo>
                          <a:pt x="3288" y="1005"/>
                        </a:lnTo>
                        <a:lnTo>
                          <a:pt x="3325" y="1085"/>
                        </a:lnTo>
                        <a:lnTo>
                          <a:pt x="3363" y="1173"/>
                        </a:lnTo>
                        <a:lnTo>
                          <a:pt x="3400" y="1275"/>
                        </a:lnTo>
                        <a:lnTo>
                          <a:pt x="3438" y="1388"/>
                        </a:lnTo>
                        <a:lnTo>
                          <a:pt x="3475" y="1513"/>
                        </a:lnTo>
                        <a:lnTo>
                          <a:pt x="3515" y="1655"/>
                        </a:lnTo>
                        <a:lnTo>
                          <a:pt x="3558" y="181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11360" y="3595680"/>
                    <a:ext cx="414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0">
                        <a:moveTo>
                          <a:pt x="20" y="215"/>
                        </a:moveTo>
                        <a:lnTo>
                          <a:pt x="17" y="220"/>
                        </a:lnTo>
                        <a:lnTo>
                          <a:pt x="145" y="7"/>
                        </a:lnTo>
                        <a:lnTo>
                          <a:pt x="132" y="0"/>
                        </a:lnTo>
                        <a:lnTo>
                          <a:pt x="2" y="210"/>
                        </a:lnTo>
                        <a:lnTo>
                          <a:pt x="0" y="215"/>
                        </a:lnTo>
                        <a:lnTo>
                          <a:pt x="2" y="210"/>
                        </a:lnTo>
                        <a:lnTo>
                          <a:pt x="0" y="212"/>
                        </a:lnTo>
                        <a:lnTo>
                          <a:pt x="0" y="215"/>
                        </a:lnTo>
                        <a:lnTo>
                          <a:pt x="20" y="2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11360" y="3654360"/>
                    <a:ext cx="6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45">
                        <a:moveTo>
                          <a:pt x="17" y="137"/>
                        </a:moveTo>
                        <a:lnTo>
                          <a:pt x="20" y="14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40"/>
                        </a:lnTo>
                        <a:lnTo>
                          <a:pt x="0" y="145"/>
                        </a:lnTo>
                        <a:lnTo>
                          <a:pt x="0" y="140"/>
                        </a:lnTo>
                        <a:lnTo>
                          <a:pt x="0" y="142"/>
                        </a:lnTo>
                        <a:lnTo>
                          <a:pt x="0" y="145"/>
                        </a:lnTo>
                        <a:lnTo>
                          <a:pt x="17" y="137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411360" y="3692520"/>
                    <a:ext cx="795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528">
                        <a:moveTo>
                          <a:pt x="282" y="528"/>
                        </a:moveTo>
                        <a:lnTo>
                          <a:pt x="282" y="518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265" y="525"/>
                        </a:lnTo>
                        <a:lnTo>
                          <a:pt x="267" y="515"/>
                        </a:lnTo>
                        <a:lnTo>
                          <a:pt x="282" y="528"/>
                        </a:lnTo>
                        <a:lnTo>
                          <a:pt x="285" y="523"/>
                        </a:lnTo>
                        <a:lnTo>
                          <a:pt x="282" y="518"/>
                        </a:lnTo>
                        <a:lnTo>
                          <a:pt x="282" y="52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60680" y="3832200"/>
                    <a:ext cx="28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0">
                        <a:moveTo>
                          <a:pt x="7" y="120"/>
                        </a:moveTo>
                        <a:lnTo>
                          <a:pt x="12" y="118"/>
                        </a:lnTo>
                        <a:lnTo>
                          <a:pt x="102" y="13"/>
                        </a:lnTo>
                        <a:lnTo>
                          <a:pt x="87" y="0"/>
                        </a:lnTo>
                        <a:lnTo>
                          <a:pt x="0" y="108"/>
                        </a:lnTo>
                        <a:lnTo>
                          <a:pt x="5" y="103"/>
                        </a:lnTo>
                        <a:lnTo>
                          <a:pt x="7" y="120"/>
                        </a:lnTo>
                        <a:lnTo>
                          <a:pt x="10" y="120"/>
                        </a:lnTo>
                        <a:lnTo>
                          <a:pt x="12" y="118"/>
                        </a:lnTo>
                        <a:lnTo>
                          <a:pt x="7" y="12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94080" y="3860640"/>
                    <a:ext cx="698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57">
                        <a:moveTo>
                          <a:pt x="20" y="47"/>
                        </a:moveTo>
                        <a:lnTo>
                          <a:pt x="12" y="57"/>
                        </a:lnTo>
                        <a:lnTo>
                          <a:pt x="247" y="17"/>
                        </a:lnTo>
                        <a:lnTo>
                          <a:pt x="245" y="0"/>
                        </a:lnTo>
                        <a:lnTo>
                          <a:pt x="10" y="40"/>
                        </a:lnTo>
                        <a:lnTo>
                          <a:pt x="2" y="47"/>
                        </a:lnTo>
                        <a:lnTo>
                          <a:pt x="10" y="40"/>
                        </a:lnTo>
                        <a:lnTo>
                          <a:pt x="0" y="40"/>
                        </a:lnTo>
                        <a:lnTo>
                          <a:pt x="2" y="47"/>
                        </a:lnTo>
                        <a:lnTo>
                          <a:pt x="20" y="47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394080" y="3873600"/>
                    <a:ext cx="79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0">
                        <a:moveTo>
                          <a:pt x="28" y="180"/>
                        </a:moveTo>
                        <a:lnTo>
                          <a:pt x="30" y="175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3" y="175"/>
                        </a:lnTo>
                        <a:lnTo>
                          <a:pt x="13" y="170"/>
                        </a:lnTo>
                        <a:lnTo>
                          <a:pt x="28" y="180"/>
                        </a:lnTo>
                        <a:lnTo>
                          <a:pt x="30" y="178"/>
                        </a:lnTo>
                        <a:lnTo>
                          <a:pt x="30" y="175"/>
                        </a:lnTo>
                        <a:lnTo>
                          <a:pt x="28" y="18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373560" y="3921120"/>
                    <a:ext cx="29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40">
                        <a:moveTo>
                          <a:pt x="15" y="135"/>
                        </a:moveTo>
                        <a:lnTo>
                          <a:pt x="15" y="140"/>
                        </a:lnTo>
                        <a:lnTo>
                          <a:pt x="105" y="10"/>
                        </a:lnTo>
                        <a:lnTo>
                          <a:pt x="90" y="0"/>
                        </a:lnTo>
                        <a:lnTo>
                          <a:pt x="0" y="130"/>
                        </a:lnTo>
                        <a:lnTo>
                          <a:pt x="0" y="133"/>
                        </a:lnTo>
                        <a:lnTo>
                          <a:pt x="0" y="130"/>
                        </a:lnTo>
                        <a:lnTo>
                          <a:pt x="0" y="133"/>
                        </a:lnTo>
                        <a:lnTo>
                          <a:pt x="15" y="13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368520" y="3956040"/>
                    <a:ext cx="9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65">
                        <a:moveTo>
                          <a:pt x="18" y="62"/>
                        </a:moveTo>
                        <a:lnTo>
                          <a:pt x="18" y="65"/>
                        </a:lnTo>
                        <a:lnTo>
                          <a:pt x="33" y="2"/>
                        </a:lnTo>
                        <a:lnTo>
                          <a:pt x="18" y="0"/>
                        </a:lnTo>
                        <a:lnTo>
                          <a:pt x="0" y="60"/>
                        </a:lnTo>
                        <a:lnTo>
                          <a:pt x="0" y="62"/>
                        </a:lnTo>
                        <a:lnTo>
                          <a:pt x="0" y="60"/>
                        </a:lnTo>
                        <a:lnTo>
                          <a:pt x="0" y="62"/>
                        </a:lnTo>
                        <a:lnTo>
                          <a:pt x="18" y="62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365640" y="3973680"/>
                    <a:ext cx="7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8">
                        <a:moveTo>
                          <a:pt x="12" y="128"/>
                        </a:moveTo>
                        <a:lnTo>
                          <a:pt x="17" y="118"/>
                        </a:lnTo>
                        <a:lnTo>
                          <a:pt x="25" y="0"/>
                        </a:lnTo>
                        <a:lnTo>
                          <a:pt x="7" y="0"/>
                        </a:lnTo>
                        <a:lnTo>
                          <a:pt x="0" y="118"/>
                        </a:lnTo>
                        <a:lnTo>
                          <a:pt x="2" y="110"/>
                        </a:lnTo>
                        <a:lnTo>
                          <a:pt x="12" y="128"/>
                        </a:lnTo>
                        <a:lnTo>
                          <a:pt x="17" y="125"/>
                        </a:lnTo>
                        <a:lnTo>
                          <a:pt x="17" y="118"/>
                        </a:lnTo>
                        <a:lnTo>
                          <a:pt x="12" y="12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314880" y="4003560"/>
                    <a:ext cx="53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3">
                        <a:moveTo>
                          <a:pt x="18" y="115"/>
                        </a:moveTo>
                        <a:lnTo>
                          <a:pt x="13" y="123"/>
                        </a:lnTo>
                        <a:lnTo>
                          <a:pt x="195" y="18"/>
                        </a:lnTo>
                        <a:lnTo>
                          <a:pt x="185" y="0"/>
                        </a:lnTo>
                        <a:lnTo>
                          <a:pt x="3" y="105"/>
                        </a:lnTo>
                        <a:lnTo>
                          <a:pt x="0" y="113"/>
                        </a:lnTo>
                        <a:lnTo>
                          <a:pt x="3" y="105"/>
                        </a:lnTo>
                        <a:lnTo>
                          <a:pt x="0" y="108"/>
                        </a:lnTo>
                        <a:lnTo>
                          <a:pt x="0" y="113"/>
                        </a:lnTo>
                        <a:lnTo>
                          <a:pt x="18" y="1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309840" y="4035600"/>
                    <a:ext cx="97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17" y="102"/>
                        </a:moveTo>
                        <a:lnTo>
                          <a:pt x="17" y="107"/>
                        </a:lnTo>
                        <a:lnTo>
                          <a:pt x="35" y="2"/>
                        </a:lnTo>
                        <a:lnTo>
                          <a:pt x="17" y="0"/>
                        </a:lnTo>
                        <a:lnTo>
                          <a:pt x="0" y="105"/>
                        </a:lnTo>
                        <a:lnTo>
                          <a:pt x="0" y="110"/>
                        </a:lnTo>
                        <a:lnTo>
                          <a:pt x="0" y="105"/>
                        </a:lnTo>
                        <a:lnTo>
                          <a:pt x="0" y="107"/>
                        </a:lnTo>
                        <a:lnTo>
                          <a:pt x="0" y="110"/>
                        </a:lnTo>
                        <a:lnTo>
                          <a:pt x="17" y="102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309840" y="4062240"/>
                    <a:ext cx="28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60">
                        <a:moveTo>
                          <a:pt x="102" y="155"/>
                        </a:moveTo>
                        <a:lnTo>
                          <a:pt x="102" y="15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85" y="160"/>
                        </a:lnTo>
                        <a:lnTo>
                          <a:pt x="85" y="155"/>
                        </a:lnTo>
                        <a:lnTo>
                          <a:pt x="102" y="155"/>
                        </a:lnTo>
                        <a:lnTo>
                          <a:pt x="102" y="153"/>
                        </a:lnTo>
                        <a:lnTo>
                          <a:pt x="102" y="150"/>
                        </a:lnTo>
                        <a:lnTo>
                          <a:pt x="102" y="15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333600" y="4105440"/>
                    <a:ext cx="79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10">
                        <a:moveTo>
                          <a:pt x="25" y="110"/>
                        </a:moveTo>
                        <a:lnTo>
                          <a:pt x="27" y="10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10" y="105"/>
                        </a:lnTo>
                        <a:lnTo>
                          <a:pt x="10" y="100"/>
                        </a:lnTo>
                        <a:lnTo>
                          <a:pt x="25" y="110"/>
                        </a:lnTo>
                        <a:lnTo>
                          <a:pt x="27" y="108"/>
                        </a:lnTo>
                        <a:lnTo>
                          <a:pt x="27" y="105"/>
                        </a:lnTo>
                        <a:lnTo>
                          <a:pt x="25" y="11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309840" y="413244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38">
                        <a:moveTo>
                          <a:pt x="8" y="138"/>
                        </a:moveTo>
                        <a:lnTo>
                          <a:pt x="15" y="135"/>
                        </a:lnTo>
                        <a:lnTo>
                          <a:pt x="108" y="10"/>
                        </a:lnTo>
                        <a:lnTo>
                          <a:pt x="93" y="0"/>
                        </a:lnTo>
                        <a:lnTo>
                          <a:pt x="0" y="123"/>
                        </a:lnTo>
                        <a:lnTo>
                          <a:pt x="8" y="118"/>
                        </a:lnTo>
                        <a:lnTo>
                          <a:pt x="8" y="138"/>
                        </a:lnTo>
                        <a:lnTo>
                          <a:pt x="10" y="138"/>
                        </a:lnTo>
                        <a:lnTo>
                          <a:pt x="15" y="135"/>
                        </a:lnTo>
                        <a:lnTo>
                          <a:pt x="8" y="13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076560" y="4165560"/>
                    <a:ext cx="236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30">
                        <a:moveTo>
                          <a:pt x="15" y="25"/>
                        </a:moveTo>
                        <a:lnTo>
                          <a:pt x="7" y="30"/>
                        </a:lnTo>
                        <a:lnTo>
                          <a:pt x="845" y="20"/>
                        </a:lnTo>
                        <a:lnTo>
                          <a:pt x="845" y="0"/>
                        </a:lnTo>
                        <a:lnTo>
                          <a:pt x="7" y="10"/>
                        </a:lnTo>
                        <a:lnTo>
                          <a:pt x="0" y="15"/>
                        </a:lnTo>
                        <a:lnTo>
                          <a:pt x="7" y="10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15" y="2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024360" y="4168800"/>
                    <a:ext cx="55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37">
                        <a:moveTo>
                          <a:pt x="2" y="230"/>
                        </a:moveTo>
                        <a:lnTo>
                          <a:pt x="15" y="230"/>
                        </a:lnTo>
                        <a:lnTo>
                          <a:pt x="200" y="10"/>
                        </a:lnTo>
                        <a:lnTo>
                          <a:pt x="185" y="0"/>
                        </a:lnTo>
                        <a:lnTo>
                          <a:pt x="0" y="217"/>
                        </a:lnTo>
                        <a:lnTo>
                          <a:pt x="15" y="217"/>
                        </a:lnTo>
                        <a:lnTo>
                          <a:pt x="2" y="230"/>
                        </a:lnTo>
                        <a:lnTo>
                          <a:pt x="7" y="237"/>
                        </a:lnTo>
                        <a:lnTo>
                          <a:pt x="15" y="230"/>
                        </a:lnTo>
                        <a:lnTo>
                          <a:pt x="2" y="23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855880" y="4076640"/>
                    <a:ext cx="1731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568">
                        <a:moveTo>
                          <a:pt x="0" y="15"/>
                        </a:moveTo>
                        <a:lnTo>
                          <a:pt x="605" y="568"/>
                        </a:lnTo>
                        <a:lnTo>
                          <a:pt x="618" y="555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693880" y="3952800"/>
                    <a:ext cx="1652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465">
                        <a:moveTo>
                          <a:pt x="2" y="18"/>
                        </a:moveTo>
                        <a:lnTo>
                          <a:pt x="0" y="15"/>
                        </a:lnTo>
                        <a:lnTo>
                          <a:pt x="577" y="465"/>
                        </a:lnTo>
                        <a:lnTo>
                          <a:pt x="590" y="450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598840" y="3909960"/>
                    <a:ext cx="96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173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340" y="173"/>
                        </a:lnTo>
                        <a:lnTo>
                          <a:pt x="348" y="155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529000" y="3895560"/>
                    <a:ext cx="71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75">
                        <a:moveTo>
                          <a:pt x="0" y="10"/>
                        </a:moveTo>
                        <a:lnTo>
                          <a:pt x="8" y="17"/>
                        </a:lnTo>
                        <a:lnTo>
                          <a:pt x="253" y="75"/>
                        </a:lnTo>
                        <a:lnTo>
                          <a:pt x="255" y="57"/>
                        </a:lnTo>
                        <a:lnTo>
                          <a:pt x="10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8" y="17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484360" y="3633840"/>
                    <a:ext cx="493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63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20" y="125"/>
                        </a:lnTo>
                        <a:lnTo>
                          <a:pt x="35" y="248"/>
                        </a:lnTo>
                        <a:lnTo>
                          <a:pt x="50" y="373"/>
                        </a:lnTo>
                        <a:lnTo>
                          <a:pt x="65" y="498"/>
                        </a:lnTo>
                        <a:lnTo>
                          <a:pt x="82" y="620"/>
                        </a:lnTo>
                        <a:lnTo>
                          <a:pt x="102" y="740"/>
                        </a:lnTo>
                        <a:lnTo>
                          <a:pt x="127" y="855"/>
                        </a:lnTo>
                        <a:lnTo>
                          <a:pt x="157" y="963"/>
                        </a:lnTo>
                        <a:lnTo>
                          <a:pt x="175" y="958"/>
                        </a:lnTo>
                        <a:lnTo>
                          <a:pt x="145" y="853"/>
                        </a:lnTo>
                        <a:lnTo>
                          <a:pt x="120" y="738"/>
                        </a:lnTo>
                        <a:lnTo>
                          <a:pt x="100" y="618"/>
                        </a:lnTo>
                        <a:lnTo>
                          <a:pt x="82" y="498"/>
                        </a:lnTo>
                        <a:lnTo>
                          <a:pt x="67" y="373"/>
                        </a:lnTo>
                        <a:lnTo>
                          <a:pt x="52" y="248"/>
                        </a:lnTo>
                        <a:lnTo>
                          <a:pt x="37" y="125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449440" y="3097080"/>
                    <a:ext cx="4302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968">
                        <a:moveTo>
                          <a:pt x="1535" y="0"/>
                        </a:moveTo>
                        <a:lnTo>
                          <a:pt x="1398" y="18"/>
                        </a:lnTo>
                        <a:lnTo>
                          <a:pt x="1265" y="38"/>
                        </a:lnTo>
                        <a:lnTo>
                          <a:pt x="1143" y="65"/>
                        </a:lnTo>
                        <a:lnTo>
                          <a:pt x="1028" y="95"/>
                        </a:lnTo>
                        <a:lnTo>
                          <a:pt x="918" y="130"/>
                        </a:lnTo>
                        <a:lnTo>
                          <a:pt x="815" y="168"/>
                        </a:lnTo>
                        <a:lnTo>
                          <a:pt x="720" y="210"/>
                        </a:lnTo>
                        <a:lnTo>
                          <a:pt x="633" y="255"/>
                        </a:lnTo>
                        <a:lnTo>
                          <a:pt x="553" y="305"/>
                        </a:lnTo>
                        <a:lnTo>
                          <a:pt x="473" y="358"/>
                        </a:lnTo>
                        <a:lnTo>
                          <a:pt x="405" y="410"/>
                        </a:lnTo>
                        <a:lnTo>
                          <a:pt x="343" y="470"/>
                        </a:lnTo>
                        <a:lnTo>
                          <a:pt x="283" y="530"/>
                        </a:lnTo>
                        <a:lnTo>
                          <a:pt x="233" y="590"/>
                        </a:lnTo>
                        <a:lnTo>
                          <a:pt x="185" y="658"/>
                        </a:lnTo>
                        <a:lnTo>
                          <a:pt x="145" y="725"/>
                        </a:lnTo>
                        <a:lnTo>
                          <a:pt x="110" y="795"/>
                        </a:lnTo>
                        <a:lnTo>
                          <a:pt x="80" y="865"/>
                        </a:lnTo>
                        <a:lnTo>
                          <a:pt x="55" y="938"/>
                        </a:lnTo>
                        <a:lnTo>
                          <a:pt x="35" y="1015"/>
                        </a:lnTo>
                        <a:lnTo>
                          <a:pt x="20" y="1090"/>
                        </a:lnTo>
                        <a:lnTo>
                          <a:pt x="10" y="1168"/>
                        </a:lnTo>
                        <a:lnTo>
                          <a:pt x="3" y="1245"/>
                        </a:lnTo>
                        <a:lnTo>
                          <a:pt x="0" y="1325"/>
                        </a:lnTo>
                        <a:lnTo>
                          <a:pt x="5" y="1403"/>
                        </a:lnTo>
                        <a:lnTo>
                          <a:pt x="10" y="1483"/>
                        </a:lnTo>
                        <a:lnTo>
                          <a:pt x="20" y="1565"/>
                        </a:lnTo>
                        <a:lnTo>
                          <a:pt x="35" y="1643"/>
                        </a:lnTo>
                        <a:lnTo>
                          <a:pt x="53" y="1725"/>
                        </a:lnTo>
                        <a:lnTo>
                          <a:pt x="73" y="1805"/>
                        </a:lnTo>
                        <a:lnTo>
                          <a:pt x="95" y="1888"/>
                        </a:lnTo>
                        <a:lnTo>
                          <a:pt x="123" y="1968"/>
                        </a:lnTo>
                        <a:lnTo>
                          <a:pt x="140" y="1960"/>
                        </a:lnTo>
                        <a:lnTo>
                          <a:pt x="113" y="1883"/>
                        </a:lnTo>
                        <a:lnTo>
                          <a:pt x="90" y="1803"/>
                        </a:lnTo>
                        <a:lnTo>
                          <a:pt x="70" y="1723"/>
                        </a:lnTo>
                        <a:lnTo>
                          <a:pt x="53" y="1640"/>
                        </a:lnTo>
                        <a:lnTo>
                          <a:pt x="38" y="1563"/>
                        </a:lnTo>
                        <a:lnTo>
                          <a:pt x="28" y="1483"/>
                        </a:lnTo>
                        <a:lnTo>
                          <a:pt x="23" y="1403"/>
                        </a:lnTo>
                        <a:lnTo>
                          <a:pt x="20" y="1325"/>
                        </a:lnTo>
                        <a:lnTo>
                          <a:pt x="20" y="1245"/>
                        </a:lnTo>
                        <a:lnTo>
                          <a:pt x="28" y="1168"/>
                        </a:lnTo>
                        <a:lnTo>
                          <a:pt x="38" y="1093"/>
                        </a:lnTo>
                        <a:lnTo>
                          <a:pt x="53" y="1018"/>
                        </a:lnTo>
                        <a:lnTo>
                          <a:pt x="73" y="945"/>
                        </a:lnTo>
                        <a:lnTo>
                          <a:pt x="98" y="873"/>
                        </a:lnTo>
                        <a:lnTo>
                          <a:pt x="128" y="803"/>
                        </a:lnTo>
                        <a:lnTo>
                          <a:pt x="163" y="735"/>
                        </a:lnTo>
                        <a:lnTo>
                          <a:pt x="200" y="665"/>
                        </a:lnTo>
                        <a:lnTo>
                          <a:pt x="245" y="603"/>
                        </a:lnTo>
                        <a:lnTo>
                          <a:pt x="298" y="540"/>
                        </a:lnTo>
                        <a:lnTo>
                          <a:pt x="355" y="480"/>
                        </a:lnTo>
                        <a:lnTo>
                          <a:pt x="415" y="425"/>
                        </a:lnTo>
                        <a:lnTo>
                          <a:pt x="485" y="370"/>
                        </a:lnTo>
                        <a:lnTo>
                          <a:pt x="560" y="320"/>
                        </a:lnTo>
                        <a:lnTo>
                          <a:pt x="640" y="273"/>
                        </a:lnTo>
                        <a:lnTo>
                          <a:pt x="728" y="228"/>
                        </a:lnTo>
                        <a:lnTo>
                          <a:pt x="823" y="185"/>
                        </a:lnTo>
                        <a:lnTo>
                          <a:pt x="925" y="148"/>
                        </a:lnTo>
                        <a:lnTo>
                          <a:pt x="1030" y="113"/>
                        </a:lnTo>
                        <a:lnTo>
                          <a:pt x="1145" y="83"/>
                        </a:lnTo>
                        <a:lnTo>
                          <a:pt x="1268" y="55"/>
                        </a:lnTo>
                        <a:lnTo>
                          <a:pt x="1398" y="35"/>
                        </a:lnTo>
                        <a:lnTo>
                          <a:pt x="1535" y="18"/>
                        </a:lnTo>
                        <a:lnTo>
                          <a:pt x="1535" y="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79640" y="3095640"/>
                    <a:ext cx="3636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8" h="410">
                        <a:moveTo>
                          <a:pt x="1298" y="395"/>
                        </a:moveTo>
                        <a:lnTo>
                          <a:pt x="1265" y="370"/>
                        </a:lnTo>
                        <a:lnTo>
                          <a:pt x="1233" y="345"/>
                        </a:lnTo>
                        <a:lnTo>
                          <a:pt x="1198" y="320"/>
                        </a:lnTo>
                        <a:lnTo>
                          <a:pt x="1160" y="300"/>
                        </a:lnTo>
                        <a:lnTo>
                          <a:pt x="1123" y="275"/>
                        </a:lnTo>
                        <a:lnTo>
                          <a:pt x="1080" y="255"/>
                        </a:lnTo>
                        <a:lnTo>
                          <a:pt x="1040" y="233"/>
                        </a:lnTo>
                        <a:lnTo>
                          <a:pt x="995" y="215"/>
                        </a:lnTo>
                        <a:lnTo>
                          <a:pt x="953" y="195"/>
                        </a:lnTo>
                        <a:lnTo>
                          <a:pt x="908" y="178"/>
                        </a:lnTo>
                        <a:lnTo>
                          <a:pt x="863" y="160"/>
                        </a:lnTo>
                        <a:lnTo>
                          <a:pt x="818" y="145"/>
                        </a:lnTo>
                        <a:lnTo>
                          <a:pt x="773" y="128"/>
                        </a:lnTo>
                        <a:lnTo>
                          <a:pt x="725" y="115"/>
                        </a:lnTo>
                        <a:lnTo>
                          <a:pt x="678" y="100"/>
                        </a:lnTo>
                        <a:lnTo>
                          <a:pt x="630" y="88"/>
                        </a:lnTo>
                        <a:lnTo>
                          <a:pt x="585" y="75"/>
                        </a:lnTo>
                        <a:lnTo>
                          <a:pt x="538" y="63"/>
                        </a:lnTo>
                        <a:lnTo>
                          <a:pt x="493" y="53"/>
                        </a:lnTo>
                        <a:lnTo>
                          <a:pt x="445" y="43"/>
                        </a:lnTo>
                        <a:lnTo>
                          <a:pt x="403" y="35"/>
                        </a:lnTo>
                        <a:lnTo>
                          <a:pt x="358" y="28"/>
                        </a:lnTo>
                        <a:lnTo>
                          <a:pt x="318" y="20"/>
                        </a:lnTo>
                        <a:lnTo>
                          <a:pt x="273" y="15"/>
                        </a:lnTo>
                        <a:lnTo>
                          <a:pt x="233" y="10"/>
                        </a:lnTo>
                        <a:lnTo>
                          <a:pt x="195" y="5"/>
                        </a:lnTo>
                        <a:lnTo>
                          <a:pt x="158" y="3"/>
                        </a:lnTo>
                        <a:lnTo>
                          <a:pt x="123" y="0"/>
                        </a:lnTo>
                        <a:lnTo>
                          <a:pt x="88" y="0"/>
                        </a:lnTo>
                        <a:lnTo>
                          <a:pt x="55" y="0"/>
                        </a:lnTo>
                        <a:lnTo>
                          <a:pt x="28" y="3"/>
                        </a:lnTo>
                        <a:lnTo>
                          <a:pt x="0" y="5"/>
                        </a:lnTo>
                        <a:lnTo>
                          <a:pt x="0" y="23"/>
                        </a:lnTo>
                        <a:lnTo>
                          <a:pt x="28" y="20"/>
                        </a:lnTo>
                        <a:lnTo>
                          <a:pt x="55" y="20"/>
                        </a:lnTo>
                        <a:lnTo>
                          <a:pt x="88" y="20"/>
                        </a:lnTo>
                        <a:lnTo>
                          <a:pt x="123" y="20"/>
                        </a:lnTo>
                        <a:lnTo>
                          <a:pt x="158" y="20"/>
                        </a:lnTo>
                        <a:lnTo>
                          <a:pt x="195" y="23"/>
                        </a:lnTo>
                        <a:lnTo>
                          <a:pt x="233" y="28"/>
                        </a:lnTo>
                        <a:lnTo>
                          <a:pt x="273" y="33"/>
                        </a:lnTo>
                        <a:lnTo>
                          <a:pt x="313" y="38"/>
                        </a:lnTo>
                        <a:lnTo>
                          <a:pt x="355" y="45"/>
                        </a:lnTo>
                        <a:lnTo>
                          <a:pt x="400" y="53"/>
                        </a:lnTo>
                        <a:lnTo>
                          <a:pt x="443" y="60"/>
                        </a:lnTo>
                        <a:lnTo>
                          <a:pt x="490" y="70"/>
                        </a:lnTo>
                        <a:lnTo>
                          <a:pt x="535" y="80"/>
                        </a:lnTo>
                        <a:lnTo>
                          <a:pt x="583" y="93"/>
                        </a:lnTo>
                        <a:lnTo>
                          <a:pt x="628" y="105"/>
                        </a:lnTo>
                        <a:lnTo>
                          <a:pt x="673" y="118"/>
                        </a:lnTo>
                        <a:lnTo>
                          <a:pt x="720" y="130"/>
                        </a:lnTo>
                        <a:lnTo>
                          <a:pt x="765" y="145"/>
                        </a:lnTo>
                        <a:lnTo>
                          <a:pt x="813" y="163"/>
                        </a:lnTo>
                        <a:lnTo>
                          <a:pt x="858" y="178"/>
                        </a:lnTo>
                        <a:lnTo>
                          <a:pt x="903" y="195"/>
                        </a:lnTo>
                        <a:lnTo>
                          <a:pt x="948" y="213"/>
                        </a:lnTo>
                        <a:lnTo>
                          <a:pt x="990" y="233"/>
                        </a:lnTo>
                        <a:lnTo>
                          <a:pt x="1030" y="250"/>
                        </a:lnTo>
                        <a:lnTo>
                          <a:pt x="1073" y="273"/>
                        </a:lnTo>
                        <a:lnTo>
                          <a:pt x="1113" y="293"/>
                        </a:lnTo>
                        <a:lnTo>
                          <a:pt x="1150" y="315"/>
                        </a:lnTo>
                        <a:lnTo>
                          <a:pt x="1188" y="335"/>
                        </a:lnTo>
                        <a:lnTo>
                          <a:pt x="1220" y="360"/>
                        </a:lnTo>
                        <a:lnTo>
                          <a:pt x="1255" y="385"/>
                        </a:lnTo>
                        <a:lnTo>
                          <a:pt x="1285" y="410"/>
                        </a:lnTo>
                        <a:lnTo>
                          <a:pt x="1285" y="408"/>
                        </a:lnTo>
                        <a:lnTo>
                          <a:pt x="1298" y="39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240000" y="3203640"/>
                    <a:ext cx="21276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435">
                        <a:moveTo>
                          <a:pt x="753" y="1435"/>
                        </a:moveTo>
                        <a:lnTo>
                          <a:pt x="755" y="1430"/>
                        </a:lnTo>
                        <a:lnTo>
                          <a:pt x="713" y="1270"/>
                        </a:lnTo>
                        <a:lnTo>
                          <a:pt x="673" y="1128"/>
                        </a:lnTo>
                        <a:lnTo>
                          <a:pt x="635" y="1000"/>
                        </a:lnTo>
                        <a:lnTo>
                          <a:pt x="598" y="888"/>
                        </a:lnTo>
                        <a:lnTo>
                          <a:pt x="560" y="785"/>
                        </a:lnTo>
                        <a:lnTo>
                          <a:pt x="523" y="698"/>
                        </a:lnTo>
                        <a:lnTo>
                          <a:pt x="485" y="615"/>
                        </a:lnTo>
                        <a:lnTo>
                          <a:pt x="445" y="540"/>
                        </a:lnTo>
                        <a:lnTo>
                          <a:pt x="403" y="473"/>
                        </a:lnTo>
                        <a:lnTo>
                          <a:pt x="360" y="405"/>
                        </a:lnTo>
                        <a:lnTo>
                          <a:pt x="313" y="345"/>
                        </a:lnTo>
                        <a:lnTo>
                          <a:pt x="263" y="283"/>
                        </a:lnTo>
                        <a:lnTo>
                          <a:pt x="208" y="218"/>
                        </a:lnTo>
                        <a:lnTo>
                          <a:pt x="150" y="150"/>
                        </a:lnTo>
                        <a:lnTo>
                          <a:pt x="85" y="80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70" y="90"/>
                        </a:lnTo>
                        <a:lnTo>
                          <a:pt x="135" y="163"/>
                        </a:lnTo>
                        <a:lnTo>
                          <a:pt x="193" y="228"/>
                        </a:lnTo>
                        <a:lnTo>
                          <a:pt x="248" y="293"/>
                        </a:lnTo>
                        <a:lnTo>
                          <a:pt x="298" y="355"/>
                        </a:lnTo>
                        <a:lnTo>
                          <a:pt x="345" y="418"/>
                        </a:lnTo>
                        <a:lnTo>
                          <a:pt x="390" y="480"/>
                        </a:lnTo>
                        <a:lnTo>
                          <a:pt x="428" y="548"/>
                        </a:lnTo>
                        <a:lnTo>
                          <a:pt x="468" y="623"/>
                        </a:lnTo>
                        <a:lnTo>
                          <a:pt x="505" y="703"/>
                        </a:lnTo>
                        <a:lnTo>
                          <a:pt x="543" y="793"/>
                        </a:lnTo>
                        <a:lnTo>
                          <a:pt x="580" y="893"/>
                        </a:lnTo>
                        <a:lnTo>
                          <a:pt x="618" y="1005"/>
                        </a:lnTo>
                        <a:lnTo>
                          <a:pt x="655" y="1130"/>
                        </a:lnTo>
                        <a:lnTo>
                          <a:pt x="695" y="1273"/>
                        </a:lnTo>
                        <a:lnTo>
                          <a:pt x="738" y="1433"/>
                        </a:lnTo>
                        <a:lnTo>
                          <a:pt x="740" y="1428"/>
                        </a:lnTo>
                        <a:lnTo>
                          <a:pt x="753" y="1435"/>
                        </a:lnTo>
                        <a:lnTo>
                          <a:pt x="758" y="1433"/>
                        </a:lnTo>
                        <a:lnTo>
                          <a:pt x="755" y="1430"/>
                        </a:lnTo>
                        <a:lnTo>
                          <a:pt x="753" y="143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232080" y="3614760"/>
                    <a:ext cx="179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570">
                        <a:moveTo>
                          <a:pt x="447" y="170"/>
                        </a:moveTo>
                        <a:lnTo>
                          <a:pt x="637" y="20"/>
                        </a:lnTo>
                        <a:lnTo>
                          <a:pt x="470" y="0"/>
                        </a:lnTo>
                        <a:lnTo>
                          <a:pt x="385" y="47"/>
                        </a:lnTo>
                        <a:lnTo>
                          <a:pt x="150" y="127"/>
                        </a:lnTo>
                        <a:lnTo>
                          <a:pt x="0" y="295"/>
                        </a:lnTo>
                        <a:lnTo>
                          <a:pt x="150" y="170"/>
                        </a:lnTo>
                        <a:lnTo>
                          <a:pt x="312" y="197"/>
                        </a:lnTo>
                        <a:lnTo>
                          <a:pt x="370" y="197"/>
                        </a:lnTo>
                        <a:lnTo>
                          <a:pt x="365" y="247"/>
                        </a:lnTo>
                        <a:lnTo>
                          <a:pt x="265" y="320"/>
                        </a:lnTo>
                        <a:lnTo>
                          <a:pt x="107" y="320"/>
                        </a:lnTo>
                        <a:lnTo>
                          <a:pt x="107" y="385"/>
                        </a:lnTo>
                        <a:lnTo>
                          <a:pt x="187" y="385"/>
                        </a:lnTo>
                        <a:lnTo>
                          <a:pt x="265" y="347"/>
                        </a:lnTo>
                        <a:lnTo>
                          <a:pt x="287" y="410"/>
                        </a:lnTo>
                        <a:lnTo>
                          <a:pt x="402" y="357"/>
                        </a:lnTo>
                        <a:lnTo>
                          <a:pt x="287" y="570"/>
                        </a:lnTo>
                        <a:lnTo>
                          <a:pt x="435" y="397"/>
                        </a:lnTo>
                        <a:lnTo>
                          <a:pt x="455" y="265"/>
                        </a:lnTo>
                        <a:lnTo>
                          <a:pt x="510" y="170"/>
                        </a:lnTo>
                        <a:lnTo>
                          <a:pt x="447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340080" y="3691080"/>
                    <a:ext cx="1555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830">
                        <a:moveTo>
                          <a:pt x="305" y="12"/>
                        </a:moveTo>
                        <a:lnTo>
                          <a:pt x="557" y="510"/>
                        </a:lnTo>
                        <a:lnTo>
                          <a:pt x="472" y="645"/>
                        </a:lnTo>
                        <a:lnTo>
                          <a:pt x="230" y="650"/>
                        </a:lnTo>
                        <a:lnTo>
                          <a:pt x="220" y="830"/>
                        </a:lnTo>
                        <a:lnTo>
                          <a:pt x="147" y="717"/>
                        </a:lnTo>
                        <a:lnTo>
                          <a:pt x="167" y="637"/>
                        </a:lnTo>
                        <a:lnTo>
                          <a:pt x="0" y="645"/>
                        </a:lnTo>
                        <a:lnTo>
                          <a:pt x="37" y="510"/>
                        </a:lnTo>
                        <a:lnTo>
                          <a:pt x="192" y="607"/>
                        </a:lnTo>
                        <a:lnTo>
                          <a:pt x="462" y="590"/>
                        </a:lnTo>
                        <a:lnTo>
                          <a:pt x="505" y="510"/>
                        </a:lnTo>
                        <a:lnTo>
                          <a:pt x="270" y="0"/>
                        </a:lnTo>
                        <a:lnTo>
                          <a:pt x="305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274920" y="3951360"/>
                    <a:ext cx="104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192">
                        <a:moveTo>
                          <a:pt x="375" y="0"/>
                        </a:moveTo>
                        <a:lnTo>
                          <a:pt x="125" y="65"/>
                        </a:lnTo>
                        <a:lnTo>
                          <a:pt x="0" y="107"/>
                        </a:lnTo>
                        <a:lnTo>
                          <a:pt x="30" y="192"/>
                        </a:lnTo>
                        <a:lnTo>
                          <a:pt x="145" y="105"/>
                        </a:lnTo>
                        <a:lnTo>
                          <a:pt x="327" y="155"/>
                        </a:lnTo>
                        <a:lnTo>
                          <a:pt x="332" y="132"/>
                        </a:lnTo>
                        <a:lnTo>
                          <a:pt x="335" y="110"/>
                        </a:lnTo>
                        <a:lnTo>
                          <a:pt x="340" y="92"/>
                        </a:lnTo>
                        <a:lnTo>
                          <a:pt x="342" y="75"/>
                        </a:lnTo>
                        <a:lnTo>
                          <a:pt x="345" y="57"/>
                        </a:lnTo>
                        <a:lnTo>
                          <a:pt x="352" y="40"/>
                        </a:lnTo>
                        <a:lnTo>
                          <a:pt x="362" y="22"/>
                        </a:lnTo>
                        <a:lnTo>
                          <a:pt x="3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300480" y="4005360"/>
                    <a:ext cx="69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00">
                        <a:moveTo>
                          <a:pt x="250" y="0"/>
                        </a:moveTo>
                        <a:lnTo>
                          <a:pt x="43" y="77"/>
                        </a:lnTo>
                        <a:lnTo>
                          <a:pt x="0" y="177"/>
                        </a:lnTo>
                        <a:lnTo>
                          <a:pt x="60" y="307"/>
                        </a:lnTo>
                        <a:lnTo>
                          <a:pt x="130" y="400"/>
                        </a:lnTo>
                        <a:lnTo>
                          <a:pt x="130" y="297"/>
                        </a:lnTo>
                        <a:lnTo>
                          <a:pt x="83" y="212"/>
                        </a:lnTo>
                        <a:lnTo>
                          <a:pt x="83" y="110"/>
                        </a:lnTo>
                        <a:lnTo>
                          <a:pt x="238" y="35"/>
                        </a:lnTo>
                        <a:lnTo>
                          <a:pt x="2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736720" y="3613320"/>
                    <a:ext cx="2192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025">
                        <a:moveTo>
                          <a:pt x="455" y="105"/>
                        </a:moveTo>
                        <a:lnTo>
                          <a:pt x="310" y="10"/>
                        </a:lnTo>
                        <a:lnTo>
                          <a:pt x="133" y="0"/>
                        </a:lnTo>
                        <a:lnTo>
                          <a:pt x="0" y="152"/>
                        </a:lnTo>
                        <a:lnTo>
                          <a:pt x="25" y="392"/>
                        </a:lnTo>
                        <a:lnTo>
                          <a:pt x="205" y="670"/>
                        </a:lnTo>
                        <a:lnTo>
                          <a:pt x="278" y="875"/>
                        </a:lnTo>
                        <a:lnTo>
                          <a:pt x="553" y="1025"/>
                        </a:lnTo>
                        <a:lnTo>
                          <a:pt x="780" y="952"/>
                        </a:lnTo>
                        <a:lnTo>
                          <a:pt x="765" y="875"/>
                        </a:lnTo>
                        <a:lnTo>
                          <a:pt x="623" y="890"/>
                        </a:lnTo>
                        <a:lnTo>
                          <a:pt x="348" y="807"/>
                        </a:lnTo>
                        <a:lnTo>
                          <a:pt x="190" y="495"/>
                        </a:lnTo>
                        <a:lnTo>
                          <a:pt x="93" y="385"/>
                        </a:lnTo>
                        <a:lnTo>
                          <a:pt x="85" y="177"/>
                        </a:lnTo>
                        <a:lnTo>
                          <a:pt x="145" y="60"/>
                        </a:lnTo>
                        <a:lnTo>
                          <a:pt x="310" y="47"/>
                        </a:lnTo>
                        <a:lnTo>
                          <a:pt x="455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790720" y="3622680"/>
                    <a:ext cx="131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540">
                        <a:moveTo>
                          <a:pt x="430" y="265"/>
                        </a:moveTo>
                        <a:lnTo>
                          <a:pt x="383" y="388"/>
                        </a:lnTo>
                        <a:lnTo>
                          <a:pt x="468" y="540"/>
                        </a:lnTo>
                        <a:lnTo>
                          <a:pt x="323" y="455"/>
                        </a:lnTo>
                        <a:lnTo>
                          <a:pt x="203" y="408"/>
                        </a:lnTo>
                        <a:lnTo>
                          <a:pt x="263" y="265"/>
                        </a:lnTo>
                        <a:lnTo>
                          <a:pt x="140" y="148"/>
                        </a:lnTo>
                        <a:lnTo>
                          <a:pt x="23" y="170"/>
                        </a:lnTo>
                        <a:lnTo>
                          <a:pt x="0" y="300"/>
                        </a:lnTo>
                        <a:lnTo>
                          <a:pt x="0" y="148"/>
                        </a:lnTo>
                        <a:lnTo>
                          <a:pt x="140" y="98"/>
                        </a:lnTo>
                        <a:lnTo>
                          <a:pt x="253" y="148"/>
                        </a:lnTo>
                        <a:lnTo>
                          <a:pt x="273" y="63"/>
                        </a:lnTo>
                        <a:lnTo>
                          <a:pt x="373" y="0"/>
                        </a:lnTo>
                        <a:lnTo>
                          <a:pt x="468" y="185"/>
                        </a:lnTo>
                        <a:lnTo>
                          <a:pt x="430" y="2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809800" y="3706920"/>
                    <a:ext cx="82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310">
                        <a:moveTo>
                          <a:pt x="28" y="0"/>
                        </a:moveTo>
                        <a:lnTo>
                          <a:pt x="50" y="118"/>
                        </a:lnTo>
                        <a:lnTo>
                          <a:pt x="150" y="240"/>
                        </a:lnTo>
                        <a:lnTo>
                          <a:pt x="293" y="310"/>
                        </a:lnTo>
                        <a:lnTo>
                          <a:pt x="98" y="260"/>
                        </a:lnTo>
                        <a:lnTo>
                          <a:pt x="0" y="118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637000" y="3292560"/>
                    <a:ext cx="284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685">
                        <a:moveTo>
                          <a:pt x="100" y="685"/>
                        </a:moveTo>
                        <a:lnTo>
                          <a:pt x="100" y="50"/>
                        </a:lnTo>
                        <a:lnTo>
                          <a:pt x="97" y="40"/>
                        </a:lnTo>
                        <a:lnTo>
                          <a:pt x="95" y="28"/>
                        </a:lnTo>
                        <a:lnTo>
                          <a:pt x="87" y="18"/>
                        </a:lnTo>
                        <a:lnTo>
                          <a:pt x="80" y="10"/>
                        </a:lnTo>
                        <a:lnTo>
                          <a:pt x="70" y="3"/>
                        </a:lnTo>
                        <a:lnTo>
                          <a:pt x="60" y="0"/>
                        </a:lnTo>
                        <a:lnTo>
                          <a:pt x="47" y="0"/>
                        </a:lnTo>
                        <a:lnTo>
                          <a:pt x="37" y="0"/>
                        </a:lnTo>
                        <a:lnTo>
                          <a:pt x="27" y="5"/>
                        </a:lnTo>
                        <a:lnTo>
                          <a:pt x="15" y="13"/>
                        </a:lnTo>
                        <a:lnTo>
                          <a:pt x="7" y="20"/>
                        </a:lnTo>
                        <a:lnTo>
                          <a:pt x="2" y="30"/>
                        </a:lnTo>
                        <a:lnTo>
                          <a:pt x="0" y="40"/>
                        </a:lnTo>
                        <a:lnTo>
                          <a:pt x="0" y="50"/>
                        </a:lnTo>
                        <a:lnTo>
                          <a:pt x="0" y="685"/>
                        </a:lnTo>
                        <a:lnTo>
                          <a:pt x="100" y="685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682720" y="3292560"/>
                    <a:ext cx="288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85">
                        <a:moveTo>
                          <a:pt x="103" y="685"/>
                        </a:moveTo>
                        <a:lnTo>
                          <a:pt x="103" y="50"/>
                        </a:lnTo>
                        <a:lnTo>
                          <a:pt x="100" y="40"/>
                        </a:lnTo>
                        <a:lnTo>
                          <a:pt x="98" y="28"/>
                        </a:lnTo>
                        <a:lnTo>
                          <a:pt x="90" y="18"/>
                        </a:lnTo>
                        <a:lnTo>
                          <a:pt x="83" y="10"/>
                        </a:lnTo>
                        <a:lnTo>
                          <a:pt x="73" y="3"/>
                        </a:lnTo>
                        <a:lnTo>
                          <a:pt x="60" y="0"/>
                        </a:lnTo>
                        <a:lnTo>
                          <a:pt x="50" y="0"/>
                        </a:lnTo>
                        <a:lnTo>
                          <a:pt x="40" y="0"/>
                        </a:lnTo>
                        <a:lnTo>
                          <a:pt x="30" y="5"/>
                        </a:lnTo>
                        <a:lnTo>
                          <a:pt x="20" y="13"/>
                        </a:lnTo>
                        <a:lnTo>
                          <a:pt x="10" y="20"/>
                        </a:lnTo>
                        <a:lnTo>
                          <a:pt x="5" y="30"/>
                        </a:lnTo>
                        <a:lnTo>
                          <a:pt x="0" y="40"/>
                        </a:lnTo>
                        <a:lnTo>
                          <a:pt x="0" y="50"/>
                        </a:lnTo>
                        <a:lnTo>
                          <a:pt x="0" y="685"/>
                        </a:lnTo>
                        <a:lnTo>
                          <a:pt x="103" y="685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728800" y="3359160"/>
                    <a:ext cx="302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7">
                        <a:moveTo>
                          <a:pt x="105" y="437"/>
                        </a:moveTo>
                        <a:lnTo>
                          <a:pt x="105" y="52"/>
                        </a:lnTo>
                        <a:lnTo>
                          <a:pt x="102" y="40"/>
                        </a:lnTo>
                        <a:lnTo>
                          <a:pt x="97" y="30"/>
                        </a:lnTo>
                        <a:lnTo>
                          <a:pt x="92" y="20"/>
                        </a:lnTo>
                        <a:lnTo>
                          <a:pt x="85" y="12"/>
                        </a:lnTo>
                        <a:lnTo>
                          <a:pt x="75" y="7"/>
                        </a:lnTo>
                        <a:lnTo>
                          <a:pt x="65" y="5"/>
                        </a:lnTo>
                        <a:lnTo>
                          <a:pt x="52" y="0"/>
                        </a:lnTo>
                        <a:lnTo>
                          <a:pt x="40" y="5"/>
                        </a:lnTo>
                        <a:lnTo>
                          <a:pt x="30" y="7"/>
                        </a:lnTo>
                        <a:lnTo>
                          <a:pt x="20" y="15"/>
                        </a:lnTo>
                        <a:lnTo>
                          <a:pt x="12" y="20"/>
                        </a:lnTo>
                        <a:lnTo>
                          <a:pt x="7" y="30"/>
                        </a:lnTo>
                        <a:lnTo>
                          <a:pt x="2" y="42"/>
                        </a:lnTo>
                        <a:lnTo>
                          <a:pt x="2" y="55"/>
                        </a:lnTo>
                        <a:lnTo>
                          <a:pt x="0" y="437"/>
                        </a:lnTo>
                        <a:lnTo>
                          <a:pt x="105" y="437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774880" y="3359160"/>
                    <a:ext cx="2880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37">
                        <a:moveTo>
                          <a:pt x="103" y="437"/>
                        </a:moveTo>
                        <a:lnTo>
                          <a:pt x="103" y="52"/>
                        </a:lnTo>
                        <a:lnTo>
                          <a:pt x="100" y="40"/>
                        </a:lnTo>
                        <a:lnTo>
                          <a:pt x="95" y="30"/>
                        </a:lnTo>
                        <a:lnTo>
                          <a:pt x="90" y="20"/>
                        </a:lnTo>
                        <a:lnTo>
                          <a:pt x="83" y="12"/>
                        </a:lnTo>
                        <a:lnTo>
                          <a:pt x="73" y="7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40" y="5"/>
                        </a:lnTo>
                        <a:lnTo>
                          <a:pt x="28" y="7"/>
                        </a:lnTo>
                        <a:lnTo>
                          <a:pt x="18" y="15"/>
                        </a:lnTo>
                        <a:lnTo>
                          <a:pt x="10" y="20"/>
                        </a:lnTo>
                        <a:lnTo>
                          <a:pt x="3" y="30"/>
                        </a:lnTo>
                        <a:lnTo>
                          <a:pt x="0" y="42"/>
                        </a:lnTo>
                        <a:lnTo>
                          <a:pt x="0" y="55"/>
                        </a:lnTo>
                        <a:lnTo>
                          <a:pt x="0" y="437"/>
                        </a:lnTo>
                        <a:lnTo>
                          <a:pt x="103" y="437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51200" y="3257640"/>
                    <a:ext cx="34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810">
                        <a:moveTo>
                          <a:pt x="123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5" y="23"/>
                        </a:lnTo>
                        <a:lnTo>
                          <a:pt x="98" y="13"/>
                        </a:lnTo>
                        <a:lnTo>
                          <a:pt x="85" y="5"/>
                        </a:lnTo>
                        <a:lnTo>
                          <a:pt x="73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5" y="5"/>
                        </a:lnTo>
                        <a:lnTo>
                          <a:pt x="20" y="15"/>
                        </a:lnTo>
                        <a:lnTo>
                          <a:pt x="10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3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95480" y="3257640"/>
                    <a:ext cx="334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10">
                        <a:moveTo>
                          <a:pt x="120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5" y="23"/>
                        </a:lnTo>
                        <a:lnTo>
                          <a:pt x="95" y="13"/>
                        </a:lnTo>
                        <a:lnTo>
                          <a:pt x="85" y="5"/>
                        </a:lnTo>
                        <a:lnTo>
                          <a:pt x="73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3" y="5"/>
                        </a:lnTo>
                        <a:lnTo>
                          <a:pt x="23" y="15"/>
                        </a:lnTo>
                        <a:lnTo>
                          <a:pt x="13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0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940120" y="3257640"/>
                    <a:ext cx="331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10">
                        <a:moveTo>
                          <a:pt x="120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8" y="23"/>
                        </a:lnTo>
                        <a:lnTo>
                          <a:pt x="98" y="13"/>
                        </a:lnTo>
                        <a:lnTo>
                          <a:pt x="85" y="5"/>
                        </a:lnTo>
                        <a:lnTo>
                          <a:pt x="70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3" y="5"/>
                        </a:lnTo>
                        <a:lnTo>
                          <a:pt x="20" y="15"/>
                        </a:lnTo>
                        <a:lnTo>
                          <a:pt x="10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0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986200" y="3257640"/>
                    <a:ext cx="34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810">
                        <a:moveTo>
                          <a:pt x="123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8" y="23"/>
                        </a:lnTo>
                        <a:lnTo>
                          <a:pt x="98" y="13"/>
                        </a:lnTo>
                        <a:lnTo>
                          <a:pt x="88" y="5"/>
                        </a:lnTo>
                        <a:lnTo>
                          <a:pt x="73" y="3"/>
                        </a:lnTo>
                        <a:lnTo>
                          <a:pt x="60" y="0"/>
                        </a:lnTo>
                        <a:lnTo>
                          <a:pt x="48" y="3"/>
                        </a:lnTo>
                        <a:lnTo>
                          <a:pt x="33" y="5"/>
                        </a:lnTo>
                        <a:lnTo>
                          <a:pt x="23" y="15"/>
                        </a:lnTo>
                        <a:lnTo>
                          <a:pt x="13" y="23"/>
                        </a:lnTo>
                        <a:lnTo>
                          <a:pt x="5" y="35"/>
                        </a:lnTo>
                        <a:lnTo>
                          <a:pt x="3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3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630520" y="3327480"/>
                    <a:ext cx="87120" cy="17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630520" y="3381480"/>
                    <a:ext cx="17280" cy="15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768760" y="3387600"/>
                    <a:ext cx="42840" cy="15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828880" y="3228840"/>
                    <a:ext cx="185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912">
                        <a:moveTo>
                          <a:pt x="15" y="912"/>
                        </a:moveTo>
                        <a:lnTo>
                          <a:pt x="17" y="67"/>
                        </a:lnTo>
                        <a:lnTo>
                          <a:pt x="17" y="57"/>
                        </a:lnTo>
                        <a:lnTo>
                          <a:pt x="20" y="45"/>
                        </a:lnTo>
                        <a:lnTo>
                          <a:pt x="25" y="35"/>
                        </a:lnTo>
                        <a:lnTo>
                          <a:pt x="35" y="27"/>
                        </a:lnTo>
                        <a:lnTo>
                          <a:pt x="42" y="20"/>
                        </a:lnTo>
                        <a:lnTo>
                          <a:pt x="55" y="17"/>
                        </a:lnTo>
                        <a:lnTo>
                          <a:pt x="65" y="15"/>
                        </a:lnTo>
                        <a:lnTo>
                          <a:pt x="622" y="17"/>
                        </a:lnTo>
                        <a:lnTo>
                          <a:pt x="630" y="20"/>
                        </a:lnTo>
                        <a:lnTo>
                          <a:pt x="637" y="25"/>
                        </a:lnTo>
                        <a:lnTo>
                          <a:pt x="645" y="32"/>
                        </a:lnTo>
                        <a:lnTo>
                          <a:pt x="645" y="40"/>
                        </a:lnTo>
                        <a:lnTo>
                          <a:pt x="645" y="50"/>
                        </a:lnTo>
                        <a:lnTo>
                          <a:pt x="645" y="57"/>
                        </a:lnTo>
                        <a:lnTo>
                          <a:pt x="640" y="65"/>
                        </a:lnTo>
                        <a:lnTo>
                          <a:pt x="635" y="72"/>
                        </a:lnTo>
                        <a:lnTo>
                          <a:pt x="625" y="75"/>
                        </a:lnTo>
                        <a:lnTo>
                          <a:pt x="615" y="75"/>
                        </a:lnTo>
                        <a:lnTo>
                          <a:pt x="615" y="92"/>
                        </a:lnTo>
                        <a:lnTo>
                          <a:pt x="627" y="90"/>
                        </a:lnTo>
                        <a:lnTo>
                          <a:pt x="637" y="87"/>
                        </a:lnTo>
                        <a:lnTo>
                          <a:pt x="645" y="80"/>
                        </a:lnTo>
                        <a:lnTo>
                          <a:pt x="655" y="72"/>
                        </a:lnTo>
                        <a:lnTo>
                          <a:pt x="660" y="65"/>
                        </a:lnTo>
                        <a:lnTo>
                          <a:pt x="662" y="52"/>
                        </a:lnTo>
                        <a:lnTo>
                          <a:pt x="662" y="42"/>
                        </a:lnTo>
                        <a:lnTo>
                          <a:pt x="660" y="30"/>
                        </a:lnTo>
                        <a:lnTo>
                          <a:pt x="655" y="20"/>
                        </a:lnTo>
                        <a:lnTo>
                          <a:pt x="645" y="12"/>
                        </a:lnTo>
                        <a:lnTo>
                          <a:pt x="637" y="7"/>
                        </a:lnTo>
                        <a:lnTo>
                          <a:pt x="627" y="2"/>
                        </a:lnTo>
                        <a:lnTo>
                          <a:pt x="617" y="0"/>
                        </a:lnTo>
                        <a:lnTo>
                          <a:pt x="65" y="0"/>
                        </a:lnTo>
                        <a:lnTo>
                          <a:pt x="50" y="2"/>
                        </a:lnTo>
                        <a:lnTo>
                          <a:pt x="40" y="5"/>
                        </a:lnTo>
                        <a:lnTo>
                          <a:pt x="27" y="12"/>
                        </a:lnTo>
                        <a:lnTo>
                          <a:pt x="20" y="22"/>
                        </a:lnTo>
                        <a:lnTo>
                          <a:pt x="10" y="32"/>
                        </a:lnTo>
                        <a:lnTo>
                          <a:pt x="5" y="45"/>
                        </a:lnTo>
                        <a:lnTo>
                          <a:pt x="0" y="55"/>
                        </a:lnTo>
                        <a:lnTo>
                          <a:pt x="0" y="70"/>
                        </a:lnTo>
                        <a:lnTo>
                          <a:pt x="0" y="912"/>
                        </a:lnTo>
                        <a:lnTo>
                          <a:pt x="15" y="9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957400" y="3228840"/>
                    <a:ext cx="12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2">
                        <a:moveTo>
                          <a:pt x="7" y="15"/>
                        </a:moveTo>
                        <a:lnTo>
                          <a:pt x="12" y="17"/>
                        </a:lnTo>
                        <a:lnTo>
                          <a:pt x="20" y="25"/>
                        </a:lnTo>
                        <a:lnTo>
                          <a:pt x="27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27" y="57"/>
                        </a:lnTo>
                        <a:lnTo>
                          <a:pt x="22" y="65"/>
                        </a:lnTo>
                        <a:lnTo>
                          <a:pt x="17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30" y="80"/>
                        </a:lnTo>
                        <a:lnTo>
                          <a:pt x="37" y="72"/>
                        </a:lnTo>
                        <a:lnTo>
                          <a:pt x="40" y="62"/>
                        </a:lnTo>
                        <a:lnTo>
                          <a:pt x="45" y="50"/>
                        </a:lnTo>
                        <a:lnTo>
                          <a:pt x="45" y="40"/>
                        </a:lnTo>
                        <a:lnTo>
                          <a:pt x="42" y="30"/>
                        </a:lnTo>
                        <a:lnTo>
                          <a:pt x="37" y="20"/>
                        </a:lnTo>
                        <a:lnTo>
                          <a:pt x="30" y="12"/>
                        </a:lnTo>
                        <a:lnTo>
                          <a:pt x="20" y="5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911320" y="32288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2">
                        <a:moveTo>
                          <a:pt x="8" y="15"/>
                        </a:moveTo>
                        <a:lnTo>
                          <a:pt x="18" y="17"/>
                        </a:lnTo>
                        <a:lnTo>
                          <a:pt x="23" y="25"/>
                        </a:lnTo>
                        <a:lnTo>
                          <a:pt x="30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30" y="57"/>
                        </a:lnTo>
                        <a:lnTo>
                          <a:pt x="25" y="65"/>
                        </a:lnTo>
                        <a:lnTo>
                          <a:pt x="20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3" y="87"/>
                        </a:lnTo>
                        <a:lnTo>
                          <a:pt x="23" y="87"/>
                        </a:lnTo>
                        <a:lnTo>
                          <a:pt x="30" y="80"/>
                        </a:lnTo>
                        <a:lnTo>
                          <a:pt x="40" y="72"/>
                        </a:lnTo>
                        <a:lnTo>
                          <a:pt x="45" y="62"/>
                        </a:lnTo>
                        <a:lnTo>
                          <a:pt x="48" y="50"/>
                        </a:lnTo>
                        <a:lnTo>
                          <a:pt x="48" y="40"/>
                        </a:lnTo>
                        <a:lnTo>
                          <a:pt x="45" y="30"/>
                        </a:lnTo>
                        <a:lnTo>
                          <a:pt x="40" y="20"/>
                        </a:lnTo>
                        <a:lnTo>
                          <a:pt x="33" y="12"/>
                        </a:lnTo>
                        <a:lnTo>
                          <a:pt x="23" y="5"/>
                        </a:lnTo>
                        <a:lnTo>
                          <a:pt x="13" y="2"/>
                        </a:lnTo>
                        <a:lnTo>
                          <a:pt x="3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867040" y="32288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2">
                        <a:moveTo>
                          <a:pt x="8" y="15"/>
                        </a:moveTo>
                        <a:lnTo>
                          <a:pt x="18" y="17"/>
                        </a:lnTo>
                        <a:lnTo>
                          <a:pt x="23" y="25"/>
                        </a:lnTo>
                        <a:lnTo>
                          <a:pt x="30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30" y="57"/>
                        </a:lnTo>
                        <a:lnTo>
                          <a:pt x="25" y="65"/>
                        </a:lnTo>
                        <a:lnTo>
                          <a:pt x="20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3" y="87"/>
                        </a:lnTo>
                        <a:lnTo>
                          <a:pt x="23" y="87"/>
                        </a:lnTo>
                        <a:lnTo>
                          <a:pt x="30" y="80"/>
                        </a:lnTo>
                        <a:lnTo>
                          <a:pt x="40" y="72"/>
                        </a:lnTo>
                        <a:lnTo>
                          <a:pt x="45" y="62"/>
                        </a:lnTo>
                        <a:lnTo>
                          <a:pt x="48" y="50"/>
                        </a:lnTo>
                        <a:lnTo>
                          <a:pt x="48" y="40"/>
                        </a:lnTo>
                        <a:lnTo>
                          <a:pt x="45" y="30"/>
                        </a:lnTo>
                        <a:lnTo>
                          <a:pt x="40" y="20"/>
                        </a:lnTo>
                        <a:lnTo>
                          <a:pt x="33" y="12"/>
                        </a:lnTo>
                        <a:lnTo>
                          <a:pt x="25" y="5"/>
                        </a:lnTo>
                        <a:lnTo>
                          <a:pt x="13" y="2"/>
                        </a:lnTo>
                        <a:lnTo>
                          <a:pt x="3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79760" y="3433680"/>
                    <a:ext cx="101520" cy="4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76520" y="3436920"/>
                    <a:ext cx="1062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712960" y="3421080"/>
                    <a:ext cx="123840" cy="5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711520" y="3427560"/>
                    <a:ext cx="1285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852640" y="3375000"/>
                    <a:ext cx="220680" cy="10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851200" y="3387600"/>
                    <a:ext cx="22536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078000" y="3386160"/>
                    <a:ext cx="180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191040" y="3386160"/>
                    <a:ext cx="144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041640" y="3254400"/>
                    <a:ext cx="189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3">
                        <a:moveTo>
                          <a:pt x="672" y="338"/>
                        </a:moveTo>
                        <a:lnTo>
                          <a:pt x="672" y="308"/>
                        </a:lnTo>
                        <a:lnTo>
                          <a:pt x="667" y="278"/>
                        </a:lnTo>
                        <a:lnTo>
                          <a:pt x="660" y="250"/>
                        </a:lnTo>
                        <a:lnTo>
                          <a:pt x="652" y="220"/>
                        </a:lnTo>
                        <a:lnTo>
                          <a:pt x="640" y="193"/>
                        </a:lnTo>
                        <a:lnTo>
                          <a:pt x="627" y="168"/>
                        </a:lnTo>
                        <a:lnTo>
                          <a:pt x="610" y="143"/>
                        </a:lnTo>
                        <a:lnTo>
                          <a:pt x="592" y="118"/>
                        </a:lnTo>
                        <a:lnTo>
                          <a:pt x="572" y="98"/>
                        </a:lnTo>
                        <a:lnTo>
                          <a:pt x="550" y="78"/>
                        </a:lnTo>
                        <a:lnTo>
                          <a:pt x="525" y="60"/>
                        </a:lnTo>
                        <a:lnTo>
                          <a:pt x="502" y="43"/>
                        </a:lnTo>
                        <a:lnTo>
                          <a:pt x="475" y="30"/>
                        </a:lnTo>
                        <a:lnTo>
                          <a:pt x="447" y="20"/>
                        </a:lnTo>
                        <a:lnTo>
                          <a:pt x="420" y="10"/>
                        </a:lnTo>
                        <a:lnTo>
                          <a:pt x="390" y="5"/>
                        </a:lnTo>
                        <a:lnTo>
                          <a:pt x="362" y="0"/>
                        </a:lnTo>
                        <a:lnTo>
                          <a:pt x="332" y="0"/>
                        </a:lnTo>
                        <a:lnTo>
                          <a:pt x="302" y="3"/>
                        </a:lnTo>
                        <a:lnTo>
                          <a:pt x="275" y="5"/>
                        </a:lnTo>
                        <a:lnTo>
                          <a:pt x="242" y="13"/>
                        </a:lnTo>
                        <a:lnTo>
                          <a:pt x="215" y="23"/>
                        </a:lnTo>
                        <a:lnTo>
                          <a:pt x="190" y="33"/>
                        </a:lnTo>
                        <a:lnTo>
                          <a:pt x="162" y="48"/>
                        </a:lnTo>
                        <a:lnTo>
                          <a:pt x="137" y="65"/>
                        </a:lnTo>
                        <a:lnTo>
                          <a:pt x="115" y="85"/>
                        </a:lnTo>
                        <a:lnTo>
                          <a:pt x="95" y="103"/>
                        </a:lnTo>
                        <a:lnTo>
                          <a:pt x="72" y="125"/>
                        </a:lnTo>
                        <a:lnTo>
                          <a:pt x="57" y="148"/>
                        </a:lnTo>
                        <a:lnTo>
                          <a:pt x="40" y="175"/>
                        </a:lnTo>
                        <a:lnTo>
                          <a:pt x="27" y="200"/>
                        </a:lnTo>
                        <a:lnTo>
                          <a:pt x="15" y="230"/>
                        </a:lnTo>
                        <a:lnTo>
                          <a:pt x="10" y="258"/>
                        </a:lnTo>
                        <a:lnTo>
                          <a:pt x="2" y="288"/>
                        </a:lnTo>
                        <a:lnTo>
                          <a:pt x="0" y="315"/>
                        </a:lnTo>
                        <a:lnTo>
                          <a:pt x="0" y="345"/>
                        </a:lnTo>
                        <a:lnTo>
                          <a:pt x="2" y="373"/>
                        </a:lnTo>
                        <a:lnTo>
                          <a:pt x="5" y="403"/>
                        </a:lnTo>
                        <a:lnTo>
                          <a:pt x="12" y="433"/>
                        </a:lnTo>
                        <a:lnTo>
                          <a:pt x="22" y="460"/>
                        </a:lnTo>
                        <a:lnTo>
                          <a:pt x="32" y="488"/>
                        </a:lnTo>
                        <a:lnTo>
                          <a:pt x="50" y="513"/>
                        </a:lnTo>
                        <a:lnTo>
                          <a:pt x="65" y="535"/>
                        </a:lnTo>
                        <a:lnTo>
                          <a:pt x="85" y="560"/>
                        </a:lnTo>
                        <a:lnTo>
                          <a:pt x="105" y="583"/>
                        </a:lnTo>
                        <a:lnTo>
                          <a:pt x="127" y="600"/>
                        </a:lnTo>
                        <a:lnTo>
                          <a:pt x="152" y="618"/>
                        </a:lnTo>
                        <a:lnTo>
                          <a:pt x="175" y="635"/>
                        </a:lnTo>
                        <a:lnTo>
                          <a:pt x="202" y="648"/>
                        </a:lnTo>
                        <a:lnTo>
                          <a:pt x="232" y="658"/>
                        </a:lnTo>
                        <a:lnTo>
                          <a:pt x="260" y="665"/>
                        </a:lnTo>
                        <a:lnTo>
                          <a:pt x="287" y="668"/>
                        </a:lnTo>
                        <a:lnTo>
                          <a:pt x="317" y="673"/>
                        </a:lnTo>
                        <a:lnTo>
                          <a:pt x="347" y="673"/>
                        </a:lnTo>
                        <a:lnTo>
                          <a:pt x="377" y="670"/>
                        </a:lnTo>
                        <a:lnTo>
                          <a:pt x="407" y="665"/>
                        </a:lnTo>
                        <a:lnTo>
                          <a:pt x="437" y="658"/>
                        </a:lnTo>
                        <a:lnTo>
                          <a:pt x="465" y="648"/>
                        </a:lnTo>
                        <a:lnTo>
                          <a:pt x="490" y="635"/>
                        </a:lnTo>
                        <a:lnTo>
                          <a:pt x="515" y="620"/>
                        </a:lnTo>
                        <a:lnTo>
                          <a:pt x="540" y="605"/>
                        </a:lnTo>
                        <a:lnTo>
                          <a:pt x="562" y="585"/>
                        </a:lnTo>
                        <a:lnTo>
                          <a:pt x="585" y="565"/>
                        </a:lnTo>
                        <a:lnTo>
                          <a:pt x="602" y="540"/>
                        </a:lnTo>
                        <a:lnTo>
                          <a:pt x="620" y="515"/>
                        </a:lnTo>
                        <a:lnTo>
                          <a:pt x="635" y="493"/>
                        </a:lnTo>
                        <a:lnTo>
                          <a:pt x="647" y="465"/>
                        </a:lnTo>
                        <a:lnTo>
                          <a:pt x="657" y="438"/>
                        </a:lnTo>
                        <a:lnTo>
                          <a:pt x="665" y="408"/>
                        </a:lnTo>
                        <a:lnTo>
                          <a:pt x="670" y="380"/>
                        </a:lnTo>
                        <a:lnTo>
                          <a:pt x="672" y="350"/>
                        </a:lnTo>
                        <a:lnTo>
                          <a:pt x="672" y="3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35240" y="3386160"/>
                    <a:ext cx="180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63920" y="49356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2">
                        <a:moveTo>
                          <a:pt x="15" y="22"/>
                        </a:moveTo>
                        <a:lnTo>
                          <a:pt x="12" y="22"/>
                        </a:lnTo>
                        <a:lnTo>
                          <a:pt x="25" y="12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59240" y="493884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7">
                        <a:moveTo>
                          <a:pt x="17" y="35"/>
                        </a:moveTo>
                        <a:lnTo>
                          <a:pt x="15" y="37"/>
                        </a:lnTo>
                        <a:lnTo>
                          <a:pt x="35" y="12"/>
                        </a:lnTo>
                        <a:lnTo>
                          <a:pt x="20" y="0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17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54560" y="494676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5">
                        <a:moveTo>
                          <a:pt x="20" y="32"/>
                        </a:moveTo>
                        <a:lnTo>
                          <a:pt x="20" y="35"/>
                        </a:lnTo>
                        <a:lnTo>
                          <a:pt x="30" y="5"/>
                        </a:lnTo>
                        <a:lnTo>
                          <a:pt x="13" y="0"/>
                        </a:lnTo>
                        <a:lnTo>
                          <a:pt x="3" y="30"/>
                        </a:lnTo>
                        <a:lnTo>
                          <a:pt x="3" y="32"/>
                        </a:lnTo>
                        <a:lnTo>
                          <a:pt x="3" y="30"/>
                        </a:lnTo>
                        <a:lnTo>
                          <a:pt x="0" y="32"/>
                        </a:lnTo>
                        <a:lnTo>
                          <a:pt x="3" y="32"/>
                        </a:lnTo>
                        <a:lnTo>
                          <a:pt x="20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456000" y="49561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0">
                        <a:moveTo>
                          <a:pt x="20" y="30"/>
                        </a:moveTo>
                        <a:lnTo>
                          <a:pt x="20" y="3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2" y="35"/>
                        </a:lnTo>
                        <a:lnTo>
                          <a:pt x="2" y="40"/>
                        </a:lnTo>
                        <a:lnTo>
                          <a:pt x="2" y="35"/>
                        </a:lnTo>
                        <a:lnTo>
                          <a:pt x="2" y="38"/>
                        </a:lnTo>
                        <a:lnTo>
                          <a:pt x="2" y="40"/>
                        </a:lnTo>
                        <a:lnTo>
                          <a:pt x="2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56000" y="496404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0" y="28"/>
                        </a:moveTo>
                        <a:lnTo>
                          <a:pt x="33" y="30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15" y="38"/>
                        </a:lnTo>
                        <a:lnTo>
                          <a:pt x="18" y="40"/>
                        </a:lnTo>
                        <a:lnTo>
                          <a:pt x="15" y="38"/>
                        </a:lnTo>
                        <a:lnTo>
                          <a:pt x="18" y="40"/>
                        </a:lnTo>
                        <a:lnTo>
                          <a:pt x="3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60680" y="497196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7">
                        <a:moveTo>
                          <a:pt x="37" y="2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25" y="37"/>
                        </a:lnTo>
                        <a:lnTo>
                          <a:pt x="37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468600" y="4978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2" y="12"/>
                        </a:moveTo>
                        <a:lnTo>
                          <a:pt x="17" y="5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5" y="17"/>
                        </a:lnTo>
                        <a:lnTo>
                          <a:pt x="2" y="12"/>
                        </a:lnTo>
                        <a:lnTo>
                          <a:pt x="22" y="12"/>
                        </a:lnTo>
                        <a:lnTo>
                          <a:pt x="22" y="7"/>
                        </a:lnTo>
                        <a:lnTo>
                          <a:pt x="17" y="5"/>
                        </a:lnTo>
                        <a:lnTo>
                          <a:pt x="22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468600" y="498168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8" y="43"/>
                        </a:moveTo>
                        <a:lnTo>
                          <a:pt x="20" y="45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45"/>
                        </a:lnTo>
                        <a:lnTo>
                          <a:pt x="0" y="48"/>
                        </a:lnTo>
                        <a:lnTo>
                          <a:pt x="0" y="45"/>
                        </a:lnTo>
                        <a:lnTo>
                          <a:pt x="0" y="48"/>
                        </a:lnTo>
                        <a:lnTo>
                          <a:pt x="18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468600" y="4994280"/>
                    <a:ext cx="7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7">
                        <a:moveTo>
                          <a:pt x="28" y="40"/>
                        </a:moveTo>
                        <a:lnTo>
                          <a:pt x="28" y="42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10" y="45"/>
                        </a:lnTo>
                        <a:lnTo>
                          <a:pt x="10" y="47"/>
                        </a:lnTo>
                        <a:lnTo>
                          <a:pt x="10" y="45"/>
                        </a:lnTo>
                        <a:lnTo>
                          <a:pt x="10" y="47"/>
                        </a:lnTo>
                        <a:lnTo>
                          <a:pt x="2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471840" y="5005440"/>
                    <a:ext cx="11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0">
                        <a:moveTo>
                          <a:pt x="38" y="37"/>
                        </a:moveTo>
                        <a:lnTo>
                          <a:pt x="40" y="40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23" y="47"/>
                        </a:lnTo>
                        <a:lnTo>
                          <a:pt x="25" y="50"/>
                        </a:lnTo>
                        <a:lnTo>
                          <a:pt x="23" y="47"/>
                        </a:lnTo>
                        <a:lnTo>
                          <a:pt x="23" y="50"/>
                        </a:lnTo>
                        <a:lnTo>
                          <a:pt x="25" y="50"/>
                        </a:lnTo>
                        <a:lnTo>
                          <a:pt x="3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79760" y="501480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40" y="25"/>
                        </a:moveTo>
                        <a:lnTo>
                          <a:pt x="40" y="28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30" y="40"/>
                        </a:lnTo>
                        <a:lnTo>
                          <a:pt x="30" y="43"/>
                        </a:lnTo>
                        <a:lnTo>
                          <a:pt x="30" y="40"/>
                        </a:lnTo>
                        <a:lnTo>
                          <a:pt x="30" y="43"/>
                        </a:lnTo>
                        <a:lnTo>
                          <a:pt x="40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87680" y="502128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43" y="23"/>
                        </a:moveTo>
                        <a:lnTo>
                          <a:pt x="48" y="23"/>
                        </a:ln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38" y="40"/>
                        </a:lnTo>
                        <a:lnTo>
                          <a:pt x="40" y="40"/>
                        </a:lnTo>
                        <a:lnTo>
                          <a:pt x="38" y="40"/>
                        </a:lnTo>
                        <a:lnTo>
                          <a:pt x="40" y="4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98840" y="502776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48" y="10"/>
                        </a:moveTo>
                        <a:lnTo>
                          <a:pt x="48" y="12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45" y="27"/>
                        </a:lnTo>
                        <a:lnTo>
                          <a:pt x="48" y="30"/>
                        </a:lnTo>
                        <a:lnTo>
                          <a:pt x="45" y="27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511440" y="503064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42" y="2"/>
                        </a:moveTo>
                        <a:lnTo>
                          <a:pt x="45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45" y="20"/>
                        </a:lnTo>
                        <a:lnTo>
                          <a:pt x="45" y="17"/>
                        </a:lnTo>
                        <a:lnTo>
                          <a:pt x="45" y="20"/>
                        </a:lnTo>
                        <a:lnTo>
                          <a:pt x="45" y="17"/>
                        </a:lnTo>
                        <a:lnTo>
                          <a:pt x="4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24400" y="502776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">
                        <a:moveTo>
                          <a:pt x="40" y="0"/>
                        </a:moveTo>
                        <a:lnTo>
                          <a:pt x="43" y="0"/>
                        </a:lnTo>
                        <a:lnTo>
                          <a:pt x="0" y="12"/>
                        </a:lnTo>
                        <a:lnTo>
                          <a:pt x="3" y="27"/>
                        </a:lnTo>
                        <a:lnTo>
                          <a:pt x="45" y="17"/>
                        </a:lnTo>
                        <a:lnTo>
                          <a:pt x="50" y="17"/>
                        </a:lnTo>
                        <a:lnTo>
                          <a:pt x="45" y="17"/>
                        </a:lnTo>
                        <a:lnTo>
                          <a:pt x="48" y="17"/>
                        </a:lnTo>
                        <a:lnTo>
                          <a:pt x="50" y="1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535200" y="5021280"/>
                    <a:ext cx="16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0">
                        <a:moveTo>
                          <a:pt x="35" y="5"/>
                        </a:moveTo>
                        <a:lnTo>
                          <a:pt x="40" y="0"/>
                        </a:lnTo>
                        <a:lnTo>
                          <a:pt x="0" y="23"/>
                        </a:lnTo>
                        <a:lnTo>
                          <a:pt x="10" y="40"/>
                        </a:lnTo>
                        <a:lnTo>
                          <a:pt x="48" y="18"/>
                        </a:lnTo>
                        <a:lnTo>
                          <a:pt x="53" y="13"/>
                        </a:lnTo>
                        <a:lnTo>
                          <a:pt x="48" y="18"/>
                        </a:lnTo>
                        <a:lnTo>
                          <a:pt x="50" y="18"/>
                        </a:lnTo>
                        <a:lnTo>
                          <a:pt x="53" y="13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44920" y="5022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0"/>
                        </a:moveTo>
                        <a:lnTo>
                          <a:pt x="8" y="5"/>
                        </a:lnTo>
                        <a:lnTo>
                          <a:pt x="18" y="8"/>
                        </a:lnTo>
                        <a:lnTo>
                          <a:pt x="13" y="13"/>
                        </a:lnTo>
                        <a:lnTo>
                          <a:pt x="15" y="13"/>
                        </a:lnTo>
                        <a:lnTo>
                          <a:pt x="18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544920" y="50212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5" y="0"/>
                        </a:moveTo>
                        <a:lnTo>
                          <a:pt x="3" y="2"/>
                        </a:lnTo>
                        <a:lnTo>
                          <a:pt x="0" y="7"/>
                        </a:lnTo>
                        <a:lnTo>
                          <a:pt x="18" y="15"/>
                        </a:lnTo>
                        <a:lnTo>
                          <a:pt x="20" y="10"/>
                        </a:lnTo>
                        <a:lnTo>
                          <a:pt x="18" y="12"/>
                        </a:ln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546360" y="501156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7">
                        <a:moveTo>
                          <a:pt x="38" y="2"/>
                        </a:moveTo>
                        <a:lnTo>
                          <a:pt x="38" y="0"/>
                        </a:lnTo>
                        <a:lnTo>
                          <a:pt x="0" y="35"/>
                        </a:lnTo>
                        <a:lnTo>
                          <a:pt x="13" y="47"/>
                        </a:lnTo>
                        <a:lnTo>
                          <a:pt x="50" y="15"/>
                        </a:lnTo>
                        <a:lnTo>
                          <a:pt x="38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57520" y="500076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27" y="5"/>
                        </a:moveTo>
                        <a:lnTo>
                          <a:pt x="27" y="0"/>
                        </a:lnTo>
                        <a:lnTo>
                          <a:pt x="0" y="40"/>
                        </a:lnTo>
                        <a:lnTo>
                          <a:pt x="12" y="53"/>
                        </a:lnTo>
                        <a:lnTo>
                          <a:pt x="42" y="13"/>
                        </a:lnTo>
                        <a:lnTo>
                          <a:pt x="42" y="10"/>
                        </a:lnTo>
                        <a:lnTo>
                          <a:pt x="42" y="13"/>
                        </a:lnTo>
                        <a:lnTo>
                          <a:pt x="42" y="10"/>
                        </a:lnTo>
                        <a:lnTo>
                          <a:pt x="2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64000" y="4989600"/>
                    <a:ext cx="9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5">
                        <a:moveTo>
                          <a:pt x="15" y="3"/>
                        </a:moveTo>
                        <a:lnTo>
                          <a:pt x="15" y="0"/>
                        </a:lnTo>
                        <a:lnTo>
                          <a:pt x="0" y="50"/>
                        </a:lnTo>
                        <a:lnTo>
                          <a:pt x="15" y="55"/>
                        </a:lnTo>
                        <a:lnTo>
                          <a:pt x="33" y="5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3"/>
                        </a:lnTo>
                        <a:lnTo>
                          <a:pt x="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68680" y="497664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8">
                        <a:moveTo>
                          <a:pt x="5" y="0"/>
                        </a:moveTo>
                        <a:lnTo>
                          <a:pt x="0" y="48"/>
                        </a:lnTo>
                        <a:lnTo>
                          <a:pt x="18" y="48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3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68680" y="496260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50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5" y="50"/>
                        </a:lnTo>
                        <a:lnTo>
                          <a:pt x="23" y="5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64000" y="4948200"/>
                    <a:ext cx="9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5">
                        <a:moveTo>
                          <a:pt x="0" y="13"/>
                        </a:moveTo>
                        <a:lnTo>
                          <a:pt x="0" y="10"/>
                        </a:lnTo>
                        <a:lnTo>
                          <a:pt x="15" y="55"/>
                        </a:lnTo>
                        <a:lnTo>
                          <a:pt x="33" y="50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57520" y="493884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0" y="13"/>
                        </a:moveTo>
                        <a:lnTo>
                          <a:pt x="27" y="53"/>
                        </a:lnTo>
                        <a:lnTo>
                          <a:pt x="42" y="40"/>
                        </a:lnTo>
                        <a:lnTo>
                          <a:pt x="12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46360" y="49276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0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38" y="50"/>
                        </a:lnTo>
                        <a:lnTo>
                          <a:pt x="50" y="37"/>
                        </a:lnTo>
                        <a:lnTo>
                          <a:pt x="13" y="2"/>
                        </a:lnTo>
                        <a:lnTo>
                          <a:pt x="10" y="0"/>
                        </a:lnTo>
                        <a:lnTo>
                          <a:pt x="13" y="2"/>
                        </a:lnTo>
                        <a:lnTo>
                          <a:pt x="10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35200" y="492120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43" y="42"/>
                        </a:lnTo>
                        <a:lnTo>
                          <a:pt x="50" y="25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22600" y="491796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">
                        <a:moveTo>
                          <a:pt x="0" y="20"/>
                        </a:moveTo>
                        <a:lnTo>
                          <a:pt x="0" y="17"/>
                        </a:lnTo>
                        <a:lnTo>
                          <a:pt x="48" y="27"/>
                        </a:lnTo>
                        <a:lnTo>
                          <a:pt x="50" y="1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508200" y="491796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5" y="17"/>
                        </a:moveTo>
                        <a:lnTo>
                          <a:pt x="2" y="20"/>
                        </a:lnTo>
                        <a:lnTo>
                          <a:pt x="52" y="20"/>
                        </a:lnTo>
                        <a:lnTo>
                          <a:pt x="5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5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494160" y="491796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7">
                        <a:moveTo>
                          <a:pt x="8" y="27"/>
                        </a:moveTo>
                        <a:lnTo>
                          <a:pt x="5" y="27"/>
                        </a:lnTo>
                        <a:lnTo>
                          <a:pt x="53" y="17"/>
                        </a:lnTo>
                        <a:lnTo>
                          <a:pt x="48" y="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  <a:lnTo>
                          <a:pt x="8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481560" y="4921200"/>
                    <a:ext cx="158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">
                        <a:moveTo>
                          <a:pt x="10" y="35"/>
                        </a:moveTo>
                        <a:lnTo>
                          <a:pt x="7" y="37"/>
                        </a:lnTo>
                        <a:lnTo>
                          <a:pt x="55" y="17"/>
                        </a:lnTo>
                        <a:lnTo>
                          <a:pt x="47" y="0"/>
                        </a:lnTo>
                        <a:lnTo>
                          <a:pt x="2" y="20"/>
                        </a:lnTo>
                        <a:lnTo>
                          <a:pt x="0" y="22"/>
                        </a:lnTo>
                        <a:lnTo>
                          <a:pt x="2" y="20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1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67160" y="4927680"/>
                    <a:ext cx="15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8">
                        <a:moveTo>
                          <a:pt x="13" y="45"/>
                        </a:moveTo>
                        <a:lnTo>
                          <a:pt x="10" y="48"/>
                        </a:lnTo>
                        <a:lnTo>
                          <a:pt x="58" y="13"/>
                        </a:lnTo>
                        <a:lnTo>
                          <a:pt x="48" y="0"/>
                        </a:lnTo>
                        <a:lnTo>
                          <a:pt x="0" y="33"/>
                        </a:lnTo>
                        <a:lnTo>
                          <a:pt x="13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05240" y="484200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0">
                        <a:moveTo>
                          <a:pt x="35" y="47"/>
                        </a:moveTo>
                        <a:lnTo>
                          <a:pt x="35" y="42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lnTo>
                          <a:pt x="17" y="50"/>
                        </a:lnTo>
                        <a:lnTo>
                          <a:pt x="17" y="47"/>
                        </a:lnTo>
                        <a:lnTo>
                          <a:pt x="37" y="47"/>
                        </a:lnTo>
                        <a:lnTo>
                          <a:pt x="35" y="45"/>
                        </a:lnTo>
                        <a:lnTo>
                          <a:pt x="35" y="42"/>
                        </a:lnTo>
                        <a:lnTo>
                          <a:pt x="35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09920" y="485460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20" y="48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3" y="4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09920" y="486720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18" y="47"/>
                        </a:moveTo>
                        <a:lnTo>
                          <a:pt x="18" y="42"/>
                        </a:lnTo>
                        <a:lnTo>
                          <a:pt x="20" y="0"/>
                        </a:lnTo>
                        <a:lnTo>
                          <a:pt x="3" y="0"/>
                        </a:lnTo>
                        <a:lnTo>
                          <a:pt x="0" y="42"/>
                        </a:lnTo>
                        <a:lnTo>
                          <a:pt x="0" y="40"/>
                        </a:lnTo>
                        <a:lnTo>
                          <a:pt x="18" y="47"/>
                        </a:lnTo>
                        <a:lnTo>
                          <a:pt x="18" y="45"/>
                        </a:lnTo>
                        <a:lnTo>
                          <a:pt x="20" y="42"/>
                        </a:lnTo>
                        <a:lnTo>
                          <a:pt x="18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03440" y="48783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7" y="55"/>
                        </a:moveTo>
                        <a:lnTo>
                          <a:pt x="17" y="52"/>
                        </a:lnTo>
                        <a:lnTo>
                          <a:pt x="40" y="7"/>
                        </a:lnTo>
                        <a:lnTo>
                          <a:pt x="22" y="0"/>
                        </a:lnTo>
                        <a:lnTo>
                          <a:pt x="0" y="47"/>
                        </a:lnTo>
                        <a:lnTo>
                          <a:pt x="2" y="45"/>
                        </a:lnTo>
                        <a:lnTo>
                          <a:pt x="17" y="55"/>
                        </a:lnTo>
                        <a:lnTo>
                          <a:pt x="17" y="52"/>
                        </a:lnTo>
                        <a:lnTo>
                          <a:pt x="1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397320" y="48909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7">
                        <a:moveTo>
                          <a:pt x="13" y="47"/>
                        </a:moveTo>
                        <a:lnTo>
                          <a:pt x="40" y="10"/>
                        </a:lnTo>
                        <a:lnTo>
                          <a:pt x="25" y="0"/>
                        </a:lnTo>
                        <a:lnTo>
                          <a:pt x="0" y="35"/>
                        </a:lnTo>
                        <a:lnTo>
                          <a:pt x="13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387600" y="490068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3" y="50"/>
                        </a:moveTo>
                        <a:lnTo>
                          <a:pt x="15" y="45"/>
                        </a:lnTo>
                        <a:lnTo>
                          <a:pt x="48" y="12"/>
                        </a:lnTo>
                        <a:lnTo>
                          <a:pt x="35" y="0"/>
                        </a:lnTo>
                        <a:lnTo>
                          <a:pt x="0" y="35"/>
                        </a:lnTo>
                        <a:lnTo>
                          <a:pt x="5" y="32"/>
                        </a:lnTo>
                        <a:lnTo>
                          <a:pt x="13" y="50"/>
                        </a:lnTo>
                        <a:lnTo>
                          <a:pt x="15" y="47"/>
                        </a:lnTo>
                        <a:lnTo>
                          <a:pt x="15" y="45"/>
                        </a:lnTo>
                        <a:lnTo>
                          <a:pt x="1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378240" y="490860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8">
                        <a:moveTo>
                          <a:pt x="5" y="38"/>
                        </a:moveTo>
                        <a:lnTo>
                          <a:pt x="7" y="38"/>
                        </a:lnTo>
                        <a:lnTo>
                          <a:pt x="50" y="18"/>
                        </a:lnTo>
                        <a:lnTo>
                          <a:pt x="42" y="0"/>
                        </a:lnTo>
                        <a:lnTo>
                          <a:pt x="0" y="20"/>
                        </a:lnTo>
                        <a:lnTo>
                          <a:pt x="2" y="20"/>
                        </a:lnTo>
                        <a:lnTo>
                          <a:pt x="5" y="38"/>
                        </a:lnTo>
                        <a:lnTo>
                          <a:pt x="7" y="38"/>
                        </a:lnTo>
                        <a:lnTo>
                          <a:pt x="5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365640" y="491508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0">
                        <a:moveTo>
                          <a:pt x="0" y="30"/>
                        </a:moveTo>
                        <a:lnTo>
                          <a:pt x="2" y="30"/>
                        </a:lnTo>
                        <a:lnTo>
                          <a:pt x="45" y="18"/>
                        </a:lnTo>
                        <a:lnTo>
                          <a:pt x="42" y="0"/>
                        </a:lnTo>
                        <a:lnTo>
                          <a:pt x="0" y="13"/>
                        </a:lnTo>
                        <a:lnTo>
                          <a:pt x="0" y="30"/>
                        </a:lnTo>
                        <a:lnTo>
                          <a:pt x="2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352680" y="491652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2">
                        <a:moveTo>
                          <a:pt x="0" y="15"/>
                        </a:moveTo>
                        <a:lnTo>
                          <a:pt x="3" y="15"/>
                        </a:lnTo>
                        <a:lnTo>
                          <a:pt x="48" y="22"/>
                        </a:lnTo>
                        <a:lnTo>
                          <a:pt x="48" y="5"/>
                        </a:lnTo>
                        <a:lnTo>
                          <a:pt x="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340080" y="491328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8">
                        <a:moveTo>
                          <a:pt x="0" y="15"/>
                        </a:moveTo>
                        <a:lnTo>
                          <a:pt x="3" y="18"/>
                        </a:lnTo>
                        <a:lnTo>
                          <a:pt x="45" y="28"/>
                        </a:lnTo>
                        <a:lnTo>
                          <a:pt x="48" y="13"/>
                        </a:lnTo>
                        <a:lnTo>
                          <a:pt x="5" y="0"/>
                        </a:lnTo>
                        <a:lnTo>
                          <a:pt x="8" y="3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3" y="1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328920" y="490680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7">
                        <a:moveTo>
                          <a:pt x="0" y="15"/>
                        </a:moveTo>
                        <a:lnTo>
                          <a:pt x="37" y="37"/>
                        </a:lnTo>
                        <a:lnTo>
                          <a:pt x="45" y="25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324240" y="4902120"/>
                    <a:ext cx="79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3">
                        <a:moveTo>
                          <a:pt x="17" y="18"/>
                        </a:moveTo>
                        <a:lnTo>
                          <a:pt x="5" y="23"/>
                        </a:lnTo>
                        <a:lnTo>
                          <a:pt x="20" y="33"/>
                        </a:lnTo>
                        <a:lnTo>
                          <a:pt x="27" y="18"/>
                        </a:lnTo>
                        <a:lnTo>
                          <a:pt x="15" y="8"/>
                        </a:lnTo>
                        <a:lnTo>
                          <a:pt x="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324240" y="49021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7" y="18"/>
                        </a:moveTo>
                        <a:lnTo>
                          <a:pt x="10" y="15"/>
                        </a:lnTo>
                        <a:lnTo>
                          <a:pt x="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321000" y="490680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5">
                        <a:moveTo>
                          <a:pt x="17" y="45"/>
                        </a:moveTo>
                        <a:lnTo>
                          <a:pt x="17" y="43"/>
                        </a:lnTo>
                        <a:lnTo>
                          <a:pt x="27" y="3"/>
                        </a:ln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7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316320" y="4917960"/>
                    <a:ext cx="9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50">
                        <a:moveTo>
                          <a:pt x="18" y="50"/>
                        </a:moveTo>
                        <a:lnTo>
                          <a:pt x="18" y="48"/>
                        </a:lnTo>
                        <a:lnTo>
                          <a:pt x="35" y="5"/>
                        </a:lnTo>
                        <a:lnTo>
                          <a:pt x="18" y="0"/>
                        </a:lnTo>
                        <a:lnTo>
                          <a:pt x="0" y="40"/>
                        </a:lnTo>
                        <a:lnTo>
                          <a:pt x="3" y="38"/>
                        </a:lnTo>
                        <a:lnTo>
                          <a:pt x="18" y="50"/>
                        </a:lnTo>
                        <a:lnTo>
                          <a:pt x="18" y="48"/>
                        </a:lnTo>
                        <a:lnTo>
                          <a:pt x="18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308400" y="49276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13" y="50"/>
                        </a:moveTo>
                        <a:lnTo>
                          <a:pt x="13" y="47"/>
                        </a:lnTo>
                        <a:lnTo>
                          <a:pt x="43" y="12"/>
                        </a:lnTo>
                        <a:lnTo>
                          <a:pt x="28" y="0"/>
                        </a:lnTo>
                        <a:lnTo>
                          <a:pt x="0" y="37"/>
                        </a:lnTo>
                        <a:lnTo>
                          <a:pt x="0" y="35"/>
                        </a:lnTo>
                        <a:lnTo>
                          <a:pt x="13" y="50"/>
                        </a:lnTo>
                        <a:lnTo>
                          <a:pt x="13" y="47"/>
                        </a:lnTo>
                        <a:lnTo>
                          <a:pt x="1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298680" y="493704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10" y="40"/>
                        </a:moveTo>
                        <a:lnTo>
                          <a:pt x="13" y="40"/>
                        </a:lnTo>
                        <a:lnTo>
                          <a:pt x="48" y="15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  <a:lnTo>
                          <a:pt x="3" y="22"/>
                        </a:lnTo>
                        <a:lnTo>
                          <a:pt x="10" y="40"/>
                        </a:lnTo>
                        <a:lnTo>
                          <a:pt x="13" y="40"/>
                        </a:lnTo>
                        <a:lnTo>
                          <a:pt x="1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289320" y="4943520"/>
                    <a:ext cx="12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5">
                        <a:moveTo>
                          <a:pt x="3" y="35"/>
                        </a:moveTo>
                        <a:lnTo>
                          <a:pt x="5" y="35"/>
                        </a:lnTo>
                        <a:lnTo>
                          <a:pt x="45" y="18"/>
                        </a:lnTo>
                        <a:lnTo>
                          <a:pt x="38" y="0"/>
                        </a:lnTo>
                        <a:lnTo>
                          <a:pt x="0" y="18"/>
                        </a:lnTo>
                        <a:lnTo>
                          <a:pt x="3" y="18"/>
                        </a:lnTo>
                        <a:lnTo>
                          <a:pt x="3" y="35"/>
                        </a:lnTo>
                        <a:lnTo>
                          <a:pt x="5" y="35"/>
                        </a:lnTo>
                        <a:lnTo>
                          <a:pt x="3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278160" y="494820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0" y="17"/>
                        </a:moveTo>
                        <a:lnTo>
                          <a:pt x="45" y="17"/>
                        </a:lnTo>
                        <a:lnTo>
                          <a:pt x="45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265560" y="494676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5">
                        <a:moveTo>
                          <a:pt x="0" y="18"/>
                        </a:moveTo>
                        <a:lnTo>
                          <a:pt x="43" y="25"/>
                        </a:lnTo>
                        <a:lnTo>
                          <a:pt x="45" y="8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254400" y="49417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3">
                        <a:moveTo>
                          <a:pt x="0" y="15"/>
                        </a:moveTo>
                        <a:lnTo>
                          <a:pt x="2" y="18"/>
                        </a:lnTo>
                        <a:lnTo>
                          <a:pt x="42" y="33"/>
                        </a:lnTo>
                        <a:lnTo>
                          <a:pt x="47" y="15"/>
                        </a:lnTo>
                        <a:lnTo>
                          <a:pt x="10" y="0"/>
                        </a:lnTo>
                        <a:lnTo>
                          <a:pt x="12" y="3"/>
                        </a:ln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243240" y="493236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0">
                        <a:moveTo>
                          <a:pt x="0" y="10"/>
                        </a:moveTo>
                        <a:lnTo>
                          <a:pt x="2" y="10"/>
                        </a:lnTo>
                        <a:lnTo>
                          <a:pt x="40" y="50"/>
                        </a:lnTo>
                        <a:lnTo>
                          <a:pt x="52" y="38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243240" y="493236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0" y="10"/>
                        </a:moveTo>
                        <a:lnTo>
                          <a:pt x="10" y="5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233880" y="4917960"/>
                    <a:ext cx="14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8"/>
                        </a:moveTo>
                        <a:lnTo>
                          <a:pt x="0" y="10"/>
                        </a:lnTo>
                        <a:lnTo>
                          <a:pt x="33" y="65"/>
                        </a:lnTo>
                        <a:lnTo>
                          <a:pt x="50" y="55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227400" y="4900680"/>
                    <a:ext cx="11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8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20" y="68"/>
                        </a:lnTo>
                        <a:lnTo>
                          <a:pt x="38" y="6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225960" y="4884840"/>
                    <a:ext cx="7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63">
                        <a:moveTo>
                          <a:pt x="0" y="0"/>
                        </a:moveTo>
                        <a:lnTo>
                          <a:pt x="7" y="63"/>
                        </a:lnTo>
                        <a:lnTo>
                          <a:pt x="25" y="63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225960" y="48672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62"/>
                        </a:lnTo>
                        <a:lnTo>
                          <a:pt x="17" y="62"/>
                        </a:lnTo>
                        <a:lnTo>
                          <a:pt x="17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225960" y="4849920"/>
                    <a:ext cx="9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7">
                        <a:moveTo>
                          <a:pt x="15" y="0"/>
                        </a:moveTo>
                        <a:lnTo>
                          <a:pt x="0" y="65"/>
                        </a:lnTo>
                        <a:lnTo>
                          <a:pt x="17" y="67"/>
                        </a:lnTo>
                        <a:lnTo>
                          <a:pt x="32" y="2"/>
                        </a:lnTo>
                        <a:lnTo>
                          <a:pt x="32" y="5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30640" y="4834080"/>
                    <a:ext cx="111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25" y="0"/>
                        </a:moveTo>
                        <a:lnTo>
                          <a:pt x="25" y="3"/>
                        </a:lnTo>
                        <a:lnTo>
                          <a:pt x="0" y="58"/>
                        </a:lnTo>
                        <a:lnTo>
                          <a:pt x="17" y="63"/>
                        </a:lnTo>
                        <a:lnTo>
                          <a:pt x="42" y="8"/>
                        </a:lnTo>
                        <a:lnTo>
                          <a:pt x="42" y="1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236760" y="4818240"/>
                    <a:ext cx="144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7">
                        <a:moveTo>
                          <a:pt x="32" y="0"/>
                        </a:moveTo>
                        <a:lnTo>
                          <a:pt x="0" y="57"/>
                        </a:lnTo>
                        <a:lnTo>
                          <a:pt x="17" y="67"/>
                        </a:lnTo>
                        <a:lnTo>
                          <a:pt x="50" y="10"/>
                        </a:lnTo>
                        <a:lnTo>
                          <a:pt x="47" y="1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246480" y="480528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5">
                        <a:moveTo>
                          <a:pt x="45" y="0"/>
                        </a:moveTo>
                        <a:lnTo>
                          <a:pt x="43" y="0"/>
                        </a:lnTo>
                        <a:lnTo>
                          <a:pt x="0" y="45"/>
                        </a:lnTo>
                        <a:lnTo>
                          <a:pt x="15" y="55"/>
                        </a:lnTo>
                        <a:lnTo>
                          <a:pt x="58" y="12"/>
                        </a:lnTo>
                        <a:lnTo>
                          <a:pt x="55" y="1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259080" y="4795920"/>
                    <a:ext cx="158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2">
                        <a:moveTo>
                          <a:pt x="50" y="0"/>
                        </a:moveTo>
                        <a:lnTo>
                          <a:pt x="48" y="0"/>
                        </a:lnTo>
                        <a:lnTo>
                          <a:pt x="0" y="40"/>
                        </a:lnTo>
                        <a:lnTo>
                          <a:pt x="10" y="52"/>
                        </a:lnTo>
                        <a:lnTo>
                          <a:pt x="58" y="15"/>
                        </a:lnTo>
                        <a:lnTo>
                          <a:pt x="55" y="15"/>
                        </a:lnTo>
                        <a:lnTo>
                          <a:pt x="50" y="0"/>
                        </a:lnTo>
                        <a:lnTo>
                          <a:pt x="48" y="0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273480" y="4788000"/>
                    <a:ext cx="17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3">
                        <a:moveTo>
                          <a:pt x="58" y="0"/>
                        </a:moveTo>
                        <a:lnTo>
                          <a:pt x="55" y="0"/>
                        </a:lnTo>
                        <a:lnTo>
                          <a:pt x="0" y="28"/>
                        </a:lnTo>
                        <a:lnTo>
                          <a:pt x="5" y="43"/>
                        </a:lnTo>
                        <a:lnTo>
                          <a:pt x="60" y="18"/>
                        </a:lnTo>
                        <a:lnTo>
                          <a:pt x="58" y="0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289320" y="478296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3">
                        <a:moveTo>
                          <a:pt x="60" y="0"/>
                        </a:moveTo>
                        <a:lnTo>
                          <a:pt x="57" y="0"/>
                        </a:lnTo>
                        <a:lnTo>
                          <a:pt x="0" y="15"/>
                        </a:lnTo>
                        <a:lnTo>
                          <a:pt x="2" y="33"/>
                        </a:lnTo>
                        <a:lnTo>
                          <a:pt x="62" y="18"/>
                        </a:lnTo>
                        <a:lnTo>
                          <a:pt x="60" y="18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305160" y="4781520"/>
                    <a:ext cx="176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5">
                        <a:moveTo>
                          <a:pt x="62" y="2"/>
                        </a:moveTo>
                        <a:lnTo>
                          <a:pt x="0" y="7"/>
                        </a:lnTo>
                        <a:lnTo>
                          <a:pt x="0" y="25"/>
                        </a:lnTo>
                        <a:lnTo>
                          <a:pt x="62" y="17"/>
                        </a:lnTo>
                        <a:lnTo>
                          <a:pt x="62" y="2"/>
                        </a:lnTo>
                        <a:lnTo>
                          <a:pt x="62" y="0"/>
                        </a:lnTo>
                        <a:lnTo>
                          <a:pt x="6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322800" y="4781520"/>
                    <a:ext cx="18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3">
                        <a:moveTo>
                          <a:pt x="65" y="5"/>
                        </a:moveTo>
                        <a:lnTo>
                          <a:pt x="60" y="5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60" y="23"/>
                        </a:lnTo>
                        <a:lnTo>
                          <a:pt x="58" y="23"/>
                        </a:lnTo>
                        <a:lnTo>
                          <a:pt x="65" y="5"/>
                        </a:lnTo>
                        <a:lnTo>
                          <a:pt x="63" y="5"/>
                        </a:lnTo>
                        <a:lnTo>
                          <a:pt x="60" y="5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340080" y="478296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8">
                        <a:moveTo>
                          <a:pt x="67" y="20"/>
                        </a:moveTo>
                        <a:lnTo>
                          <a:pt x="65" y="2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60" y="38"/>
                        </a:lnTo>
                        <a:lnTo>
                          <a:pt x="57" y="38"/>
                        </a:lnTo>
                        <a:lnTo>
                          <a:pt x="67" y="20"/>
                        </a:lnTo>
                        <a:lnTo>
                          <a:pt x="65" y="20"/>
                        </a:lnTo>
                        <a:lnTo>
                          <a:pt x="67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355920" y="4789440"/>
                    <a:ext cx="17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5">
                        <a:moveTo>
                          <a:pt x="63" y="28"/>
                        </a:move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53" y="45"/>
                        </a:lnTo>
                        <a:lnTo>
                          <a:pt x="53" y="43"/>
                        </a:lnTo>
                        <a:lnTo>
                          <a:pt x="6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370320" y="479736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5">
                        <a:moveTo>
                          <a:pt x="60" y="42"/>
                        </a:moveTo>
                        <a:lnTo>
                          <a:pt x="57" y="42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47" y="55"/>
                        </a:lnTo>
                        <a:lnTo>
                          <a:pt x="45" y="55"/>
                        </a:lnTo>
                        <a:lnTo>
                          <a:pt x="6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382920" y="4808520"/>
                    <a:ext cx="17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8">
                        <a:moveTo>
                          <a:pt x="60" y="48"/>
                        </a:moveTo>
                        <a:lnTo>
                          <a:pt x="57" y="48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lnTo>
                          <a:pt x="42" y="58"/>
                        </a:lnTo>
                        <a:lnTo>
                          <a:pt x="60" y="48"/>
                        </a:lnTo>
                        <a:lnTo>
                          <a:pt x="57" y="48"/>
                        </a:lnTo>
                        <a:lnTo>
                          <a:pt x="6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394080" y="4821120"/>
                    <a:ext cx="144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7">
                        <a:moveTo>
                          <a:pt x="48" y="57"/>
                        </a:move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30" y="6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403440" y="48369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">
                        <a:moveTo>
                          <a:pt x="25" y="18"/>
                        </a:moveTo>
                        <a:lnTo>
                          <a:pt x="25" y="15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8" y="23"/>
                        </a:lnTo>
                        <a:lnTo>
                          <a:pt x="25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062160" y="45752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0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0" y="50"/>
                        </a:lnTo>
                        <a:lnTo>
                          <a:pt x="13" y="60"/>
                        </a:lnTo>
                        <a:lnTo>
                          <a:pt x="43" y="10"/>
                        </a:lnTo>
                        <a:lnTo>
                          <a:pt x="43" y="1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071880" y="456084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38" y="0"/>
                        </a:moveTo>
                        <a:lnTo>
                          <a:pt x="38" y="3"/>
                        </a:lnTo>
                        <a:lnTo>
                          <a:pt x="0" y="53"/>
                        </a:lnTo>
                        <a:lnTo>
                          <a:pt x="13" y="65"/>
                        </a:lnTo>
                        <a:lnTo>
                          <a:pt x="50" y="13"/>
                        </a:lnTo>
                        <a:lnTo>
                          <a:pt x="50" y="15"/>
                        </a:lnTo>
                        <a:lnTo>
                          <a:pt x="38" y="0"/>
                        </a:lnTo>
                        <a:lnTo>
                          <a:pt x="38" y="3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081240" y="4551480"/>
                    <a:ext cx="176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52">
                        <a:moveTo>
                          <a:pt x="52" y="0"/>
                        </a:moveTo>
                        <a:lnTo>
                          <a:pt x="50" y="0"/>
                        </a:lnTo>
                        <a:lnTo>
                          <a:pt x="0" y="37"/>
                        </a:lnTo>
                        <a:lnTo>
                          <a:pt x="12" y="52"/>
                        </a:lnTo>
                        <a:lnTo>
                          <a:pt x="62" y="15"/>
                        </a:lnTo>
                        <a:lnTo>
                          <a:pt x="60" y="17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095640" y="454356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5">
                        <a:moveTo>
                          <a:pt x="53" y="0"/>
                        </a:moveTo>
                        <a:lnTo>
                          <a:pt x="50" y="0"/>
                        </a:lnTo>
                        <a:lnTo>
                          <a:pt x="0" y="28"/>
                        </a:lnTo>
                        <a:lnTo>
                          <a:pt x="8" y="45"/>
                        </a:lnTo>
                        <a:lnTo>
                          <a:pt x="60" y="18"/>
                        </a:lnTo>
                        <a:lnTo>
                          <a:pt x="58" y="18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111480" y="453708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0">
                        <a:moveTo>
                          <a:pt x="65" y="0"/>
                        </a:moveTo>
                        <a:lnTo>
                          <a:pt x="62" y="0"/>
                        </a:lnTo>
                        <a:lnTo>
                          <a:pt x="0" y="22"/>
                        </a:lnTo>
                        <a:lnTo>
                          <a:pt x="5" y="40"/>
                        </a:lnTo>
                        <a:lnTo>
                          <a:pt x="67" y="17"/>
                        </a:lnTo>
                        <a:lnTo>
                          <a:pt x="65" y="17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129120" y="4537080"/>
                    <a:ext cx="17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60" y="0"/>
                        </a:moveTo>
                        <a:lnTo>
                          <a:pt x="0" y="5"/>
                        </a:lnTo>
                        <a:lnTo>
                          <a:pt x="0" y="22"/>
                        </a:lnTo>
                        <a:lnTo>
                          <a:pt x="60" y="17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146400" y="4537080"/>
                    <a:ext cx="19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2">
                        <a:moveTo>
                          <a:pt x="65" y="5"/>
                        </a:moveTo>
                        <a:lnTo>
                          <a:pt x="62" y="5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62" y="22"/>
                        </a:lnTo>
                        <a:lnTo>
                          <a:pt x="57" y="22"/>
                        </a:lnTo>
                        <a:lnTo>
                          <a:pt x="65" y="5"/>
                        </a:lnTo>
                        <a:lnTo>
                          <a:pt x="62" y="5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162240" y="4537080"/>
                    <a:ext cx="19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5">
                        <a:moveTo>
                          <a:pt x="70" y="20"/>
                        </a:moveTo>
                        <a:lnTo>
                          <a:pt x="8" y="0"/>
                        </a:lnTo>
                        <a:lnTo>
                          <a:pt x="0" y="17"/>
                        </a:lnTo>
                        <a:lnTo>
                          <a:pt x="63" y="35"/>
                        </a:lnTo>
                        <a:lnTo>
                          <a:pt x="7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179880" y="4543560"/>
                    <a:ext cx="19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0">
                        <a:moveTo>
                          <a:pt x="65" y="25"/>
                        </a:moveTo>
                        <a:lnTo>
                          <a:pt x="62" y="22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57" y="40"/>
                        </a:lnTo>
                        <a:lnTo>
                          <a:pt x="55" y="40"/>
                        </a:lnTo>
                        <a:lnTo>
                          <a:pt x="65" y="25"/>
                        </a:lnTo>
                        <a:lnTo>
                          <a:pt x="65" y="22"/>
                        </a:lnTo>
                        <a:lnTo>
                          <a:pt x="62" y="22"/>
                        </a:lnTo>
                        <a:lnTo>
                          <a:pt x="65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195720" y="4549680"/>
                    <a:ext cx="17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60" y="37"/>
                        </a:moveTo>
                        <a:lnTo>
                          <a:pt x="57" y="37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47" y="52"/>
                        </a:lnTo>
                        <a:lnTo>
                          <a:pt x="45" y="50"/>
                        </a:lnTo>
                        <a:lnTo>
                          <a:pt x="60" y="37"/>
                        </a:lnTo>
                        <a:lnTo>
                          <a:pt x="57" y="37"/>
                        </a:lnTo>
                        <a:lnTo>
                          <a:pt x="6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208320" y="456084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0">
                        <a:moveTo>
                          <a:pt x="55" y="48"/>
                        </a:moveTo>
                        <a:lnTo>
                          <a:pt x="15" y="0"/>
                        </a:lnTo>
                        <a:lnTo>
                          <a:pt x="0" y="13"/>
                        </a:lnTo>
                        <a:lnTo>
                          <a:pt x="40" y="60"/>
                        </a:lnTo>
                        <a:lnTo>
                          <a:pt x="40" y="58"/>
                        </a:lnTo>
                        <a:lnTo>
                          <a:pt x="5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219480" y="4573440"/>
                    <a:ext cx="126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0">
                        <a:moveTo>
                          <a:pt x="47" y="52"/>
                        </a:moveTo>
                        <a:lnTo>
                          <a:pt x="45" y="52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30" y="60"/>
                        </a:lnTo>
                        <a:lnTo>
                          <a:pt x="47" y="52"/>
                        </a:lnTo>
                        <a:lnTo>
                          <a:pt x="45" y="52"/>
                        </a:lnTo>
                        <a:lnTo>
                          <a:pt x="47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227400" y="458784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5">
                        <a:moveTo>
                          <a:pt x="37" y="60"/>
                        </a:moveTo>
                        <a:lnTo>
                          <a:pt x="37" y="58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20" y="65"/>
                        </a:lnTo>
                        <a:lnTo>
                          <a:pt x="20" y="63"/>
                        </a:lnTo>
                        <a:lnTo>
                          <a:pt x="37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33880" y="460368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5">
                        <a:moveTo>
                          <a:pt x="27" y="63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0" y="65"/>
                        </a:lnTo>
                        <a:lnTo>
                          <a:pt x="7" y="63"/>
                        </a:lnTo>
                        <a:lnTo>
                          <a:pt x="27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235320" y="46213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0">
                        <a:moveTo>
                          <a:pt x="13" y="22"/>
                        </a:moveTo>
                        <a:lnTo>
                          <a:pt x="20" y="3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8" y="40"/>
                        </a:lnTo>
                        <a:lnTo>
                          <a:pt x="0" y="32"/>
                        </a:lnTo>
                        <a:lnTo>
                          <a:pt x="0" y="37"/>
                        </a:lnTo>
                        <a:lnTo>
                          <a:pt x="8" y="40"/>
                        </a:lnTo>
                        <a:lnTo>
                          <a:pt x="1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235320" y="4627440"/>
                    <a:ext cx="3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8">
                        <a:moveTo>
                          <a:pt x="13" y="0"/>
                        </a:moveTo>
                        <a:lnTo>
                          <a:pt x="10" y="10"/>
                        </a:lnTo>
                        <a:lnTo>
                          <a:pt x="8" y="1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8" y="1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236760" y="4627440"/>
                    <a:ext cx="17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8">
                        <a:moveTo>
                          <a:pt x="62" y="20"/>
                        </a:moveTo>
                        <a:lnTo>
                          <a:pt x="60" y="20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55" y="38"/>
                        </a:lnTo>
                        <a:lnTo>
                          <a:pt x="52" y="38"/>
                        </a:lnTo>
                        <a:lnTo>
                          <a:pt x="6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251160" y="4632480"/>
                    <a:ext cx="17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5">
                        <a:moveTo>
                          <a:pt x="63" y="28"/>
                        </a:moveTo>
                        <a:lnTo>
                          <a:pt x="60" y="28"/>
                        </a:ln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50" y="45"/>
                        </a:lnTo>
                        <a:lnTo>
                          <a:pt x="50" y="43"/>
                        </a:lnTo>
                        <a:lnTo>
                          <a:pt x="63" y="28"/>
                        </a:lnTo>
                        <a:lnTo>
                          <a:pt x="60" y="28"/>
                        </a:lnTo>
                        <a:lnTo>
                          <a:pt x="6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265560" y="464040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60" y="47"/>
                        </a:moveTo>
                        <a:lnTo>
                          <a:pt x="58" y="45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45" y="57"/>
                        </a:lnTo>
                        <a:lnTo>
                          <a:pt x="45" y="55"/>
                        </a:lnTo>
                        <a:lnTo>
                          <a:pt x="60" y="47"/>
                        </a:lnTo>
                        <a:lnTo>
                          <a:pt x="60" y="45"/>
                        </a:lnTo>
                        <a:lnTo>
                          <a:pt x="58" y="45"/>
                        </a:lnTo>
                        <a:lnTo>
                          <a:pt x="60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8160" y="465300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50"/>
                        </a:moveTo>
                        <a:lnTo>
                          <a:pt x="45" y="48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30" y="58"/>
                        </a:lnTo>
                        <a:lnTo>
                          <a:pt x="30" y="55"/>
                        </a:lnTo>
                        <a:lnTo>
                          <a:pt x="48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286080" y="466740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5">
                        <a:moveTo>
                          <a:pt x="38" y="53"/>
                        </a:moveTo>
                        <a:lnTo>
                          <a:pt x="38" y="50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23" y="55"/>
                        </a:lnTo>
                        <a:lnTo>
                          <a:pt x="38" y="53"/>
                        </a:lnTo>
                        <a:lnTo>
                          <a:pt x="38" y="50"/>
                        </a:lnTo>
                        <a:lnTo>
                          <a:pt x="38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294000" y="468144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7"/>
                        </a:moveTo>
                        <a:lnTo>
                          <a:pt x="15" y="0"/>
                        </a:lnTo>
                        <a:lnTo>
                          <a:pt x="0" y="2"/>
                        </a:lnTo>
                        <a:lnTo>
                          <a:pt x="12" y="60"/>
                        </a:lnTo>
                        <a:lnTo>
                          <a:pt x="10" y="57"/>
                        </a:lnTo>
                        <a:lnTo>
                          <a:pt x="3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95800" y="469728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3">
                        <a:moveTo>
                          <a:pt x="20" y="6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63"/>
                        </a:lnTo>
                        <a:lnTo>
                          <a:pt x="2" y="60"/>
                        </a:lnTo>
                        <a:lnTo>
                          <a:pt x="20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294000" y="471312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3">
                        <a:moveTo>
                          <a:pt x="18" y="63"/>
                        </a:moveTo>
                        <a:lnTo>
                          <a:pt x="18" y="60"/>
                        </a:lnTo>
                        <a:lnTo>
                          <a:pt x="28" y="3"/>
                        </a:lnTo>
                        <a:lnTo>
                          <a:pt x="10" y="0"/>
                        </a:lnTo>
                        <a:lnTo>
                          <a:pt x="0" y="58"/>
                        </a:lnTo>
                        <a:lnTo>
                          <a:pt x="0" y="55"/>
                        </a:lnTo>
                        <a:lnTo>
                          <a:pt x="18" y="63"/>
                        </a:lnTo>
                        <a:lnTo>
                          <a:pt x="18" y="60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286080" y="4729320"/>
                    <a:ext cx="12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18" y="63"/>
                        </a:moveTo>
                        <a:lnTo>
                          <a:pt x="18" y="60"/>
                        </a:lnTo>
                        <a:lnTo>
                          <a:pt x="43" y="8"/>
                        </a:lnTo>
                        <a:lnTo>
                          <a:pt x="25" y="0"/>
                        </a:lnTo>
                        <a:lnTo>
                          <a:pt x="0" y="55"/>
                        </a:lnTo>
                        <a:lnTo>
                          <a:pt x="3" y="53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279600" y="47433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7">
                        <a:moveTo>
                          <a:pt x="15" y="57"/>
                        </a:moveTo>
                        <a:lnTo>
                          <a:pt x="45" y="10"/>
                        </a:lnTo>
                        <a:lnTo>
                          <a:pt x="30" y="0"/>
                        </a:lnTo>
                        <a:lnTo>
                          <a:pt x="0" y="47"/>
                        </a:lnTo>
                        <a:lnTo>
                          <a:pt x="15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267000" y="475632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5">
                        <a:moveTo>
                          <a:pt x="13" y="55"/>
                        </a:moveTo>
                        <a:lnTo>
                          <a:pt x="15" y="53"/>
                        </a:lnTo>
                        <a:lnTo>
                          <a:pt x="58" y="10"/>
                        </a:lnTo>
                        <a:lnTo>
                          <a:pt x="43" y="0"/>
                        </a:lnTo>
                        <a:lnTo>
                          <a:pt x="0" y="43"/>
                        </a:lnTo>
                        <a:lnTo>
                          <a:pt x="3" y="40"/>
                        </a:lnTo>
                        <a:lnTo>
                          <a:pt x="13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268800" y="47671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10" y="15"/>
                        </a:move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268800" y="47671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10" y="15"/>
                        </a:move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251160" y="4767120"/>
                    <a:ext cx="190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10" y="68"/>
                        </a:moveTo>
                        <a:lnTo>
                          <a:pt x="68" y="15"/>
                        </a:lnTo>
                        <a:lnTo>
                          <a:pt x="58" y="0"/>
                        </a:lnTo>
                        <a:lnTo>
                          <a:pt x="0" y="53"/>
                        </a:lnTo>
                        <a:lnTo>
                          <a:pt x="1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33880" y="4781520"/>
                    <a:ext cx="20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10" y="55"/>
                        </a:moveTo>
                        <a:lnTo>
                          <a:pt x="10" y="52"/>
                        </a:lnTo>
                        <a:lnTo>
                          <a:pt x="75" y="15"/>
                        </a:lnTo>
                        <a:lnTo>
                          <a:pt x="65" y="0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1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14800" y="4791240"/>
                    <a:ext cx="21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5">
                        <a:moveTo>
                          <a:pt x="7" y="55"/>
                        </a:moveTo>
                        <a:lnTo>
                          <a:pt x="10" y="55"/>
                        </a:lnTo>
                        <a:lnTo>
                          <a:pt x="77" y="18"/>
                        </a:lnTo>
                        <a:lnTo>
                          <a:pt x="67" y="0"/>
                        </a:lnTo>
                        <a:lnTo>
                          <a:pt x="0" y="38"/>
                        </a:lnTo>
                        <a:lnTo>
                          <a:pt x="2" y="38"/>
                        </a:lnTo>
                        <a:lnTo>
                          <a:pt x="7" y="55"/>
                        </a:lnTo>
                        <a:lnTo>
                          <a:pt x="10" y="55"/>
                        </a:lnTo>
                        <a:lnTo>
                          <a:pt x="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195720" y="4802040"/>
                    <a:ext cx="20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7">
                        <a:moveTo>
                          <a:pt x="3" y="37"/>
                        </a:moveTo>
                        <a:lnTo>
                          <a:pt x="5" y="37"/>
                        </a:lnTo>
                        <a:lnTo>
                          <a:pt x="75" y="17"/>
                        </a:lnTo>
                        <a:lnTo>
                          <a:pt x="70" y="0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3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173400" y="4808520"/>
                    <a:ext cx="22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8">
                        <a:moveTo>
                          <a:pt x="0" y="28"/>
                        </a:moveTo>
                        <a:lnTo>
                          <a:pt x="80" y="15"/>
                        </a:lnTo>
                        <a:lnTo>
                          <a:pt x="80" y="0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152880" y="480996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0">
                        <a:moveTo>
                          <a:pt x="0" y="20"/>
                        </a:moveTo>
                        <a:lnTo>
                          <a:pt x="2" y="20"/>
                        </a:lnTo>
                        <a:lnTo>
                          <a:pt x="75" y="20"/>
                        </a:lnTo>
                        <a:lnTo>
                          <a:pt x="75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130560" y="4807080"/>
                    <a:ext cx="223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3">
                        <a:moveTo>
                          <a:pt x="0" y="18"/>
                        </a:moveTo>
                        <a:lnTo>
                          <a:pt x="3" y="18"/>
                        </a:lnTo>
                        <a:lnTo>
                          <a:pt x="78" y="33"/>
                        </a:lnTo>
                        <a:lnTo>
                          <a:pt x="80" y="1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110040" y="4800600"/>
                    <a:ext cx="21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0">
                        <a:moveTo>
                          <a:pt x="0" y="17"/>
                        </a:moveTo>
                        <a:lnTo>
                          <a:pt x="75" y="40"/>
                        </a:lnTo>
                        <a:lnTo>
                          <a:pt x="80" y="22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90960" y="479124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2">
                        <a:moveTo>
                          <a:pt x="0" y="17"/>
                        </a:moveTo>
                        <a:lnTo>
                          <a:pt x="2" y="17"/>
                        </a:lnTo>
                        <a:lnTo>
                          <a:pt x="72" y="52"/>
                        </a:lnTo>
                        <a:lnTo>
                          <a:pt x="80" y="35"/>
                        </a:lnTo>
                        <a:lnTo>
                          <a:pt x="10" y="0"/>
                        </a:lnTo>
                        <a:lnTo>
                          <a:pt x="12" y="2"/>
                        </a:lnTo>
                        <a:lnTo>
                          <a:pt x="0" y="17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073320" y="4780080"/>
                    <a:ext cx="20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0">
                        <a:moveTo>
                          <a:pt x="0" y="13"/>
                        </a:moveTo>
                        <a:lnTo>
                          <a:pt x="60" y="60"/>
                        </a:lnTo>
                        <a:lnTo>
                          <a:pt x="72" y="45"/>
                        </a:lnTo>
                        <a:lnTo>
                          <a:pt x="1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057480" y="476568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5">
                        <a:moveTo>
                          <a:pt x="0" y="15"/>
                        </a:moveTo>
                        <a:lnTo>
                          <a:pt x="55" y="65"/>
                        </a:lnTo>
                        <a:lnTo>
                          <a:pt x="65" y="52"/>
                        </a:lnTo>
                        <a:lnTo>
                          <a:pt x="12" y="0"/>
                        </a:lnTo>
                        <a:lnTo>
                          <a:pt x="12" y="2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044880" y="4749840"/>
                    <a:ext cx="17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3">
                        <a:moveTo>
                          <a:pt x="0" y="10"/>
                        </a:moveTo>
                        <a:lnTo>
                          <a:pt x="3" y="10"/>
                        </a:lnTo>
                        <a:lnTo>
                          <a:pt x="48" y="73"/>
                        </a:lnTo>
                        <a:lnTo>
                          <a:pt x="60" y="60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033720" y="473076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7">
                        <a:moveTo>
                          <a:pt x="0" y="7"/>
                        </a:moveTo>
                        <a:lnTo>
                          <a:pt x="35" y="77"/>
                        </a:lnTo>
                        <a:lnTo>
                          <a:pt x="53" y="67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027240" y="4711680"/>
                    <a:ext cx="129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7">
                        <a:moveTo>
                          <a:pt x="0" y="2"/>
                        </a:moveTo>
                        <a:lnTo>
                          <a:pt x="0" y="5"/>
                        </a:lnTo>
                        <a:lnTo>
                          <a:pt x="25" y="77"/>
                        </a:lnTo>
                        <a:lnTo>
                          <a:pt x="43" y="70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024360" y="469116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5">
                        <a:moveTo>
                          <a:pt x="0" y="0"/>
                        </a:moveTo>
                        <a:lnTo>
                          <a:pt x="10" y="75"/>
                        </a:lnTo>
                        <a:lnTo>
                          <a:pt x="28" y="75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024360" y="4670280"/>
                    <a:ext cx="6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5">
                        <a:moveTo>
                          <a:pt x="0" y="0"/>
                        </a:moveTo>
                        <a:lnTo>
                          <a:pt x="2" y="75"/>
                        </a:lnTo>
                        <a:lnTo>
                          <a:pt x="20" y="7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024360" y="464976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75">
                        <a:moveTo>
                          <a:pt x="10" y="0"/>
                        </a:moveTo>
                        <a:lnTo>
                          <a:pt x="0" y="75"/>
                        </a:lnTo>
                        <a:lnTo>
                          <a:pt x="17" y="75"/>
                        </a:lnTo>
                        <a:lnTo>
                          <a:pt x="27" y="0"/>
                        </a:lnTo>
                        <a:lnTo>
                          <a:pt x="27" y="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027240" y="4630680"/>
                    <a:ext cx="11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8">
                        <a:moveTo>
                          <a:pt x="22" y="0"/>
                        </a:moveTo>
                        <a:lnTo>
                          <a:pt x="22" y="3"/>
                        </a:lnTo>
                        <a:lnTo>
                          <a:pt x="0" y="75"/>
                        </a:lnTo>
                        <a:lnTo>
                          <a:pt x="17" y="78"/>
                        </a:lnTo>
                        <a:lnTo>
                          <a:pt x="40" y="5"/>
                        </a:lnTo>
                        <a:lnTo>
                          <a:pt x="40" y="8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33720" y="462132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8">
                        <a:moveTo>
                          <a:pt x="13" y="0"/>
                        </a:moveTo>
                        <a:lnTo>
                          <a:pt x="10" y="3"/>
                        </a:lnTo>
                        <a:lnTo>
                          <a:pt x="0" y="30"/>
                        </a:lnTo>
                        <a:lnTo>
                          <a:pt x="18" y="38"/>
                        </a:lnTo>
                        <a:lnTo>
                          <a:pt x="28" y="8"/>
                        </a:lnTo>
                        <a:lnTo>
                          <a:pt x="28" y="1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0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036960" y="4589640"/>
                    <a:ext cx="302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27">
                        <a:moveTo>
                          <a:pt x="92" y="0"/>
                        </a:moveTo>
                        <a:lnTo>
                          <a:pt x="0" y="117"/>
                        </a:lnTo>
                        <a:lnTo>
                          <a:pt x="15" y="127"/>
                        </a:lnTo>
                        <a:lnTo>
                          <a:pt x="105" y="10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882800" y="369396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2">
                        <a:moveTo>
                          <a:pt x="12" y="70"/>
                        </a:moveTo>
                        <a:lnTo>
                          <a:pt x="10" y="72"/>
                        </a:lnTo>
                        <a:lnTo>
                          <a:pt x="107" y="12"/>
                        </a:lnTo>
                        <a:lnTo>
                          <a:pt x="97" y="0"/>
                        </a:lnTo>
                        <a:lnTo>
                          <a:pt x="2" y="57"/>
                        </a:lnTo>
                        <a:lnTo>
                          <a:pt x="0" y="60"/>
                        </a:lnTo>
                        <a:lnTo>
                          <a:pt x="2" y="57"/>
                        </a:lnTo>
                        <a:lnTo>
                          <a:pt x="0" y="57"/>
                        </a:lnTo>
                        <a:lnTo>
                          <a:pt x="0" y="60"/>
                        </a:lnTo>
                        <a:lnTo>
                          <a:pt x="1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862280" y="3710160"/>
                    <a:ext cx="23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2">
                        <a:moveTo>
                          <a:pt x="15" y="82"/>
                        </a:moveTo>
                        <a:lnTo>
                          <a:pt x="12" y="82"/>
                        </a:lnTo>
                        <a:lnTo>
                          <a:pt x="87" y="10"/>
                        </a:lnTo>
                        <a:lnTo>
                          <a:pt x="75" y="0"/>
                        </a:lnTo>
                        <a:lnTo>
                          <a:pt x="2" y="72"/>
                        </a:lnTo>
                        <a:lnTo>
                          <a:pt x="0" y="72"/>
                        </a:lnTo>
                        <a:lnTo>
                          <a:pt x="15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843200" y="373068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90">
                        <a:moveTo>
                          <a:pt x="18" y="90"/>
                        </a:moveTo>
                        <a:lnTo>
                          <a:pt x="15" y="90"/>
                        </a:lnTo>
                        <a:lnTo>
                          <a:pt x="83" y="10"/>
                        </a:lnTo>
                        <a:lnTo>
                          <a:pt x="68" y="0"/>
                        </a:lnTo>
                        <a:lnTo>
                          <a:pt x="0" y="80"/>
                        </a:lnTo>
                        <a:lnTo>
                          <a:pt x="18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830240" y="3751200"/>
                    <a:ext cx="190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17" y="103"/>
                        </a:moveTo>
                        <a:lnTo>
                          <a:pt x="17" y="105"/>
                        </a:lnTo>
                        <a:lnTo>
                          <a:pt x="65" y="10"/>
                        </a:lnTo>
                        <a:lnTo>
                          <a:pt x="47" y="0"/>
                        </a:lnTo>
                        <a:lnTo>
                          <a:pt x="0" y="95"/>
                        </a:lnTo>
                        <a:lnTo>
                          <a:pt x="0" y="98"/>
                        </a:lnTo>
                        <a:lnTo>
                          <a:pt x="1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820880" y="37782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0">
                        <a:moveTo>
                          <a:pt x="17" y="107"/>
                        </a:moveTo>
                        <a:lnTo>
                          <a:pt x="17" y="110"/>
                        </a:lnTo>
                        <a:lnTo>
                          <a:pt x="52" y="5"/>
                        </a:lnTo>
                        <a:lnTo>
                          <a:pt x="35" y="0"/>
                        </a:lnTo>
                        <a:lnTo>
                          <a:pt x="0" y="102"/>
                        </a:lnTo>
                        <a:lnTo>
                          <a:pt x="0" y="107"/>
                        </a:lnTo>
                        <a:lnTo>
                          <a:pt x="17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816200" y="3808440"/>
                    <a:ext cx="9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0">
                        <a:moveTo>
                          <a:pt x="20" y="100"/>
                        </a:move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2" y="100"/>
                        </a:lnTo>
                        <a:lnTo>
                          <a:pt x="0" y="100"/>
                        </a:lnTo>
                        <a:lnTo>
                          <a:pt x="2" y="100"/>
                        </a:lnTo>
                        <a:lnTo>
                          <a:pt x="2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816200" y="383544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0">
                        <a:moveTo>
                          <a:pt x="25" y="108"/>
                        </a:moveTo>
                        <a:lnTo>
                          <a:pt x="25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8" y="110"/>
                        </a:lnTo>
                        <a:lnTo>
                          <a:pt x="25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819440" y="3865680"/>
                    <a:ext cx="108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5">
                        <a:moveTo>
                          <a:pt x="40" y="100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22" y="105"/>
                        </a:lnTo>
                        <a:lnTo>
                          <a:pt x="4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25560" y="3892680"/>
                    <a:ext cx="15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12">
                        <a:moveTo>
                          <a:pt x="58" y="102"/>
                        </a:moveTo>
                        <a:lnTo>
                          <a:pt x="58" y="105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40" y="110"/>
                        </a:lnTo>
                        <a:lnTo>
                          <a:pt x="43" y="112"/>
                        </a:lnTo>
                        <a:lnTo>
                          <a:pt x="40" y="110"/>
                        </a:lnTo>
                        <a:lnTo>
                          <a:pt x="40" y="112"/>
                        </a:lnTo>
                        <a:lnTo>
                          <a:pt x="43" y="112"/>
                        </a:lnTo>
                        <a:lnTo>
                          <a:pt x="58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836720" y="392112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78"/>
                        </a:move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60" y="90"/>
                        </a:lnTo>
                        <a:lnTo>
                          <a:pt x="75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854360" y="39416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92">
                        <a:moveTo>
                          <a:pt x="87" y="80"/>
                        </a:move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75" y="92"/>
                        </a:lnTo>
                        <a:lnTo>
                          <a:pt x="87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874880" y="39639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85">
                        <a:moveTo>
                          <a:pt x="95" y="67"/>
                        </a:moveTo>
                        <a:lnTo>
                          <a:pt x="97" y="67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87" y="82"/>
                        </a:lnTo>
                        <a:lnTo>
                          <a:pt x="90" y="85"/>
                        </a:lnTo>
                        <a:lnTo>
                          <a:pt x="87" y="82"/>
                        </a:lnTo>
                        <a:lnTo>
                          <a:pt x="90" y="85"/>
                        </a:lnTo>
                        <a:lnTo>
                          <a:pt x="95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900080" y="39816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3">
                        <a:moveTo>
                          <a:pt x="105" y="45"/>
                        </a:moveTo>
                        <a:lnTo>
                          <a:pt x="107" y="4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5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928880" y="3994200"/>
                    <a:ext cx="284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5">
                        <a:moveTo>
                          <a:pt x="100" y="28"/>
                        </a:move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98" y="45"/>
                        </a:lnTo>
                        <a:lnTo>
                          <a:pt x="10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55880" y="4002120"/>
                    <a:ext cx="31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110" y="15"/>
                        </a:move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107" y="32"/>
                        </a:lnTo>
                        <a:lnTo>
                          <a:pt x="110" y="32"/>
                        </a:lnTo>
                        <a:lnTo>
                          <a:pt x="107" y="32"/>
                        </a:lnTo>
                        <a:lnTo>
                          <a:pt x="110" y="35"/>
                        </a:lnTo>
                        <a:lnTo>
                          <a:pt x="110" y="32"/>
                        </a:lnTo>
                        <a:lnTo>
                          <a:pt x="1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987560" y="400356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">
                        <a:moveTo>
                          <a:pt x="100" y="0"/>
                        </a:moveTo>
                        <a:lnTo>
                          <a:pt x="102" y="0"/>
                        </a:lnTo>
                        <a:lnTo>
                          <a:pt x="0" y="10"/>
                        </a:lnTo>
                        <a:lnTo>
                          <a:pt x="0" y="27"/>
                        </a:lnTo>
                        <a:lnTo>
                          <a:pt x="102" y="17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4560" y="399888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102" y="0"/>
                        </a:moveTo>
                        <a:lnTo>
                          <a:pt x="105" y="0"/>
                        </a:lnTo>
                        <a:lnTo>
                          <a:pt x="0" y="18"/>
                        </a:lnTo>
                        <a:lnTo>
                          <a:pt x="2" y="35"/>
                        </a:lnTo>
                        <a:lnTo>
                          <a:pt x="107" y="18"/>
                        </a:lnTo>
                        <a:lnTo>
                          <a:pt x="110" y="18"/>
                        </a:lnTo>
                        <a:lnTo>
                          <a:pt x="107" y="18"/>
                        </a:lnTo>
                        <a:lnTo>
                          <a:pt x="110" y="18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043000" y="3989520"/>
                    <a:ext cx="23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53">
                        <a:moveTo>
                          <a:pt x="65" y="28"/>
                        </a:moveTo>
                        <a:lnTo>
                          <a:pt x="55" y="13"/>
                        </a:lnTo>
                        <a:lnTo>
                          <a:pt x="0" y="35"/>
                        </a:lnTo>
                        <a:lnTo>
                          <a:pt x="8" y="53"/>
                        </a:lnTo>
                        <a:lnTo>
                          <a:pt x="60" y="30"/>
                        </a:lnTo>
                        <a:lnTo>
                          <a:pt x="50" y="15"/>
                        </a:lnTo>
                        <a:lnTo>
                          <a:pt x="65" y="28"/>
                        </a:lnTo>
                        <a:lnTo>
                          <a:pt x="85" y="0"/>
                        </a:lnTo>
                        <a:lnTo>
                          <a:pt x="55" y="13"/>
                        </a:lnTo>
                        <a:lnTo>
                          <a:pt x="6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038320" y="39924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10">
                        <a:moveTo>
                          <a:pt x="18" y="108"/>
                        </a:moveTo>
                        <a:lnTo>
                          <a:pt x="15" y="110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lnTo>
                          <a:pt x="0" y="98"/>
                        </a:lnTo>
                        <a:lnTo>
                          <a:pt x="0" y="103"/>
                        </a:lnTo>
                        <a:lnTo>
                          <a:pt x="0" y="98"/>
                        </a:lnTo>
                        <a:lnTo>
                          <a:pt x="0" y="100"/>
                        </a:lnTo>
                        <a:lnTo>
                          <a:pt x="0" y="103"/>
                        </a:lnTo>
                        <a:lnTo>
                          <a:pt x="1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989000" y="3048120"/>
                  <a:ext cx="2198880" cy="1461960"/>
                  <a:chOff x="1989000" y="3048120"/>
                  <a:chExt cx="2198880" cy="14619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027160" y="402120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0">
                        <a:moveTo>
                          <a:pt x="18" y="100"/>
                        </a:moveTo>
                        <a:lnTo>
                          <a:pt x="58" y="5"/>
                        </a:lnTo>
                        <a:lnTo>
                          <a:pt x="40" y="0"/>
                        </a:lnTo>
                        <a:lnTo>
                          <a:pt x="0" y="95"/>
                        </a:lnTo>
                        <a:lnTo>
                          <a:pt x="0" y="97"/>
                        </a:lnTo>
                        <a:lnTo>
                          <a:pt x="18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019240" y="404820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3">
                        <a:moveTo>
                          <a:pt x="17" y="103"/>
                        </a:moveTo>
                        <a:lnTo>
                          <a:pt x="45" y="3"/>
                        </a:lnTo>
                        <a:lnTo>
                          <a:pt x="27" y="0"/>
                        </a:lnTo>
                        <a:lnTo>
                          <a:pt x="0" y="100"/>
                        </a:lnTo>
                        <a:lnTo>
                          <a:pt x="1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014560" y="4075200"/>
                    <a:ext cx="11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20" y="110"/>
                        </a:moveTo>
                        <a:lnTo>
                          <a:pt x="20" y="113"/>
                        </a:lnTo>
                        <a:lnTo>
                          <a:pt x="37" y="3"/>
                        </a:lnTo>
                        <a:lnTo>
                          <a:pt x="20" y="0"/>
                        </a:lnTo>
                        <a:lnTo>
                          <a:pt x="2" y="110"/>
                        </a:lnTo>
                        <a:lnTo>
                          <a:pt x="2" y="113"/>
                        </a:lnTo>
                        <a:lnTo>
                          <a:pt x="2" y="110"/>
                        </a:lnTo>
                        <a:lnTo>
                          <a:pt x="0" y="110"/>
                        </a:lnTo>
                        <a:lnTo>
                          <a:pt x="2" y="113"/>
                        </a:lnTo>
                        <a:lnTo>
                          <a:pt x="2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014560" y="4105440"/>
                    <a:ext cx="93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3">
                        <a:moveTo>
                          <a:pt x="35" y="100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8" y="103"/>
                        </a:lnTo>
                        <a:lnTo>
                          <a:pt x="35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19240" y="4132440"/>
                    <a:ext cx="11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13">
                        <a:moveTo>
                          <a:pt x="40" y="103"/>
                        </a:moveTo>
                        <a:lnTo>
                          <a:pt x="40" y="105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22" y="108"/>
                        </a:lnTo>
                        <a:lnTo>
                          <a:pt x="22" y="113"/>
                        </a:lnTo>
                        <a:lnTo>
                          <a:pt x="22" y="108"/>
                        </a:lnTo>
                        <a:lnTo>
                          <a:pt x="22" y="110"/>
                        </a:lnTo>
                        <a:lnTo>
                          <a:pt x="22" y="113"/>
                        </a:lnTo>
                        <a:lnTo>
                          <a:pt x="40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25720" y="4160880"/>
                    <a:ext cx="1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2">
                        <a:moveTo>
                          <a:pt x="60" y="90"/>
                        </a:moveTo>
                        <a:lnTo>
                          <a:pt x="63" y="92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45" y="100"/>
                        </a:lnTo>
                        <a:lnTo>
                          <a:pt x="45" y="102"/>
                        </a:lnTo>
                        <a:lnTo>
                          <a:pt x="45" y="100"/>
                        </a:lnTo>
                        <a:lnTo>
                          <a:pt x="45" y="102"/>
                        </a:lnTo>
                        <a:lnTo>
                          <a:pt x="6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038320" y="418608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7">
                        <a:moveTo>
                          <a:pt x="78" y="85"/>
                        </a:moveTo>
                        <a:lnTo>
                          <a:pt x="80" y="85"/>
                        </a:ln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65" y="97"/>
                        </a:lnTo>
                        <a:lnTo>
                          <a:pt x="7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055960" y="4208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5">
                        <a:moveTo>
                          <a:pt x="93" y="80"/>
                        </a:moveTo>
                        <a:lnTo>
                          <a:pt x="93" y="82"/>
                        </a:lnTo>
                        <a:lnTo>
                          <a:pt x="13" y="0"/>
                        </a:lnTo>
                        <a:lnTo>
                          <a:pt x="0" y="12"/>
                        </a:lnTo>
                        <a:lnTo>
                          <a:pt x="80" y="92"/>
                        </a:lnTo>
                        <a:lnTo>
                          <a:pt x="80" y="95"/>
                        </a:lnTo>
                        <a:lnTo>
                          <a:pt x="93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77920" y="423072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0">
                        <a:moveTo>
                          <a:pt x="88" y="62"/>
                        </a:moveTo>
                        <a:lnTo>
                          <a:pt x="90" y="62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0" y="77"/>
                        </a:lnTo>
                        <a:lnTo>
                          <a:pt x="83" y="80"/>
                        </a:lnTo>
                        <a:lnTo>
                          <a:pt x="80" y="77"/>
                        </a:lnTo>
                        <a:lnTo>
                          <a:pt x="80" y="80"/>
                        </a:lnTo>
                        <a:lnTo>
                          <a:pt x="83" y="80"/>
                        </a:lnTo>
                        <a:lnTo>
                          <a:pt x="88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01680" y="4248000"/>
                    <a:ext cx="30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5">
                        <a:moveTo>
                          <a:pt x="107" y="38"/>
                        </a:move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2" y="55"/>
                        </a:lnTo>
                        <a:lnTo>
                          <a:pt x="107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30480" y="4257720"/>
                    <a:ext cx="28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7">
                        <a:moveTo>
                          <a:pt x="98" y="37"/>
                        </a:moveTo>
                        <a:lnTo>
                          <a:pt x="100" y="37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  <a:lnTo>
                          <a:pt x="95" y="55"/>
                        </a:lnTo>
                        <a:lnTo>
                          <a:pt x="98" y="55"/>
                        </a:lnTo>
                        <a:lnTo>
                          <a:pt x="95" y="55"/>
                        </a:lnTo>
                        <a:lnTo>
                          <a:pt x="98" y="57"/>
                        </a:lnTo>
                        <a:lnTo>
                          <a:pt x="9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57480" y="4268880"/>
                    <a:ext cx="31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0">
                        <a:moveTo>
                          <a:pt x="110" y="3"/>
                        </a:move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10" y="20"/>
                        </a:lnTo>
                        <a:lnTo>
                          <a:pt x="11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89160" y="4265640"/>
                    <a:ext cx="31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2">
                        <a:moveTo>
                          <a:pt x="110" y="0"/>
                        </a:moveTo>
                        <a:lnTo>
                          <a:pt x="112" y="0"/>
                        </a:ln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112" y="17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219400" y="425772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2">
                        <a:moveTo>
                          <a:pt x="97" y="0"/>
                        </a:moveTo>
                        <a:lnTo>
                          <a:pt x="0" y="25"/>
                        </a:lnTo>
                        <a:lnTo>
                          <a:pt x="2" y="42"/>
                        </a:lnTo>
                        <a:lnTo>
                          <a:pt x="100" y="17"/>
                        </a:lnTo>
                        <a:lnTo>
                          <a:pt x="102" y="17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246400" y="4248000"/>
                    <a:ext cx="31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55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38"/>
                        </a:lnTo>
                        <a:lnTo>
                          <a:pt x="5" y="55"/>
                        </a:lnTo>
                        <a:lnTo>
                          <a:pt x="110" y="18"/>
                        </a:lnTo>
                        <a:lnTo>
                          <a:pt x="113" y="15"/>
                        </a:lnTo>
                        <a:lnTo>
                          <a:pt x="110" y="18"/>
                        </a:lnTo>
                        <a:lnTo>
                          <a:pt x="113" y="18"/>
                        </a:lnTo>
                        <a:lnTo>
                          <a:pt x="113" y="15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276640" y="422928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2">
                        <a:moveTo>
                          <a:pt x="90" y="0"/>
                        </a:moveTo>
                        <a:lnTo>
                          <a:pt x="0" y="67"/>
                        </a:lnTo>
                        <a:lnTo>
                          <a:pt x="10" y="82"/>
                        </a:lnTo>
                        <a:lnTo>
                          <a:pt x="102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01840" y="421164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0">
                        <a:moveTo>
                          <a:pt x="72" y="2"/>
                        </a:moveTo>
                        <a:lnTo>
                          <a:pt x="75" y="0"/>
                        </a:lnTo>
                        <a:lnTo>
                          <a:pt x="0" y="65"/>
                        </a:lnTo>
                        <a:lnTo>
                          <a:pt x="12" y="80"/>
                        </a:lnTo>
                        <a:lnTo>
                          <a:pt x="85" y="15"/>
                        </a:lnTo>
                        <a:lnTo>
                          <a:pt x="87" y="15"/>
                        </a:lnTo>
                        <a:lnTo>
                          <a:pt x="7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320920" y="41925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85">
                        <a:moveTo>
                          <a:pt x="48" y="40"/>
                        </a:moveTo>
                        <a:lnTo>
                          <a:pt x="33" y="32"/>
                        </a:lnTo>
                        <a:lnTo>
                          <a:pt x="0" y="72"/>
                        </a:lnTo>
                        <a:lnTo>
                          <a:pt x="15" y="85"/>
                        </a:lnTo>
                        <a:lnTo>
                          <a:pt x="48" y="45"/>
                        </a:lnTo>
                        <a:lnTo>
                          <a:pt x="30" y="37"/>
                        </a:lnTo>
                        <a:lnTo>
                          <a:pt x="48" y="40"/>
                        </a:lnTo>
                        <a:lnTo>
                          <a:pt x="60" y="0"/>
                        </a:lnTo>
                        <a:lnTo>
                          <a:pt x="33" y="32"/>
                        </a:lnTo>
                        <a:lnTo>
                          <a:pt x="4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22360" y="420228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8">
                        <a:moveTo>
                          <a:pt x="17" y="105"/>
                        </a:moveTo>
                        <a:lnTo>
                          <a:pt x="17" y="108"/>
                        </a:lnTo>
                        <a:lnTo>
                          <a:pt x="45" y="3"/>
                        </a:lnTo>
                        <a:lnTo>
                          <a:pt x="27" y="0"/>
                        </a:lnTo>
                        <a:lnTo>
                          <a:pt x="0" y="105"/>
                        </a:lnTo>
                        <a:lnTo>
                          <a:pt x="17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317680" y="423072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8">
                        <a:moveTo>
                          <a:pt x="18" y="108"/>
                        </a:moveTo>
                        <a:lnTo>
                          <a:pt x="30" y="0"/>
                        </a:lnTo>
                        <a:lnTo>
                          <a:pt x="13" y="0"/>
                        </a:lnTo>
                        <a:lnTo>
                          <a:pt x="0" y="108"/>
                        </a:lnTo>
                        <a:lnTo>
                          <a:pt x="1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317680" y="4260960"/>
                    <a:ext cx="79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0">
                        <a:moveTo>
                          <a:pt x="30" y="105"/>
                        </a:moveTo>
                        <a:lnTo>
                          <a:pt x="30" y="107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3" y="107"/>
                        </a:lnTo>
                        <a:lnTo>
                          <a:pt x="13" y="110"/>
                        </a:lnTo>
                        <a:lnTo>
                          <a:pt x="30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322360" y="4289400"/>
                    <a:ext cx="129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10">
                        <a:moveTo>
                          <a:pt x="45" y="102"/>
                        </a:moveTo>
                        <a:lnTo>
                          <a:pt x="45" y="105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lnTo>
                          <a:pt x="27" y="107"/>
                        </a:lnTo>
                        <a:lnTo>
                          <a:pt x="27" y="110"/>
                        </a:lnTo>
                        <a:lnTo>
                          <a:pt x="45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328840" y="431784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8">
                        <a:moveTo>
                          <a:pt x="50" y="90"/>
                        </a:moveTo>
                        <a:lnTo>
                          <a:pt x="50" y="93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lnTo>
                          <a:pt x="35" y="98"/>
                        </a:lnTo>
                        <a:lnTo>
                          <a:pt x="5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340000" y="434196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0">
                        <a:moveTo>
                          <a:pt x="73" y="95"/>
                        </a:moveTo>
                        <a:lnTo>
                          <a:pt x="75" y="98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60" y="108"/>
                        </a:lnTo>
                        <a:lnTo>
                          <a:pt x="63" y="110"/>
                        </a:lnTo>
                        <a:lnTo>
                          <a:pt x="60" y="108"/>
                        </a:lnTo>
                        <a:lnTo>
                          <a:pt x="63" y="110"/>
                        </a:lnTo>
                        <a:lnTo>
                          <a:pt x="73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357280" y="436896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82" y="70"/>
                        </a:moveTo>
                        <a:lnTo>
                          <a:pt x="85" y="70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72" y="83"/>
                        </a:lnTo>
                        <a:lnTo>
                          <a:pt x="75" y="83"/>
                        </a:lnTo>
                        <a:lnTo>
                          <a:pt x="72" y="83"/>
                        </a:lnTo>
                        <a:lnTo>
                          <a:pt x="75" y="83"/>
                        </a:lnTo>
                        <a:lnTo>
                          <a:pt x="8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378160" y="4387680"/>
                    <a:ext cx="28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78">
                        <a:moveTo>
                          <a:pt x="102" y="60"/>
                        </a:moveTo>
                        <a:lnTo>
                          <a:pt x="7" y="0"/>
                        </a:lnTo>
                        <a:lnTo>
                          <a:pt x="0" y="13"/>
                        </a:lnTo>
                        <a:lnTo>
                          <a:pt x="95" y="75"/>
                        </a:lnTo>
                        <a:lnTo>
                          <a:pt x="95" y="78"/>
                        </a:lnTo>
                        <a:lnTo>
                          <a:pt x="10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05160" y="4403880"/>
                    <a:ext cx="27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5">
                        <a:moveTo>
                          <a:pt x="95" y="48"/>
                        </a:moveTo>
                        <a:lnTo>
                          <a:pt x="97" y="48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90" y="65"/>
                        </a:lnTo>
                        <a:lnTo>
                          <a:pt x="92" y="65"/>
                        </a:lnTo>
                        <a:lnTo>
                          <a:pt x="90" y="65"/>
                        </a:lnTo>
                        <a:lnTo>
                          <a:pt x="92" y="65"/>
                        </a:lnTo>
                        <a:lnTo>
                          <a:pt x="9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430360" y="4416480"/>
                    <a:ext cx="31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7">
                        <a:moveTo>
                          <a:pt x="108" y="32"/>
                        </a:moveTo>
                        <a:lnTo>
                          <a:pt x="110" y="32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108" y="47"/>
                        </a:lnTo>
                        <a:lnTo>
                          <a:pt x="10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460600" y="4425840"/>
                    <a:ext cx="284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3">
                        <a:moveTo>
                          <a:pt x="102" y="3"/>
                        </a:moveTo>
                        <a:lnTo>
                          <a:pt x="102" y="5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102" y="23"/>
                        </a:lnTo>
                        <a:lnTo>
                          <a:pt x="10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489040" y="4425840"/>
                    <a:ext cx="32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20">
                        <a:moveTo>
                          <a:pt x="110" y="2"/>
                        </a:moveTo>
                        <a:lnTo>
                          <a:pt x="1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10" y="20"/>
                        </a:lnTo>
                        <a:lnTo>
                          <a:pt x="113" y="20"/>
                        </a:lnTo>
                        <a:lnTo>
                          <a:pt x="110" y="20"/>
                        </a:lnTo>
                        <a:lnTo>
                          <a:pt x="113" y="20"/>
                        </a:lnTo>
                        <a:lnTo>
                          <a:pt x="11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521080" y="4421160"/>
                    <a:ext cx="29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">
                        <a:moveTo>
                          <a:pt x="98" y="0"/>
                        </a:moveTo>
                        <a:lnTo>
                          <a:pt x="100" y="0"/>
                        </a:lnTo>
                        <a:lnTo>
                          <a:pt x="0" y="25"/>
                        </a:lnTo>
                        <a:lnTo>
                          <a:pt x="3" y="43"/>
                        </a:lnTo>
                        <a:lnTo>
                          <a:pt x="103" y="18"/>
                        </a:lnTo>
                        <a:lnTo>
                          <a:pt x="105" y="18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548080" y="440856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60">
                        <a:moveTo>
                          <a:pt x="102" y="0"/>
                        </a:moveTo>
                        <a:lnTo>
                          <a:pt x="105" y="0"/>
                        </a:ln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10" y="17"/>
                        </a:lnTo>
                        <a:lnTo>
                          <a:pt x="112" y="15"/>
                        </a:lnTo>
                        <a:lnTo>
                          <a:pt x="110" y="17"/>
                        </a:lnTo>
                        <a:lnTo>
                          <a:pt x="112" y="17"/>
                        </a:lnTo>
                        <a:lnTo>
                          <a:pt x="112" y="15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576520" y="43909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80">
                        <a:moveTo>
                          <a:pt x="88" y="0"/>
                        </a:moveTo>
                        <a:lnTo>
                          <a:pt x="0" y="65"/>
                        </a:lnTo>
                        <a:lnTo>
                          <a:pt x="10" y="80"/>
                        </a:lnTo>
                        <a:lnTo>
                          <a:pt x="98" y="15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600280" y="43704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0">
                        <a:moveTo>
                          <a:pt x="77" y="5"/>
                        </a:moveTo>
                        <a:lnTo>
                          <a:pt x="77" y="0"/>
                        </a:lnTo>
                        <a:lnTo>
                          <a:pt x="0" y="75"/>
                        </a:lnTo>
                        <a:lnTo>
                          <a:pt x="10" y="90"/>
                        </a:lnTo>
                        <a:lnTo>
                          <a:pt x="90" y="15"/>
                        </a:lnTo>
                        <a:lnTo>
                          <a:pt x="92" y="12"/>
                        </a:lnTo>
                        <a:lnTo>
                          <a:pt x="90" y="15"/>
                        </a:lnTo>
                        <a:lnTo>
                          <a:pt x="92" y="15"/>
                        </a:lnTo>
                        <a:lnTo>
                          <a:pt x="92" y="12"/>
                        </a:lnTo>
                        <a:lnTo>
                          <a:pt x="7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622600" y="4346640"/>
                    <a:ext cx="205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2">
                        <a:moveTo>
                          <a:pt x="58" y="0"/>
                        </a:moveTo>
                        <a:lnTo>
                          <a:pt x="0" y="95"/>
                        </a:lnTo>
                        <a:lnTo>
                          <a:pt x="15" y="102"/>
                        </a:lnTo>
                        <a:lnTo>
                          <a:pt x="73" y="7"/>
                        </a:lnTo>
                        <a:lnTo>
                          <a:pt x="75" y="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638440" y="4330800"/>
                    <a:ext cx="12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5">
                        <a:moveTo>
                          <a:pt x="27" y="0"/>
                        </a:moveTo>
                        <a:lnTo>
                          <a:pt x="0" y="58"/>
                        </a:lnTo>
                        <a:lnTo>
                          <a:pt x="17" y="65"/>
                        </a:lnTo>
                        <a:lnTo>
                          <a:pt x="45" y="8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646360" y="430524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0">
                        <a:moveTo>
                          <a:pt x="48" y="40"/>
                        </a:moveTo>
                        <a:lnTo>
                          <a:pt x="30" y="35"/>
                        </a:lnTo>
                        <a:lnTo>
                          <a:pt x="0" y="92"/>
                        </a:lnTo>
                        <a:lnTo>
                          <a:pt x="18" y="100"/>
                        </a:lnTo>
                        <a:lnTo>
                          <a:pt x="48" y="45"/>
                        </a:lnTo>
                        <a:lnTo>
                          <a:pt x="28" y="40"/>
                        </a:lnTo>
                        <a:lnTo>
                          <a:pt x="48" y="40"/>
                        </a:lnTo>
                        <a:lnTo>
                          <a:pt x="48" y="0"/>
                        </a:lnTo>
                        <a:lnTo>
                          <a:pt x="30" y="35"/>
                        </a:lnTo>
                        <a:lnTo>
                          <a:pt x="4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4280" y="4316400"/>
                    <a:ext cx="6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5">
                        <a:moveTo>
                          <a:pt x="20" y="95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  <a:lnTo>
                          <a:pt x="2" y="95"/>
                        </a:lnTo>
                        <a:lnTo>
                          <a:pt x="2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54280" y="4341960"/>
                    <a:ext cx="6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2">
                        <a:moveTo>
                          <a:pt x="23" y="105"/>
                        </a:moveTo>
                        <a:lnTo>
                          <a:pt x="23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5" y="110"/>
                        </a:lnTo>
                        <a:lnTo>
                          <a:pt x="5" y="112"/>
                        </a:lnTo>
                        <a:lnTo>
                          <a:pt x="5" y="110"/>
                        </a:lnTo>
                        <a:lnTo>
                          <a:pt x="5" y="112"/>
                        </a:lnTo>
                        <a:lnTo>
                          <a:pt x="23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655720" y="43704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50" y="100"/>
                        </a:moveTo>
                        <a:lnTo>
                          <a:pt x="50" y="102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33" y="107"/>
                        </a:lnTo>
                        <a:lnTo>
                          <a:pt x="33" y="110"/>
                        </a:lnTo>
                        <a:lnTo>
                          <a:pt x="5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65440" y="439740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65" y="95"/>
                        </a:move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47" y="105"/>
                        </a:lnTo>
                        <a:lnTo>
                          <a:pt x="50" y="105"/>
                        </a:lnTo>
                        <a:lnTo>
                          <a:pt x="65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679840" y="442440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0">
                        <a:moveTo>
                          <a:pt x="72" y="85"/>
                        </a:moveTo>
                        <a:lnTo>
                          <a:pt x="75" y="87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60" y="97"/>
                        </a:lnTo>
                        <a:lnTo>
                          <a:pt x="62" y="100"/>
                        </a:lnTo>
                        <a:lnTo>
                          <a:pt x="60" y="97"/>
                        </a:lnTo>
                        <a:lnTo>
                          <a:pt x="62" y="100"/>
                        </a:lnTo>
                        <a:lnTo>
                          <a:pt x="72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697120" y="44467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7">
                        <a:moveTo>
                          <a:pt x="85" y="75"/>
                        </a:moveTo>
                        <a:lnTo>
                          <a:pt x="88" y="75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75" y="87"/>
                        </a:lnTo>
                        <a:lnTo>
                          <a:pt x="78" y="87"/>
                        </a:lnTo>
                        <a:lnTo>
                          <a:pt x="75" y="87"/>
                        </a:lnTo>
                        <a:lnTo>
                          <a:pt x="78" y="87"/>
                        </a:lnTo>
                        <a:lnTo>
                          <a:pt x="8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719440" y="446724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">
                        <a:moveTo>
                          <a:pt x="97" y="57"/>
                        </a:move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90" y="72"/>
                        </a:lnTo>
                        <a:lnTo>
                          <a:pt x="90" y="75"/>
                        </a:lnTo>
                        <a:lnTo>
                          <a:pt x="97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743200" y="44830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3">
                        <a:moveTo>
                          <a:pt x="105" y="45"/>
                        </a:move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5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773440" y="449568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0">
                        <a:moveTo>
                          <a:pt x="105" y="23"/>
                        </a:move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103" y="40"/>
                        </a:lnTo>
                        <a:lnTo>
                          <a:pt x="105" y="40"/>
                        </a:lnTo>
                        <a:lnTo>
                          <a:pt x="105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801880" y="4502160"/>
                    <a:ext cx="31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0">
                        <a:moveTo>
                          <a:pt x="108" y="10"/>
                        </a:moveTo>
                        <a:lnTo>
                          <a:pt x="110" y="1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10" y="27"/>
                        </a:lnTo>
                        <a:lnTo>
                          <a:pt x="110" y="30"/>
                        </a:lnTo>
                        <a:lnTo>
                          <a:pt x="110" y="27"/>
                        </a:lnTo>
                        <a:lnTo>
                          <a:pt x="10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832120" y="4500720"/>
                    <a:ext cx="30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2">
                        <a:moveTo>
                          <a:pt x="105" y="0"/>
                        </a:moveTo>
                        <a:lnTo>
                          <a:pt x="0" y="15"/>
                        </a:lnTo>
                        <a:lnTo>
                          <a:pt x="2" y="32"/>
                        </a:lnTo>
                        <a:lnTo>
                          <a:pt x="107" y="1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862360" y="449424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0">
                        <a:moveTo>
                          <a:pt x="102" y="0"/>
                        </a:moveTo>
                        <a:lnTo>
                          <a:pt x="0" y="23"/>
                        </a:lnTo>
                        <a:lnTo>
                          <a:pt x="2" y="40"/>
                        </a:lnTo>
                        <a:lnTo>
                          <a:pt x="105" y="18"/>
                        </a:lnTo>
                        <a:lnTo>
                          <a:pt x="107" y="18"/>
                        </a:lnTo>
                        <a:lnTo>
                          <a:pt x="105" y="18"/>
                        </a:lnTo>
                        <a:lnTo>
                          <a:pt x="107" y="18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890800" y="448164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5">
                        <a:moveTo>
                          <a:pt x="95" y="2"/>
                        </a:moveTo>
                        <a:lnTo>
                          <a:pt x="98" y="0"/>
                        </a:lnTo>
                        <a:lnTo>
                          <a:pt x="0" y="47"/>
                        </a:lnTo>
                        <a:lnTo>
                          <a:pt x="5" y="65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9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917800" y="44625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5">
                        <a:moveTo>
                          <a:pt x="85" y="3"/>
                        </a:moveTo>
                        <a:lnTo>
                          <a:pt x="85" y="0"/>
                        </a:lnTo>
                        <a:lnTo>
                          <a:pt x="0" y="70"/>
                        </a:lnTo>
                        <a:lnTo>
                          <a:pt x="10" y="85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8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940120" y="444348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70" y="2"/>
                        </a:moveTo>
                        <a:lnTo>
                          <a:pt x="73" y="0"/>
                        </a:lnTo>
                        <a:lnTo>
                          <a:pt x="0" y="75"/>
                        </a:lnTo>
                        <a:lnTo>
                          <a:pt x="10" y="85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7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960640" y="441972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8">
                        <a:moveTo>
                          <a:pt x="63" y="0"/>
                        </a:moveTo>
                        <a:lnTo>
                          <a:pt x="0" y="90"/>
                        </a:lnTo>
                        <a:lnTo>
                          <a:pt x="15" y="98"/>
                        </a:lnTo>
                        <a:lnTo>
                          <a:pt x="78" y="8"/>
                        </a:lnTo>
                        <a:lnTo>
                          <a:pt x="80" y="8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978280" y="4392720"/>
                    <a:ext cx="1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05">
                        <a:moveTo>
                          <a:pt x="45" y="2"/>
                        </a:moveTo>
                        <a:lnTo>
                          <a:pt x="45" y="0"/>
                        </a:lnTo>
                        <a:lnTo>
                          <a:pt x="0" y="97"/>
                        </a:lnTo>
                        <a:lnTo>
                          <a:pt x="17" y="105"/>
                        </a:lnTo>
                        <a:lnTo>
                          <a:pt x="60" y="5"/>
                        </a:lnTo>
                        <a:lnTo>
                          <a:pt x="4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990880" y="436572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3">
                        <a:moveTo>
                          <a:pt x="25" y="3"/>
                        </a:moveTo>
                        <a:lnTo>
                          <a:pt x="25" y="0"/>
                        </a:lnTo>
                        <a:lnTo>
                          <a:pt x="0" y="100"/>
                        </a:lnTo>
                        <a:lnTo>
                          <a:pt x="15" y="103"/>
                        </a:lnTo>
                        <a:lnTo>
                          <a:pt x="42" y="3"/>
                        </a:lnTo>
                        <a:lnTo>
                          <a:pt x="2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997360" y="4324320"/>
                    <a:ext cx="7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53">
                        <a:moveTo>
                          <a:pt x="25" y="0"/>
                        </a:moveTo>
                        <a:lnTo>
                          <a:pt x="7" y="0"/>
                        </a:lnTo>
                        <a:lnTo>
                          <a:pt x="0" y="153"/>
                        </a:lnTo>
                        <a:lnTo>
                          <a:pt x="17" y="153"/>
                        </a:lnTo>
                        <a:lnTo>
                          <a:pt x="25" y="0"/>
                        </a:lnTo>
                        <a:lnTo>
                          <a:pt x="7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998800" y="4324320"/>
                    <a:ext cx="7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3">
                        <a:moveTo>
                          <a:pt x="28" y="140"/>
                        </a:moveTo>
                        <a:lnTo>
                          <a:pt x="28" y="143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0" y="143"/>
                        </a:lnTo>
                        <a:lnTo>
                          <a:pt x="28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002040" y="436248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3">
                        <a:moveTo>
                          <a:pt x="38" y="98"/>
                        </a:moveTo>
                        <a:lnTo>
                          <a:pt x="38" y="10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20" y="103"/>
                        </a:lnTo>
                        <a:lnTo>
                          <a:pt x="38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008160" y="43894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7">
                        <a:moveTo>
                          <a:pt x="60" y="100"/>
                        </a:moveTo>
                        <a:lnTo>
                          <a:pt x="63" y="100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45" y="107"/>
                        </a:lnTo>
                        <a:lnTo>
                          <a:pt x="6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021120" y="441648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7">
                        <a:moveTo>
                          <a:pt x="75" y="85"/>
                        </a:moveTo>
                        <a:lnTo>
                          <a:pt x="75" y="87"/>
                        </a:lnTo>
                        <a:lnTo>
                          <a:pt x="15" y="0"/>
                        </a:lnTo>
                        <a:lnTo>
                          <a:pt x="0" y="7"/>
                        </a:lnTo>
                        <a:lnTo>
                          <a:pt x="63" y="95"/>
                        </a:lnTo>
                        <a:lnTo>
                          <a:pt x="63" y="97"/>
                        </a:lnTo>
                        <a:lnTo>
                          <a:pt x="7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038400" y="44402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0">
                        <a:moveTo>
                          <a:pt x="85" y="7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72" y="87"/>
                        </a:lnTo>
                        <a:lnTo>
                          <a:pt x="72" y="90"/>
                        </a:lnTo>
                        <a:lnTo>
                          <a:pt x="8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059280" y="4460760"/>
                    <a:ext cx="28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2">
                        <a:moveTo>
                          <a:pt x="95" y="65"/>
                        </a:moveTo>
                        <a:lnTo>
                          <a:pt x="100" y="67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8" y="82"/>
                        </a:lnTo>
                        <a:lnTo>
                          <a:pt x="90" y="82"/>
                        </a:lnTo>
                        <a:lnTo>
                          <a:pt x="88" y="82"/>
                        </a:lnTo>
                        <a:lnTo>
                          <a:pt x="90" y="82"/>
                        </a:lnTo>
                        <a:lnTo>
                          <a:pt x="95" y="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084480" y="44784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5">
                        <a:moveTo>
                          <a:pt x="105" y="47"/>
                        </a:moveTo>
                        <a:lnTo>
                          <a:pt x="108" y="47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  <a:lnTo>
                          <a:pt x="100" y="65"/>
                        </a:lnTo>
                        <a:lnTo>
                          <a:pt x="103" y="65"/>
                        </a:lnTo>
                        <a:lnTo>
                          <a:pt x="100" y="65"/>
                        </a:lnTo>
                        <a:lnTo>
                          <a:pt x="103" y="65"/>
                        </a:lnTo>
                        <a:lnTo>
                          <a:pt x="105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112920" y="44910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5">
                        <a:moveTo>
                          <a:pt x="105" y="28"/>
                        </a:moveTo>
                        <a:lnTo>
                          <a:pt x="107" y="28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lnTo>
                          <a:pt x="105" y="45"/>
                        </a:lnTo>
                        <a:lnTo>
                          <a:pt x="10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41720" y="449892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7">
                        <a:moveTo>
                          <a:pt x="100" y="10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00" y="27"/>
                        </a:lnTo>
                        <a:lnTo>
                          <a:pt x="10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170160" y="4500720"/>
                    <a:ext cx="31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5">
                        <a:moveTo>
                          <a:pt x="112" y="0"/>
                        </a:moveTo>
                        <a:lnTo>
                          <a:pt x="0" y="8"/>
                        </a:lnTo>
                        <a:lnTo>
                          <a:pt x="0" y="25"/>
                        </a:lnTo>
                        <a:lnTo>
                          <a:pt x="112" y="18"/>
                        </a:lnTo>
                        <a:lnTo>
                          <a:pt x="115" y="18"/>
                        </a:lnTo>
                        <a:lnTo>
                          <a:pt x="112" y="18"/>
                        </a:lnTo>
                        <a:lnTo>
                          <a:pt x="115" y="18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201840" y="4492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5">
                        <a:moveTo>
                          <a:pt x="100" y="0"/>
                        </a:moveTo>
                        <a:lnTo>
                          <a:pt x="0" y="27"/>
                        </a:lnTo>
                        <a:lnTo>
                          <a:pt x="3" y="45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228840" y="448164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57">
                        <a:moveTo>
                          <a:pt x="100" y="2"/>
                        </a:moveTo>
                        <a:lnTo>
                          <a:pt x="100" y="0"/>
                        </a:lnTo>
                        <a:lnTo>
                          <a:pt x="0" y="40"/>
                        </a:lnTo>
                        <a:lnTo>
                          <a:pt x="5" y="57"/>
                        </a:lnTo>
                        <a:lnTo>
                          <a:pt x="108" y="17"/>
                        </a:lnTo>
                        <a:lnTo>
                          <a:pt x="10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257640" y="4465800"/>
                    <a:ext cx="28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75">
                        <a:moveTo>
                          <a:pt x="85" y="3"/>
                        </a:moveTo>
                        <a:lnTo>
                          <a:pt x="88" y="0"/>
                        </a:lnTo>
                        <a:lnTo>
                          <a:pt x="0" y="60"/>
                        </a:lnTo>
                        <a:lnTo>
                          <a:pt x="8" y="75"/>
                        </a:lnTo>
                        <a:lnTo>
                          <a:pt x="95" y="15"/>
                        </a:lnTo>
                        <a:lnTo>
                          <a:pt x="100" y="13"/>
                        </a:lnTo>
                        <a:lnTo>
                          <a:pt x="95" y="15"/>
                        </a:lnTo>
                        <a:lnTo>
                          <a:pt x="98" y="15"/>
                        </a:lnTo>
                        <a:lnTo>
                          <a:pt x="100" y="13"/>
                        </a:lnTo>
                        <a:lnTo>
                          <a:pt x="8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81400" y="444348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3">
                        <a:moveTo>
                          <a:pt x="75" y="0"/>
                        </a:moveTo>
                        <a:lnTo>
                          <a:pt x="0" y="83"/>
                        </a:lnTo>
                        <a:lnTo>
                          <a:pt x="15" y="93"/>
                        </a:lnTo>
                        <a:lnTo>
                          <a:pt x="90" y="13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301920" y="4421160"/>
                    <a:ext cx="22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3">
                        <a:moveTo>
                          <a:pt x="63" y="3"/>
                        </a:moveTo>
                        <a:lnTo>
                          <a:pt x="63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lnTo>
                          <a:pt x="78" y="13"/>
                        </a:lnTo>
                        <a:lnTo>
                          <a:pt x="78" y="10"/>
                        </a:lnTo>
                        <a:lnTo>
                          <a:pt x="78" y="13"/>
                        </a:lnTo>
                        <a:lnTo>
                          <a:pt x="78" y="10"/>
                        </a:lnTo>
                        <a:lnTo>
                          <a:pt x="6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319560" y="439596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47" y="3"/>
                        </a:moveTo>
                        <a:lnTo>
                          <a:pt x="47" y="0"/>
                        </a:lnTo>
                        <a:lnTo>
                          <a:pt x="0" y="98"/>
                        </a:lnTo>
                        <a:lnTo>
                          <a:pt x="15" y="105"/>
                        </a:lnTo>
                        <a:lnTo>
                          <a:pt x="65" y="8"/>
                        </a:lnTo>
                        <a:lnTo>
                          <a:pt x="65" y="5"/>
                        </a:lnTo>
                        <a:lnTo>
                          <a:pt x="65" y="8"/>
                        </a:lnTo>
                        <a:lnTo>
                          <a:pt x="65" y="5"/>
                        </a:lnTo>
                        <a:lnTo>
                          <a:pt x="4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333600" y="436716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30" y="2"/>
                        </a:moveTo>
                        <a:lnTo>
                          <a:pt x="30" y="0"/>
                        </a:lnTo>
                        <a:lnTo>
                          <a:pt x="0" y="105"/>
                        </a:lnTo>
                        <a:lnTo>
                          <a:pt x="18" y="107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341520" y="4338720"/>
                    <a:ext cx="8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7">
                        <a:moveTo>
                          <a:pt x="5" y="0"/>
                        </a:moveTo>
                        <a:lnTo>
                          <a:pt x="8" y="0"/>
                        </a:ln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343320" y="4300560"/>
                    <a:ext cx="6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8">
                        <a:moveTo>
                          <a:pt x="18" y="35"/>
                        </a:moveTo>
                        <a:lnTo>
                          <a:pt x="0" y="40"/>
                        </a:lnTo>
                        <a:lnTo>
                          <a:pt x="0" y="138"/>
                        </a:lnTo>
                        <a:lnTo>
                          <a:pt x="20" y="138"/>
                        </a:lnTo>
                        <a:lnTo>
                          <a:pt x="20" y="40"/>
                        </a:lnTo>
                        <a:lnTo>
                          <a:pt x="3" y="45"/>
                        </a:lnTo>
                        <a:lnTo>
                          <a:pt x="18" y="35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  <a:lnTo>
                          <a:pt x="18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343320" y="430992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42" y="55"/>
                        </a:move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25" y="65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351240" y="4325760"/>
                    <a:ext cx="14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3">
                        <a:moveTo>
                          <a:pt x="50" y="65"/>
                        </a:moveTo>
                        <a:lnTo>
                          <a:pt x="52" y="65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35" y="73"/>
                        </a:lnTo>
                        <a:lnTo>
                          <a:pt x="50" y="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360600" y="434340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05">
                        <a:moveTo>
                          <a:pt x="70" y="90"/>
                        </a:moveTo>
                        <a:lnTo>
                          <a:pt x="70" y="93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57" y="103"/>
                        </a:lnTo>
                        <a:lnTo>
                          <a:pt x="57" y="105"/>
                        </a:lnTo>
                        <a:lnTo>
                          <a:pt x="57" y="103"/>
                        </a:lnTo>
                        <a:lnTo>
                          <a:pt x="57" y="105"/>
                        </a:lnTo>
                        <a:lnTo>
                          <a:pt x="7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376440" y="43689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88">
                        <a:moveTo>
                          <a:pt x="93" y="73"/>
                        </a:move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3" y="88"/>
                        </a:lnTo>
                        <a:lnTo>
                          <a:pt x="93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400560" y="438768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80">
                        <a:moveTo>
                          <a:pt x="95" y="62"/>
                        </a:moveTo>
                        <a:lnTo>
                          <a:pt x="97" y="65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85" y="77"/>
                        </a:lnTo>
                        <a:lnTo>
                          <a:pt x="87" y="80"/>
                        </a:lnTo>
                        <a:lnTo>
                          <a:pt x="85" y="77"/>
                        </a:lnTo>
                        <a:lnTo>
                          <a:pt x="87" y="80"/>
                        </a:lnTo>
                        <a:lnTo>
                          <a:pt x="95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424320" y="44053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0">
                        <a:moveTo>
                          <a:pt x="113" y="43"/>
                        </a:moveTo>
                        <a:lnTo>
                          <a:pt x="8" y="0"/>
                        </a:lnTo>
                        <a:lnTo>
                          <a:pt x="0" y="18"/>
                        </a:lnTo>
                        <a:lnTo>
                          <a:pt x="105" y="60"/>
                        </a:lnTo>
                        <a:lnTo>
                          <a:pt x="113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454560" y="441648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0">
                        <a:moveTo>
                          <a:pt x="103" y="30"/>
                        </a:moveTo>
                        <a:lnTo>
                          <a:pt x="105" y="32"/>
                        </a:lnTo>
                        <a:lnTo>
                          <a:pt x="8" y="0"/>
                        </a:lnTo>
                        <a:lnTo>
                          <a:pt x="0" y="17"/>
                        </a:lnTo>
                        <a:lnTo>
                          <a:pt x="98" y="47"/>
                        </a:lnTo>
                        <a:lnTo>
                          <a:pt x="103" y="50"/>
                        </a:lnTo>
                        <a:lnTo>
                          <a:pt x="98" y="47"/>
                        </a:lnTo>
                        <a:lnTo>
                          <a:pt x="100" y="50"/>
                        </a:lnTo>
                        <a:lnTo>
                          <a:pt x="103" y="50"/>
                        </a:lnTo>
                        <a:lnTo>
                          <a:pt x="103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483000" y="442440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7" y="2"/>
                        </a:moveTo>
                        <a:lnTo>
                          <a:pt x="107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7" y="20"/>
                        </a:lnTo>
                        <a:lnTo>
                          <a:pt x="107" y="17"/>
                        </a:lnTo>
                        <a:lnTo>
                          <a:pt x="10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513240" y="4422600"/>
                    <a:ext cx="30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27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12"/>
                        </a:lnTo>
                        <a:lnTo>
                          <a:pt x="0" y="27"/>
                        </a:lnTo>
                        <a:lnTo>
                          <a:pt x="105" y="1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541680" y="441324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50">
                        <a:moveTo>
                          <a:pt x="107" y="0"/>
                        </a:moveTo>
                        <a:lnTo>
                          <a:pt x="112" y="0"/>
                        </a:lnTo>
                        <a:lnTo>
                          <a:pt x="0" y="33"/>
                        </a:lnTo>
                        <a:lnTo>
                          <a:pt x="2" y="50"/>
                        </a:lnTo>
                        <a:lnTo>
                          <a:pt x="115" y="18"/>
                        </a:lnTo>
                        <a:lnTo>
                          <a:pt x="117" y="18"/>
                        </a:lnTo>
                        <a:lnTo>
                          <a:pt x="115" y="18"/>
                        </a:lnTo>
                        <a:lnTo>
                          <a:pt x="117" y="18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571920" y="440064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3">
                        <a:moveTo>
                          <a:pt x="90" y="0"/>
                        </a:moveTo>
                        <a:lnTo>
                          <a:pt x="93" y="0"/>
                        </a:lnTo>
                        <a:lnTo>
                          <a:pt x="0" y="45"/>
                        </a:lnTo>
                        <a:lnTo>
                          <a:pt x="10" y="63"/>
                        </a:lnTo>
                        <a:lnTo>
                          <a:pt x="100" y="18"/>
                        </a:lnTo>
                        <a:lnTo>
                          <a:pt x="103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597120" y="438480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77">
                        <a:moveTo>
                          <a:pt x="90" y="0"/>
                        </a:moveTo>
                        <a:lnTo>
                          <a:pt x="0" y="62"/>
                        </a:lnTo>
                        <a:lnTo>
                          <a:pt x="13" y="77"/>
                        </a:lnTo>
                        <a:lnTo>
                          <a:pt x="103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622680" y="43657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73" y="2"/>
                        </a:moveTo>
                        <a:lnTo>
                          <a:pt x="73" y="0"/>
                        </a:lnTo>
                        <a:lnTo>
                          <a:pt x="0" y="70"/>
                        </a:lnTo>
                        <a:lnTo>
                          <a:pt x="13" y="85"/>
                        </a:lnTo>
                        <a:lnTo>
                          <a:pt x="85" y="15"/>
                        </a:lnTo>
                        <a:lnTo>
                          <a:pt x="85" y="10"/>
                        </a:lnTo>
                        <a:lnTo>
                          <a:pt x="85" y="15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73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641760" y="4338720"/>
                    <a:ext cx="22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60" y="2"/>
                        </a:moveTo>
                        <a:lnTo>
                          <a:pt x="60" y="0"/>
                        </a:lnTo>
                        <a:lnTo>
                          <a:pt x="0" y="97"/>
                        </a:lnTo>
                        <a:lnTo>
                          <a:pt x="12" y="105"/>
                        </a:lnTo>
                        <a:lnTo>
                          <a:pt x="75" y="10"/>
                        </a:lnTo>
                        <a:lnTo>
                          <a:pt x="77" y="7"/>
                        </a:lnTo>
                        <a:lnTo>
                          <a:pt x="75" y="10"/>
                        </a:lnTo>
                        <a:lnTo>
                          <a:pt x="77" y="10"/>
                        </a:lnTo>
                        <a:lnTo>
                          <a:pt x="77" y="7"/>
                        </a:lnTo>
                        <a:lnTo>
                          <a:pt x="6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659040" y="431496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5">
                        <a:moveTo>
                          <a:pt x="32" y="0"/>
                        </a:moveTo>
                        <a:lnTo>
                          <a:pt x="0" y="90"/>
                        </a:lnTo>
                        <a:lnTo>
                          <a:pt x="17" y="95"/>
                        </a:lnTo>
                        <a:lnTo>
                          <a:pt x="50" y="5"/>
                        </a:lnTo>
                        <a:lnTo>
                          <a:pt x="50" y="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668760" y="4286160"/>
                    <a:ext cx="144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5">
                        <a:moveTo>
                          <a:pt x="30" y="2"/>
                        </a:moveTo>
                        <a:lnTo>
                          <a:pt x="30" y="0"/>
                        </a:lnTo>
                        <a:lnTo>
                          <a:pt x="0" y="102"/>
                        </a:lnTo>
                        <a:lnTo>
                          <a:pt x="18" y="105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676680" y="425772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10" y="0"/>
                        </a:move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28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676680" y="4227480"/>
                    <a:ext cx="7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3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0" y="113"/>
                        </a:lnTo>
                        <a:lnTo>
                          <a:pt x="28" y="113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3665520" y="4191120"/>
                    <a:ext cx="15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37">
                        <a:moveTo>
                          <a:pt x="25" y="30"/>
                        </a:moveTo>
                        <a:lnTo>
                          <a:pt x="10" y="37"/>
                        </a:lnTo>
                        <a:lnTo>
                          <a:pt x="40" y="137"/>
                        </a:lnTo>
                        <a:lnTo>
                          <a:pt x="58" y="132"/>
                        </a:lnTo>
                        <a:lnTo>
                          <a:pt x="28" y="32"/>
                        </a:lnTo>
                        <a:lnTo>
                          <a:pt x="13" y="42"/>
                        </a:lnTo>
                        <a:lnTo>
                          <a:pt x="25" y="30"/>
                        </a:lnTo>
                        <a:lnTo>
                          <a:pt x="0" y="0"/>
                        </a:lnTo>
                        <a:lnTo>
                          <a:pt x="10" y="37"/>
                        </a:lnTo>
                        <a:lnTo>
                          <a:pt x="2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3668760" y="419904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47" y="3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35" y="47"/>
                        </a:lnTo>
                        <a:lnTo>
                          <a:pt x="35" y="50"/>
                        </a:lnTo>
                        <a:lnTo>
                          <a:pt x="47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78120" y="4208400"/>
                    <a:ext cx="23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77">
                        <a:moveTo>
                          <a:pt x="85" y="62"/>
                        </a:moveTo>
                        <a:lnTo>
                          <a:pt x="12" y="0"/>
                        </a:lnTo>
                        <a:lnTo>
                          <a:pt x="0" y="15"/>
                        </a:lnTo>
                        <a:lnTo>
                          <a:pt x="75" y="77"/>
                        </a:lnTo>
                        <a:lnTo>
                          <a:pt x="85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700440" y="4226040"/>
                    <a:ext cx="28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3">
                        <a:moveTo>
                          <a:pt x="97" y="68"/>
                        </a:moveTo>
                        <a:lnTo>
                          <a:pt x="100" y="68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90" y="83"/>
                        </a:lnTo>
                        <a:lnTo>
                          <a:pt x="92" y="83"/>
                        </a:lnTo>
                        <a:lnTo>
                          <a:pt x="90" y="83"/>
                        </a:lnTo>
                        <a:lnTo>
                          <a:pt x="92" y="83"/>
                        </a:lnTo>
                        <a:lnTo>
                          <a:pt x="9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726000" y="4245120"/>
                    <a:ext cx="29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0">
                        <a:moveTo>
                          <a:pt x="108" y="42"/>
                        </a:move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03" y="60"/>
                        </a:lnTo>
                        <a:lnTo>
                          <a:pt x="108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754440" y="4255920"/>
                    <a:ext cx="284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5">
                        <a:moveTo>
                          <a:pt x="100" y="28"/>
                        </a:moveTo>
                        <a:lnTo>
                          <a:pt x="102" y="28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0" y="45"/>
                        </a:lnTo>
                        <a:lnTo>
                          <a:pt x="10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3782880" y="4264200"/>
                    <a:ext cx="33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5">
                        <a:moveTo>
                          <a:pt x="117" y="15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17" y="32"/>
                        </a:lnTo>
                        <a:lnTo>
                          <a:pt x="117" y="35"/>
                        </a:lnTo>
                        <a:lnTo>
                          <a:pt x="117" y="32"/>
                        </a:lnTo>
                        <a:lnTo>
                          <a:pt x="11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814920" y="4265640"/>
                    <a:ext cx="29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7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10"/>
                        </a:lnTo>
                        <a:lnTo>
                          <a:pt x="0" y="27"/>
                        </a:lnTo>
                        <a:lnTo>
                          <a:pt x="105" y="17"/>
                        </a:lnTo>
                        <a:lnTo>
                          <a:pt x="108" y="17"/>
                        </a:lnTo>
                        <a:lnTo>
                          <a:pt x="105" y="17"/>
                        </a:lnTo>
                        <a:lnTo>
                          <a:pt x="108" y="1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844800" y="4255920"/>
                    <a:ext cx="28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0">
                        <a:moveTo>
                          <a:pt x="95" y="0"/>
                        </a:moveTo>
                        <a:lnTo>
                          <a:pt x="0" y="33"/>
                        </a:lnTo>
                        <a:lnTo>
                          <a:pt x="5" y="50"/>
                        </a:lnTo>
                        <a:lnTo>
                          <a:pt x="102" y="18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3870360" y="42451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0">
                        <a:moveTo>
                          <a:pt x="97" y="0"/>
                        </a:moveTo>
                        <a:lnTo>
                          <a:pt x="102" y="0"/>
                        </a:ln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07" y="15"/>
                        </a:lnTo>
                        <a:lnTo>
                          <a:pt x="110" y="15"/>
                        </a:lnTo>
                        <a:lnTo>
                          <a:pt x="107" y="15"/>
                        </a:lnTo>
                        <a:lnTo>
                          <a:pt x="110" y="1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897360" y="422928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3">
                        <a:moveTo>
                          <a:pt x="83" y="3"/>
                        </a:moveTo>
                        <a:lnTo>
                          <a:pt x="83" y="0"/>
                        </a:lnTo>
                        <a:lnTo>
                          <a:pt x="0" y="58"/>
                        </a:lnTo>
                        <a:lnTo>
                          <a:pt x="13" y="73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8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921120" y="420516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8">
                        <a:moveTo>
                          <a:pt x="77" y="0"/>
                        </a:moveTo>
                        <a:lnTo>
                          <a:pt x="0" y="88"/>
                        </a:lnTo>
                        <a:lnTo>
                          <a:pt x="12" y="98"/>
                        </a:lnTo>
                        <a:lnTo>
                          <a:pt x="92" y="13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943440" y="41832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3">
                        <a:moveTo>
                          <a:pt x="68" y="3"/>
                        </a:moveTo>
                        <a:lnTo>
                          <a:pt x="70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lnTo>
                          <a:pt x="85" y="10"/>
                        </a:lnTo>
                        <a:lnTo>
                          <a:pt x="85" y="8"/>
                        </a:lnTo>
                        <a:lnTo>
                          <a:pt x="85" y="10"/>
                        </a:lnTo>
                        <a:lnTo>
                          <a:pt x="85" y="8"/>
                        </a:lnTo>
                        <a:lnTo>
                          <a:pt x="68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962520" y="415908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98">
                        <a:moveTo>
                          <a:pt x="37" y="0"/>
                        </a:moveTo>
                        <a:lnTo>
                          <a:pt x="0" y="93"/>
                        </a:lnTo>
                        <a:lnTo>
                          <a:pt x="17" y="98"/>
                        </a:lnTo>
                        <a:lnTo>
                          <a:pt x="55" y="5"/>
                        </a:lnTo>
                        <a:lnTo>
                          <a:pt x="55" y="3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971880" y="413064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5">
                        <a:moveTo>
                          <a:pt x="25" y="2"/>
                        </a:moveTo>
                        <a:lnTo>
                          <a:pt x="25" y="0"/>
                        </a:lnTo>
                        <a:lnTo>
                          <a:pt x="0" y="102"/>
                        </a:lnTo>
                        <a:lnTo>
                          <a:pt x="18" y="105"/>
                        </a:lnTo>
                        <a:lnTo>
                          <a:pt x="43" y="2"/>
                        </a:lnTo>
                        <a:lnTo>
                          <a:pt x="2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3979800" y="4102200"/>
                    <a:ext cx="9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7">
                        <a:moveTo>
                          <a:pt x="15" y="0"/>
                        </a:move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33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979800" y="4073400"/>
                    <a:ext cx="9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5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5" y="105"/>
                        </a:lnTo>
                        <a:lnTo>
                          <a:pt x="33" y="105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971880" y="4043520"/>
                    <a:ext cx="12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10">
                        <a:moveTo>
                          <a:pt x="0" y="5"/>
                        </a:moveTo>
                        <a:lnTo>
                          <a:pt x="27" y="110"/>
                        </a:lnTo>
                        <a:lnTo>
                          <a:pt x="45" y="108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960720" y="4016520"/>
                    <a:ext cx="15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05">
                        <a:moveTo>
                          <a:pt x="2" y="13"/>
                        </a:moveTo>
                        <a:lnTo>
                          <a:pt x="0" y="10"/>
                        </a:lnTo>
                        <a:lnTo>
                          <a:pt x="40" y="105"/>
                        </a:lnTo>
                        <a:lnTo>
                          <a:pt x="57" y="10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936960" y="3986280"/>
                    <a:ext cx="28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23">
                        <a:moveTo>
                          <a:pt x="30" y="13"/>
                        </a:moveTo>
                        <a:lnTo>
                          <a:pt x="20" y="25"/>
                        </a:lnTo>
                        <a:lnTo>
                          <a:pt x="87" y="123"/>
                        </a:lnTo>
                        <a:lnTo>
                          <a:pt x="100" y="110"/>
                        </a:lnTo>
                        <a:lnTo>
                          <a:pt x="32" y="15"/>
                        </a:lnTo>
                        <a:lnTo>
                          <a:pt x="22" y="28"/>
                        </a:lnTo>
                        <a:lnTo>
                          <a:pt x="30" y="13"/>
                        </a:lnTo>
                        <a:lnTo>
                          <a:pt x="0" y="0"/>
                        </a:lnTo>
                        <a:lnTo>
                          <a:pt x="20" y="25"/>
                        </a:lnTo>
                        <a:lnTo>
                          <a:pt x="3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943440" y="3989520"/>
                    <a:ext cx="15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5">
                        <a:moveTo>
                          <a:pt x="55" y="17"/>
                        </a:moveTo>
                        <a:lnTo>
                          <a:pt x="58" y="17"/>
                        </a:lnTo>
                        <a:lnTo>
                          <a:pt x="8" y="0"/>
                        </a:lnTo>
                        <a:lnTo>
                          <a:pt x="0" y="15"/>
                        </a:lnTo>
                        <a:lnTo>
                          <a:pt x="53" y="35"/>
                        </a:lnTo>
                        <a:lnTo>
                          <a:pt x="55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957480" y="399420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8">
                        <a:moveTo>
                          <a:pt x="105" y="20"/>
                        </a:moveTo>
                        <a:lnTo>
                          <a:pt x="107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lnTo>
                          <a:pt x="105" y="38"/>
                        </a:lnTo>
                        <a:lnTo>
                          <a:pt x="10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987720" y="400068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0">
                        <a:moveTo>
                          <a:pt x="105" y="13"/>
                        </a:move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05" y="30"/>
                        </a:lnTo>
                        <a:lnTo>
                          <a:pt x="105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4016520" y="399888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2">
                        <a:moveTo>
                          <a:pt x="107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107" y="17"/>
                        </a:lnTo>
                        <a:lnTo>
                          <a:pt x="110" y="17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046400" y="3992400"/>
                    <a:ext cx="2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2">
                        <a:moveTo>
                          <a:pt x="95" y="0"/>
                        </a:moveTo>
                        <a:lnTo>
                          <a:pt x="98" y="0"/>
                        </a:lnTo>
                        <a:lnTo>
                          <a:pt x="0" y="25"/>
                        </a:lnTo>
                        <a:lnTo>
                          <a:pt x="3" y="42"/>
                        </a:lnTo>
                        <a:lnTo>
                          <a:pt x="100" y="17"/>
                        </a:lnTo>
                        <a:lnTo>
                          <a:pt x="103" y="17"/>
                        </a:lnTo>
                        <a:lnTo>
                          <a:pt x="100" y="17"/>
                        </a:lnTo>
                        <a:lnTo>
                          <a:pt x="103" y="17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4073400" y="39798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2">
                        <a:moveTo>
                          <a:pt x="95" y="0"/>
                        </a:moveTo>
                        <a:lnTo>
                          <a:pt x="100" y="0"/>
                        </a:lnTo>
                        <a:lnTo>
                          <a:pt x="0" y="45"/>
                        </a:lnTo>
                        <a:lnTo>
                          <a:pt x="8" y="62"/>
                        </a:lnTo>
                        <a:lnTo>
                          <a:pt x="105" y="17"/>
                        </a:lnTo>
                        <a:lnTo>
                          <a:pt x="108" y="15"/>
                        </a:lnTo>
                        <a:lnTo>
                          <a:pt x="105" y="17"/>
                        </a:lnTo>
                        <a:lnTo>
                          <a:pt x="105" y="15"/>
                        </a:lnTo>
                        <a:lnTo>
                          <a:pt x="108" y="1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100400" y="3959280"/>
                    <a:ext cx="28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90">
                        <a:moveTo>
                          <a:pt x="90" y="2"/>
                        </a:moveTo>
                        <a:lnTo>
                          <a:pt x="90" y="0"/>
                        </a:lnTo>
                        <a:lnTo>
                          <a:pt x="0" y="75"/>
                        </a:lnTo>
                        <a:lnTo>
                          <a:pt x="13" y="90"/>
                        </a:lnTo>
                        <a:lnTo>
                          <a:pt x="100" y="15"/>
                        </a:lnTo>
                        <a:lnTo>
                          <a:pt x="9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125960" y="39402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8">
                        <a:moveTo>
                          <a:pt x="70" y="0"/>
                        </a:moveTo>
                        <a:lnTo>
                          <a:pt x="73" y="0"/>
                        </a:lnTo>
                        <a:lnTo>
                          <a:pt x="0" y="75"/>
                        </a:lnTo>
                        <a:lnTo>
                          <a:pt x="10" y="88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45040" y="391788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5">
                        <a:moveTo>
                          <a:pt x="60" y="2"/>
                        </a:moveTo>
                        <a:lnTo>
                          <a:pt x="63" y="0"/>
                        </a:lnTo>
                        <a:lnTo>
                          <a:pt x="0" y="82"/>
                        </a:lnTo>
                        <a:lnTo>
                          <a:pt x="15" y="95"/>
                        </a:lnTo>
                        <a:lnTo>
                          <a:pt x="75" y="12"/>
                        </a:lnTo>
                        <a:lnTo>
                          <a:pt x="78" y="10"/>
                        </a:lnTo>
                        <a:lnTo>
                          <a:pt x="75" y="12"/>
                        </a:lnTo>
                        <a:lnTo>
                          <a:pt x="78" y="10"/>
                        </a:lnTo>
                        <a:lnTo>
                          <a:pt x="6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160880" y="3889440"/>
                    <a:ext cx="15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08">
                        <a:moveTo>
                          <a:pt x="40" y="3"/>
                        </a:moveTo>
                        <a:lnTo>
                          <a:pt x="40" y="0"/>
                        </a:lnTo>
                        <a:lnTo>
                          <a:pt x="0" y="100"/>
                        </a:lnTo>
                        <a:lnTo>
                          <a:pt x="18" y="108"/>
                        </a:lnTo>
                        <a:lnTo>
                          <a:pt x="55" y="5"/>
                        </a:lnTo>
                        <a:lnTo>
                          <a:pt x="4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4173480" y="3862440"/>
                    <a:ext cx="12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7">
                        <a:moveTo>
                          <a:pt x="25" y="2"/>
                        </a:moveTo>
                        <a:lnTo>
                          <a:pt x="25" y="0"/>
                        </a:lnTo>
                        <a:lnTo>
                          <a:pt x="0" y="105"/>
                        </a:lnTo>
                        <a:lnTo>
                          <a:pt x="15" y="107"/>
                        </a:lnTo>
                        <a:lnTo>
                          <a:pt x="43" y="2"/>
                        </a:lnTo>
                        <a:lnTo>
                          <a:pt x="2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179960" y="383220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0">
                        <a:moveTo>
                          <a:pt x="5" y="5"/>
                        </a:moveTo>
                        <a:lnTo>
                          <a:pt x="5" y="3"/>
                        </a:lnTo>
                        <a:lnTo>
                          <a:pt x="0" y="110"/>
                        </a:lnTo>
                        <a:lnTo>
                          <a:pt x="18" y="110"/>
                        </a:lnTo>
                        <a:lnTo>
                          <a:pt x="23" y="3"/>
                        </a:lnTo>
                        <a:lnTo>
                          <a:pt x="23" y="0"/>
                        </a:lnTo>
                        <a:lnTo>
                          <a:pt x="23" y="3"/>
                        </a:lnTo>
                        <a:lnTo>
                          <a:pt x="25" y="3"/>
                        </a:lnTo>
                        <a:lnTo>
                          <a:pt x="23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4176720" y="3803760"/>
                    <a:ext cx="93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10">
                        <a:moveTo>
                          <a:pt x="0" y="5"/>
                        </a:moveTo>
                        <a:lnTo>
                          <a:pt x="15" y="110"/>
                        </a:lnTo>
                        <a:lnTo>
                          <a:pt x="33" y="105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168800" y="377676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5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30" y="105"/>
                        </a:lnTo>
                        <a:lnTo>
                          <a:pt x="48" y="100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4154400" y="374976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5">
                        <a:moveTo>
                          <a:pt x="3" y="12"/>
                        </a:moveTo>
                        <a:lnTo>
                          <a:pt x="0" y="10"/>
                        </a:lnTo>
                        <a:lnTo>
                          <a:pt x="50" y="105"/>
                        </a:lnTo>
                        <a:lnTo>
                          <a:pt x="68" y="97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137120" y="3726000"/>
                    <a:ext cx="23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02">
                        <a:moveTo>
                          <a:pt x="0" y="15"/>
                        </a:moveTo>
                        <a:lnTo>
                          <a:pt x="0" y="12"/>
                        </a:lnTo>
                        <a:lnTo>
                          <a:pt x="68" y="102"/>
                        </a:lnTo>
                        <a:lnTo>
                          <a:pt x="83" y="90"/>
                        </a:lnTo>
                        <a:lnTo>
                          <a:pt x="13" y="2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114800" y="37069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3">
                        <a:moveTo>
                          <a:pt x="3" y="13"/>
                        </a:moveTo>
                        <a:lnTo>
                          <a:pt x="0" y="13"/>
                        </a:lnTo>
                        <a:lnTo>
                          <a:pt x="75" y="83"/>
                        </a:lnTo>
                        <a:lnTo>
                          <a:pt x="88" y="68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3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4091040" y="369108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3">
                        <a:moveTo>
                          <a:pt x="2" y="18"/>
                        </a:moveTo>
                        <a:lnTo>
                          <a:pt x="0" y="15"/>
                        </a:lnTo>
                        <a:lnTo>
                          <a:pt x="90" y="73"/>
                        </a:lnTo>
                        <a:lnTo>
                          <a:pt x="97" y="60"/>
                        </a:ln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4071960" y="368460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">
                        <a:moveTo>
                          <a:pt x="0" y="18"/>
                        </a:moveTo>
                        <a:lnTo>
                          <a:pt x="67" y="38"/>
                        </a:lnTo>
                        <a:lnTo>
                          <a:pt x="70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046400" y="3681360"/>
                    <a:ext cx="27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3">
                        <a:moveTo>
                          <a:pt x="30" y="0"/>
                        </a:moveTo>
                        <a:lnTo>
                          <a:pt x="32" y="18"/>
                        </a:lnTo>
                        <a:lnTo>
                          <a:pt x="95" y="33"/>
                        </a:lnTo>
                        <a:lnTo>
                          <a:pt x="97" y="15"/>
                        </a:lnTo>
                        <a:lnTo>
                          <a:pt x="35" y="0"/>
                        </a:lnTo>
                        <a:lnTo>
                          <a:pt x="37" y="18"/>
                        </a:ln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32" y="1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054320" y="3668760"/>
                    <a:ext cx="367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0">
                        <a:moveTo>
                          <a:pt x="125" y="0"/>
                        </a:move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32" y="17"/>
                        </a:lnTo>
                        <a:lnTo>
                          <a:pt x="132" y="15"/>
                        </a:lnTo>
                        <a:lnTo>
                          <a:pt x="132" y="17"/>
                        </a:lnTo>
                        <a:lnTo>
                          <a:pt x="132" y="15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089240" y="365292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73">
                        <a:moveTo>
                          <a:pt x="90" y="0"/>
                        </a:moveTo>
                        <a:lnTo>
                          <a:pt x="0" y="58"/>
                        </a:lnTo>
                        <a:lnTo>
                          <a:pt x="7" y="73"/>
                        </a:lnTo>
                        <a:lnTo>
                          <a:pt x="100" y="15"/>
                        </a:lnTo>
                        <a:lnTo>
                          <a:pt x="100" y="13"/>
                        </a:lnTo>
                        <a:lnTo>
                          <a:pt x="100" y="15"/>
                        </a:lnTo>
                        <a:lnTo>
                          <a:pt x="100" y="13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114800" y="36338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70" y="0"/>
                        </a:moveTo>
                        <a:lnTo>
                          <a:pt x="72" y="0"/>
                        </a:lnTo>
                        <a:lnTo>
                          <a:pt x="0" y="70"/>
                        </a:lnTo>
                        <a:lnTo>
                          <a:pt x="10" y="83"/>
                        </a:lnTo>
                        <a:lnTo>
                          <a:pt x="85" y="10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4133880" y="36115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90">
                        <a:moveTo>
                          <a:pt x="65" y="3"/>
                        </a:moveTo>
                        <a:lnTo>
                          <a:pt x="67" y="0"/>
                        </a:lnTo>
                        <a:lnTo>
                          <a:pt x="0" y="80"/>
                        </a:lnTo>
                        <a:lnTo>
                          <a:pt x="15" y="90"/>
                        </a:lnTo>
                        <a:lnTo>
                          <a:pt x="82" y="13"/>
                        </a:lnTo>
                        <a:lnTo>
                          <a:pt x="82" y="10"/>
                        </a:lnTo>
                        <a:lnTo>
                          <a:pt x="82" y="13"/>
                        </a:lnTo>
                        <a:lnTo>
                          <a:pt x="82" y="10"/>
                        </a:lnTo>
                        <a:lnTo>
                          <a:pt x="6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4152960" y="3586320"/>
                    <a:ext cx="19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7">
                        <a:moveTo>
                          <a:pt x="47" y="2"/>
                        </a:moveTo>
                        <a:lnTo>
                          <a:pt x="47" y="0"/>
                        </a:lnTo>
                        <a:lnTo>
                          <a:pt x="0" y="100"/>
                        </a:lnTo>
                        <a:lnTo>
                          <a:pt x="17" y="107"/>
                        </a:lnTo>
                        <a:lnTo>
                          <a:pt x="65" y="10"/>
                        </a:lnTo>
                        <a:lnTo>
                          <a:pt x="65" y="7"/>
                        </a:lnTo>
                        <a:lnTo>
                          <a:pt x="4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165560" y="355932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5">
                        <a:moveTo>
                          <a:pt x="33" y="3"/>
                        </a:moveTo>
                        <a:lnTo>
                          <a:pt x="33" y="0"/>
                        </a:lnTo>
                        <a:lnTo>
                          <a:pt x="0" y="100"/>
                        </a:lnTo>
                        <a:lnTo>
                          <a:pt x="18" y="105"/>
                        </a:lnTo>
                        <a:lnTo>
                          <a:pt x="50" y="5"/>
                        </a:lnTo>
                        <a:lnTo>
                          <a:pt x="3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4175280" y="3530520"/>
                    <a:ext cx="9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17" y="0"/>
                        </a:moveTo>
                        <a:lnTo>
                          <a:pt x="0" y="108"/>
                        </a:lnTo>
                        <a:lnTo>
                          <a:pt x="17" y="110"/>
                        </a:lnTo>
                        <a:lnTo>
                          <a:pt x="35" y="3"/>
                        </a:lnTo>
                        <a:lnTo>
                          <a:pt x="35" y="0"/>
                        </a:lnTo>
                        <a:lnTo>
                          <a:pt x="35" y="3"/>
                        </a:lnTo>
                        <a:lnTo>
                          <a:pt x="3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178160" y="3500280"/>
                    <a:ext cx="6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7">
                        <a:moveTo>
                          <a:pt x="0" y="2"/>
                        </a:moveTo>
                        <a:lnTo>
                          <a:pt x="5" y="107"/>
                        </a:lnTo>
                        <a:lnTo>
                          <a:pt x="23" y="107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170240" y="3471840"/>
                    <a:ext cx="129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5">
                        <a:moveTo>
                          <a:pt x="0" y="5"/>
                        </a:moveTo>
                        <a:lnTo>
                          <a:pt x="27" y="105"/>
                        </a:lnTo>
                        <a:lnTo>
                          <a:pt x="45" y="103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160880" y="3443400"/>
                    <a:ext cx="144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0">
                        <a:moveTo>
                          <a:pt x="0" y="13"/>
                        </a:moveTo>
                        <a:lnTo>
                          <a:pt x="0" y="8"/>
                        </a:lnTo>
                        <a:lnTo>
                          <a:pt x="35" y="110"/>
                        </a:lnTo>
                        <a:lnTo>
                          <a:pt x="52" y="105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145040" y="342108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8">
                        <a:moveTo>
                          <a:pt x="2" y="13"/>
                        </a:moveTo>
                        <a:lnTo>
                          <a:pt x="0" y="13"/>
                        </a:lnTo>
                        <a:lnTo>
                          <a:pt x="60" y="98"/>
                        </a:lnTo>
                        <a:lnTo>
                          <a:pt x="75" y="85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124160" y="340056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0" y="12"/>
                        </a:moveTo>
                        <a:lnTo>
                          <a:pt x="75" y="85"/>
                        </a:lnTo>
                        <a:lnTo>
                          <a:pt x="85" y="72"/>
                        </a:lnTo>
                        <a:lnTo>
                          <a:pt x="13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098960" y="3379680"/>
                    <a:ext cx="28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87">
                        <a:moveTo>
                          <a:pt x="0" y="17"/>
                        </a:moveTo>
                        <a:lnTo>
                          <a:pt x="90" y="87"/>
                        </a:lnTo>
                        <a:lnTo>
                          <a:pt x="103" y="75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071960" y="33670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5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95" y="65"/>
                        </a:lnTo>
                        <a:lnTo>
                          <a:pt x="105" y="48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044960" y="336060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0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98" y="40"/>
                        </a:lnTo>
                        <a:lnTo>
                          <a:pt x="100" y="22"/>
                        </a:lnTo>
                        <a:lnTo>
                          <a:pt x="3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014720" y="335592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20"/>
                        </a:moveTo>
                        <a:lnTo>
                          <a:pt x="113" y="35"/>
                        </a:lnTo>
                        <a:lnTo>
                          <a:pt x="113" y="18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986280" y="3357720"/>
                    <a:ext cx="28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2" y="22"/>
                        </a:moveTo>
                        <a:lnTo>
                          <a:pt x="0" y="22"/>
                        </a:lnTo>
                        <a:lnTo>
                          <a:pt x="102" y="17"/>
                        </a:lnTo>
                        <a:lnTo>
                          <a:pt x="102" y="0"/>
                        </a:lnTo>
                        <a:lnTo>
                          <a:pt x="0" y="5"/>
                        </a:lnTo>
                        <a:lnTo>
                          <a:pt x="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956040" y="335916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2">
                        <a:moveTo>
                          <a:pt x="5" y="42"/>
                        </a:moveTo>
                        <a:lnTo>
                          <a:pt x="107" y="17"/>
                        </a:lnTo>
                        <a:lnTo>
                          <a:pt x="105" y="0"/>
                        </a:lnTo>
                        <a:lnTo>
                          <a:pt x="0" y="25"/>
                        </a:lnTo>
                        <a:lnTo>
                          <a:pt x="5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933720" y="33656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5">
                        <a:moveTo>
                          <a:pt x="18" y="20"/>
                        </a:moveTo>
                        <a:lnTo>
                          <a:pt x="28" y="35"/>
                        </a:lnTo>
                        <a:lnTo>
                          <a:pt x="83" y="17"/>
                        </a:lnTo>
                        <a:lnTo>
                          <a:pt x="78" y="0"/>
                        </a:lnTo>
                        <a:lnTo>
                          <a:pt x="23" y="17"/>
                        </a:lnTo>
                        <a:lnTo>
                          <a:pt x="33" y="32"/>
                        </a:lnTo>
                        <a:lnTo>
                          <a:pt x="18" y="20"/>
                        </a:lnTo>
                        <a:lnTo>
                          <a:pt x="0" y="45"/>
                        </a:lnTo>
                        <a:lnTo>
                          <a:pt x="28" y="35"/>
                        </a:lnTo>
                        <a:lnTo>
                          <a:pt x="1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940200" y="3344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0" y="2"/>
                        </a:moveTo>
                        <a:lnTo>
                          <a:pt x="70" y="0"/>
                        </a:lnTo>
                        <a:lnTo>
                          <a:pt x="0" y="95"/>
                        </a:lnTo>
                        <a:lnTo>
                          <a:pt x="15" y="107"/>
                        </a:lnTo>
                        <a:lnTo>
                          <a:pt x="85" y="10"/>
                        </a:lnTo>
                        <a:lnTo>
                          <a:pt x="87" y="7"/>
                        </a:lnTo>
                        <a:lnTo>
                          <a:pt x="85" y="10"/>
                        </a:lnTo>
                        <a:lnTo>
                          <a:pt x="87" y="10"/>
                        </a:lnTo>
                        <a:lnTo>
                          <a:pt x="87" y="7"/>
                        </a:lnTo>
                        <a:lnTo>
                          <a:pt x="7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959280" y="3317760"/>
                    <a:ext cx="158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02">
                        <a:moveTo>
                          <a:pt x="42" y="0"/>
                        </a:moveTo>
                        <a:lnTo>
                          <a:pt x="0" y="97"/>
                        </a:lnTo>
                        <a:lnTo>
                          <a:pt x="17" y="102"/>
                        </a:lnTo>
                        <a:lnTo>
                          <a:pt x="57" y="5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3971880" y="3290760"/>
                    <a:ext cx="11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8">
                        <a:moveTo>
                          <a:pt x="20" y="0"/>
                        </a:moveTo>
                        <a:lnTo>
                          <a:pt x="0" y="103"/>
                        </a:lnTo>
                        <a:lnTo>
                          <a:pt x="15" y="108"/>
                        </a:lnTo>
                        <a:lnTo>
                          <a:pt x="38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3976560" y="3260880"/>
                    <a:ext cx="111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0">
                        <a:moveTo>
                          <a:pt x="20" y="2"/>
                        </a:moveTo>
                        <a:lnTo>
                          <a:pt x="20" y="0"/>
                        </a:lnTo>
                        <a:lnTo>
                          <a:pt x="0" y="107"/>
                        </a:lnTo>
                        <a:lnTo>
                          <a:pt x="18" y="110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2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3976560" y="3232080"/>
                    <a:ext cx="11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5">
                        <a:moveTo>
                          <a:pt x="0" y="3"/>
                        </a:moveTo>
                        <a:lnTo>
                          <a:pt x="20" y="105"/>
                        </a:lnTo>
                        <a:lnTo>
                          <a:pt x="38" y="103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971880" y="3203640"/>
                    <a:ext cx="9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0" y="5"/>
                        </a:moveTo>
                        <a:lnTo>
                          <a:pt x="0" y="2"/>
                        </a:lnTo>
                        <a:lnTo>
                          <a:pt x="17" y="110"/>
                        </a:lnTo>
                        <a:lnTo>
                          <a:pt x="35" y="107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3960720" y="317808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8">
                        <a:moveTo>
                          <a:pt x="2" y="10"/>
                        </a:moveTo>
                        <a:lnTo>
                          <a:pt x="0" y="8"/>
                        </a:lnTo>
                        <a:lnTo>
                          <a:pt x="40" y="98"/>
                        </a:lnTo>
                        <a:lnTo>
                          <a:pt x="57" y="93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941640" y="315432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5">
                        <a:moveTo>
                          <a:pt x="0" y="10"/>
                        </a:moveTo>
                        <a:lnTo>
                          <a:pt x="67" y="95"/>
                        </a:lnTo>
                        <a:lnTo>
                          <a:pt x="80" y="85"/>
                        </a:lnTo>
                        <a:lnTo>
                          <a:pt x="12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921120" y="313200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5">
                        <a:moveTo>
                          <a:pt x="0" y="15"/>
                        </a:moveTo>
                        <a:lnTo>
                          <a:pt x="78" y="95"/>
                        </a:lnTo>
                        <a:lnTo>
                          <a:pt x="90" y="85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897360" y="311472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5">
                        <a:moveTo>
                          <a:pt x="3" y="18"/>
                        </a:moveTo>
                        <a:lnTo>
                          <a:pt x="0" y="15"/>
                        </a:lnTo>
                        <a:lnTo>
                          <a:pt x="85" y="75"/>
                        </a:lnTo>
                        <a:lnTo>
                          <a:pt x="98" y="6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870360" y="310356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8">
                        <a:moveTo>
                          <a:pt x="0" y="18"/>
                        </a:moveTo>
                        <a:lnTo>
                          <a:pt x="98" y="58"/>
                        </a:lnTo>
                        <a:lnTo>
                          <a:pt x="105" y="40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841920" y="3094200"/>
                    <a:ext cx="29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3">
                        <a:moveTo>
                          <a:pt x="5" y="18"/>
                        </a:moveTo>
                        <a:lnTo>
                          <a:pt x="0" y="18"/>
                        </a:lnTo>
                        <a:lnTo>
                          <a:pt x="100" y="53"/>
                        </a:lnTo>
                        <a:lnTo>
                          <a:pt x="105" y="35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813120" y="3092400"/>
                    <a:ext cx="31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8">
                        <a:moveTo>
                          <a:pt x="0" y="18"/>
                        </a:moveTo>
                        <a:lnTo>
                          <a:pt x="110" y="28"/>
                        </a:lnTo>
                        <a:lnTo>
                          <a:pt x="110" y="1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781440" y="309240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5">
                        <a:moveTo>
                          <a:pt x="2" y="35"/>
                        </a:moveTo>
                        <a:lnTo>
                          <a:pt x="0" y="35"/>
                        </a:lnTo>
                        <a:lnTo>
                          <a:pt x="112" y="18"/>
                        </a:lnTo>
                        <a:lnTo>
                          <a:pt x="112" y="0"/>
                        </a:lnTo>
                        <a:lnTo>
                          <a:pt x="0" y="18"/>
                        </a:lnTo>
                        <a:lnTo>
                          <a:pt x="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751200" y="3097080"/>
                    <a:ext cx="30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5">
                        <a:moveTo>
                          <a:pt x="7" y="45"/>
                        </a:moveTo>
                        <a:lnTo>
                          <a:pt x="5" y="45"/>
                        </a:lnTo>
                        <a:lnTo>
                          <a:pt x="107" y="17"/>
                        </a:lnTo>
                        <a:lnTo>
                          <a:pt x="105" y="0"/>
                        </a:lnTo>
                        <a:lnTo>
                          <a:pt x="2" y="27"/>
                        </a:lnTo>
                        <a:lnTo>
                          <a:pt x="0" y="27"/>
                        </a:lnTo>
                        <a:lnTo>
                          <a:pt x="7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726000" y="3103560"/>
                    <a:ext cx="28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8">
                        <a:moveTo>
                          <a:pt x="10" y="55"/>
                        </a:moveTo>
                        <a:lnTo>
                          <a:pt x="7" y="58"/>
                        </a:lnTo>
                        <a:lnTo>
                          <a:pt x="102" y="18"/>
                        </a:lnTo>
                        <a:lnTo>
                          <a:pt x="95" y="0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1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699000" y="31147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5">
                        <a:moveTo>
                          <a:pt x="10" y="85"/>
                        </a:moveTo>
                        <a:lnTo>
                          <a:pt x="105" y="15"/>
                        </a:lnTo>
                        <a:lnTo>
                          <a:pt x="95" y="0"/>
                        </a:lnTo>
                        <a:lnTo>
                          <a:pt x="0" y="7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676680" y="313380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0">
                        <a:moveTo>
                          <a:pt x="12" y="78"/>
                        </a:moveTo>
                        <a:lnTo>
                          <a:pt x="12" y="80"/>
                        </a:lnTo>
                        <a:lnTo>
                          <a:pt x="85" y="15"/>
                        </a:lnTo>
                        <a:lnTo>
                          <a:pt x="75" y="0"/>
                        </a:lnTo>
                        <a:lnTo>
                          <a:pt x="0" y="65"/>
                        </a:lnTo>
                        <a:lnTo>
                          <a:pt x="12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665520" y="315288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73">
                        <a:moveTo>
                          <a:pt x="10" y="38"/>
                        </a:moveTo>
                        <a:lnTo>
                          <a:pt x="25" y="45"/>
                        </a:lnTo>
                        <a:lnTo>
                          <a:pt x="57" y="13"/>
                        </a:lnTo>
                        <a:lnTo>
                          <a:pt x="45" y="0"/>
                        </a:lnTo>
                        <a:lnTo>
                          <a:pt x="12" y="35"/>
                        </a:lnTo>
                        <a:lnTo>
                          <a:pt x="27" y="43"/>
                        </a:lnTo>
                        <a:lnTo>
                          <a:pt x="10" y="38"/>
                        </a:lnTo>
                        <a:lnTo>
                          <a:pt x="0" y="73"/>
                        </a:lnTo>
                        <a:lnTo>
                          <a:pt x="25" y="45"/>
                        </a:lnTo>
                        <a:lnTo>
                          <a:pt x="1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666960" y="3135240"/>
                    <a:ext cx="129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3">
                        <a:moveTo>
                          <a:pt x="27" y="3"/>
                        </a:moveTo>
                        <a:lnTo>
                          <a:pt x="27" y="0"/>
                        </a:lnTo>
                        <a:lnTo>
                          <a:pt x="0" y="98"/>
                        </a:lnTo>
                        <a:lnTo>
                          <a:pt x="17" y="103"/>
                        </a:lnTo>
                        <a:lnTo>
                          <a:pt x="45" y="3"/>
                        </a:lnTo>
                        <a:lnTo>
                          <a:pt x="2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675240" y="310680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8">
                        <a:moveTo>
                          <a:pt x="10" y="0"/>
                        </a:moveTo>
                        <a:lnTo>
                          <a:pt x="0" y="108"/>
                        </a:lnTo>
                        <a:lnTo>
                          <a:pt x="18" y="108"/>
                        </a:lnTo>
                        <a:lnTo>
                          <a:pt x="28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675240" y="307656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0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10" y="110"/>
                        </a:lnTo>
                        <a:lnTo>
                          <a:pt x="28" y="11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666960" y="304812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8">
                        <a:moveTo>
                          <a:pt x="0" y="5"/>
                        </a:moveTo>
                        <a:lnTo>
                          <a:pt x="27" y="108"/>
                        </a:lnTo>
                        <a:lnTo>
                          <a:pt x="45" y="105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20920" y="3079800"/>
                    <a:ext cx="6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2">
                        <a:moveTo>
                          <a:pt x="18" y="102"/>
                        </a:moveTo>
                        <a:lnTo>
                          <a:pt x="23" y="0"/>
                        </a:lnTo>
                        <a:lnTo>
                          <a:pt x="5" y="0"/>
                        </a:lnTo>
                        <a:lnTo>
                          <a:pt x="0" y="102"/>
                        </a:lnTo>
                        <a:lnTo>
                          <a:pt x="18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20920" y="3108240"/>
                    <a:ext cx="6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0">
                        <a:moveTo>
                          <a:pt x="23" y="108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5" y="108"/>
                        </a:lnTo>
                        <a:lnTo>
                          <a:pt x="5" y="110"/>
                        </a:lnTo>
                        <a:lnTo>
                          <a:pt x="5" y="108"/>
                        </a:lnTo>
                        <a:lnTo>
                          <a:pt x="5" y="110"/>
                        </a:lnTo>
                        <a:lnTo>
                          <a:pt x="23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22360" y="3138480"/>
                    <a:ext cx="162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7">
                        <a:moveTo>
                          <a:pt x="30" y="112"/>
                        </a:moveTo>
                        <a:lnTo>
                          <a:pt x="45" y="105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lnTo>
                          <a:pt x="28" y="107"/>
                        </a:lnTo>
                        <a:lnTo>
                          <a:pt x="45" y="100"/>
                        </a:lnTo>
                        <a:lnTo>
                          <a:pt x="30" y="112"/>
                        </a:lnTo>
                        <a:lnTo>
                          <a:pt x="58" y="147"/>
                        </a:lnTo>
                        <a:lnTo>
                          <a:pt x="45" y="105"/>
                        </a:lnTo>
                        <a:lnTo>
                          <a:pt x="30" y="1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22360" y="31543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2">
                        <a:moveTo>
                          <a:pt x="2" y="15"/>
                        </a:moveTo>
                        <a:lnTo>
                          <a:pt x="0" y="12"/>
                        </a:lnTo>
                        <a:lnTo>
                          <a:pt x="32" y="52"/>
                        </a:lnTo>
                        <a:lnTo>
                          <a:pt x="47" y="40"/>
                        </a:lnTo>
                        <a:lnTo>
                          <a:pt x="15" y="2"/>
                        </a:lnTo>
                        <a:lnTo>
                          <a:pt x="15" y="0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1840" y="31352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0" y="15"/>
                        </a:moveTo>
                        <a:lnTo>
                          <a:pt x="72" y="83"/>
                        </a:lnTo>
                        <a:lnTo>
                          <a:pt x="85" y="68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276640" y="311796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80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93" y="80"/>
                        </a:lnTo>
                        <a:lnTo>
                          <a:pt x="103" y="65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249640" y="31050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3">
                        <a:moveTo>
                          <a:pt x="0" y="18"/>
                        </a:moveTo>
                        <a:lnTo>
                          <a:pt x="98" y="63"/>
                        </a:lnTo>
                        <a:lnTo>
                          <a:pt x="103" y="45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222640" y="310032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8">
                        <a:moveTo>
                          <a:pt x="0" y="18"/>
                        </a:moveTo>
                        <a:lnTo>
                          <a:pt x="97" y="38"/>
                        </a:lnTo>
                        <a:lnTo>
                          <a:pt x="100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89160" y="3094200"/>
                    <a:ext cx="334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38">
                        <a:moveTo>
                          <a:pt x="3" y="20"/>
                        </a:moveTo>
                        <a:lnTo>
                          <a:pt x="0" y="20"/>
                        </a:lnTo>
                        <a:lnTo>
                          <a:pt x="118" y="38"/>
                        </a:lnTo>
                        <a:lnTo>
                          <a:pt x="120" y="2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58920" y="3095640"/>
                    <a:ext cx="316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">
                        <a:moveTo>
                          <a:pt x="5" y="22"/>
                        </a:moveTo>
                        <a:lnTo>
                          <a:pt x="2" y="22"/>
                        </a:lnTo>
                        <a:lnTo>
                          <a:pt x="110" y="17"/>
                        </a:lnTo>
                        <a:lnTo>
                          <a:pt x="110" y="0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131920" y="309708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0">
                        <a:moveTo>
                          <a:pt x="7" y="50"/>
                        </a:moveTo>
                        <a:lnTo>
                          <a:pt x="105" y="17"/>
                        </a:lnTo>
                        <a:lnTo>
                          <a:pt x="100" y="0"/>
                        </a:lnTo>
                        <a:lnTo>
                          <a:pt x="0" y="32"/>
                        </a:lnTo>
                        <a:lnTo>
                          <a:pt x="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103480" y="31050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3">
                        <a:moveTo>
                          <a:pt x="12" y="63"/>
                        </a:moveTo>
                        <a:lnTo>
                          <a:pt x="10" y="63"/>
                        </a:lnTo>
                        <a:lnTo>
                          <a:pt x="107" y="18"/>
                        </a:lnTo>
                        <a:lnTo>
                          <a:pt x="100" y="0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12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79720" y="311940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">
                        <a:moveTo>
                          <a:pt x="15" y="75"/>
                        </a:moveTo>
                        <a:lnTo>
                          <a:pt x="12" y="75"/>
                        </a:lnTo>
                        <a:lnTo>
                          <a:pt x="97" y="15"/>
                        </a:lnTo>
                        <a:lnTo>
                          <a:pt x="85" y="0"/>
                        </a:lnTo>
                        <a:lnTo>
                          <a:pt x="2" y="62"/>
                        </a:lnTo>
                        <a:lnTo>
                          <a:pt x="0" y="62"/>
                        </a:lnTo>
                        <a:lnTo>
                          <a:pt x="1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057400" y="313524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3">
                        <a:moveTo>
                          <a:pt x="15" y="93"/>
                        </a:moveTo>
                        <a:lnTo>
                          <a:pt x="93" y="13"/>
                        </a:lnTo>
                        <a:lnTo>
                          <a:pt x="78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038320" y="3157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3">
                        <a:moveTo>
                          <a:pt x="18" y="90"/>
                        </a:moveTo>
                        <a:lnTo>
                          <a:pt x="15" y="93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lnTo>
                          <a:pt x="0" y="83"/>
                        </a:lnTo>
                        <a:lnTo>
                          <a:pt x="0" y="85"/>
                        </a:lnTo>
                        <a:lnTo>
                          <a:pt x="0" y="83"/>
                        </a:lnTo>
                        <a:lnTo>
                          <a:pt x="0" y="85"/>
                        </a:lnTo>
                        <a:lnTo>
                          <a:pt x="18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027160" y="318132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0">
                        <a:moveTo>
                          <a:pt x="18" y="98"/>
                        </a:moveTo>
                        <a:lnTo>
                          <a:pt x="18" y="100"/>
                        </a:lnTo>
                        <a:lnTo>
                          <a:pt x="58" y="5"/>
                        </a:lnTo>
                        <a:lnTo>
                          <a:pt x="40" y="0"/>
                        </a:lnTo>
                        <a:lnTo>
                          <a:pt x="0" y="93"/>
                        </a:lnTo>
                        <a:lnTo>
                          <a:pt x="0" y="95"/>
                        </a:lnTo>
                        <a:lnTo>
                          <a:pt x="0" y="93"/>
                        </a:lnTo>
                        <a:lnTo>
                          <a:pt x="0" y="95"/>
                        </a:lnTo>
                        <a:lnTo>
                          <a:pt x="18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21040" y="3206880"/>
                    <a:ext cx="108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0">
                        <a:moveTo>
                          <a:pt x="18" y="110"/>
                        </a:moveTo>
                        <a:lnTo>
                          <a:pt x="38" y="3"/>
                        </a:lnTo>
                        <a:lnTo>
                          <a:pt x="20" y="0"/>
                        </a:lnTo>
                        <a:lnTo>
                          <a:pt x="0" y="108"/>
                        </a:lnTo>
                        <a:lnTo>
                          <a:pt x="0" y="110"/>
                        </a:lnTo>
                        <a:lnTo>
                          <a:pt x="18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017800" y="3236760"/>
                    <a:ext cx="9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0">
                        <a:moveTo>
                          <a:pt x="18" y="100"/>
                        </a:moveTo>
                        <a:lnTo>
                          <a:pt x="33" y="0"/>
                        </a:lnTo>
                        <a:lnTo>
                          <a:pt x="15" y="0"/>
                        </a:lnTo>
                        <a:lnTo>
                          <a:pt x="0" y="100"/>
                        </a:lnTo>
                        <a:lnTo>
                          <a:pt x="18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017800" y="3263760"/>
                    <a:ext cx="9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10">
                        <a:moveTo>
                          <a:pt x="33" y="108"/>
                        </a:moveTo>
                        <a:lnTo>
                          <a:pt x="33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5" y="110"/>
                        </a:lnTo>
                        <a:lnTo>
                          <a:pt x="33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21040" y="3294000"/>
                    <a:ext cx="108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5">
                        <a:moveTo>
                          <a:pt x="40" y="97"/>
                        </a:moveTo>
                        <a:lnTo>
                          <a:pt x="40" y="100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lnTo>
                          <a:pt x="23" y="102"/>
                        </a:lnTo>
                        <a:lnTo>
                          <a:pt x="23" y="105"/>
                        </a:lnTo>
                        <a:lnTo>
                          <a:pt x="23" y="102"/>
                        </a:lnTo>
                        <a:lnTo>
                          <a:pt x="23" y="105"/>
                        </a:lnTo>
                        <a:lnTo>
                          <a:pt x="4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027160" y="3321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10">
                        <a:moveTo>
                          <a:pt x="57" y="98"/>
                        </a:moveTo>
                        <a:lnTo>
                          <a:pt x="60" y="10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42" y="105"/>
                        </a:lnTo>
                        <a:lnTo>
                          <a:pt x="45" y="110"/>
                        </a:lnTo>
                        <a:lnTo>
                          <a:pt x="42" y="105"/>
                        </a:lnTo>
                        <a:lnTo>
                          <a:pt x="42" y="108"/>
                        </a:lnTo>
                        <a:lnTo>
                          <a:pt x="45" y="110"/>
                        </a:lnTo>
                        <a:lnTo>
                          <a:pt x="57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39760" y="3348000"/>
                    <a:ext cx="28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2">
                        <a:moveTo>
                          <a:pt x="72" y="110"/>
                        </a:moveTo>
                        <a:lnTo>
                          <a:pt x="82" y="97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67" y="107"/>
                        </a:lnTo>
                        <a:lnTo>
                          <a:pt x="77" y="92"/>
                        </a:lnTo>
                        <a:lnTo>
                          <a:pt x="72" y="110"/>
                        </a:lnTo>
                        <a:lnTo>
                          <a:pt x="102" y="122"/>
                        </a:lnTo>
                        <a:lnTo>
                          <a:pt x="82" y="97"/>
                        </a:lnTo>
                        <a:lnTo>
                          <a:pt x="72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046240" y="3367080"/>
                    <a:ext cx="158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8">
                        <a:moveTo>
                          <a:pt x="2" y="18"/>
                        </a:moveTo>
                        <a:lnTo>
                          <a:pt x="0" y="18"/>
                        </a:lnTo>
                        <a:lnTo>
                          <a:pt x="52" y="38"/>
                        </a:lnTo>
                        <a:lnTo>
                          <a:pt x="57" y="2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016000" y="3362400"/>
                    <a:ext cx="320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0" y="17"/>
                        </a:moveTo>
                        <a:lnTo>
                          <a:pt x="107" y="35"/>
                        </a:lnTo>
                        <a:lnTo>
                          <a:pt x="110" y="17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989000" y="3357720"/>
                    <a:ext cx="28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2" y="20"/>
                        </a:moveTo>
                        <a:lnTo>
                          <a:pt x="100" y="35"/>
                        </a:lnTo>
                        <a:lnTo>
                          <a:pt x="100" y="18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2454120" y="5580000"/>
                  <a:ext cx="179640" cy="155520"/>
                </a:xfrm>
                <a:custGeom>
                  <a:avLst/>
                  <a:gdLst/>
                  <a:ahLst/>
                  <a:rect l="l" t="t" r="r" b="b"/>
                  <a:pathLst>
                    <a:path w="638" h="570">
                      <a:moveTo>
                        <a:pt x="448" y="170"/>
                      </a:moveTo>
                      <a:lnTo>
                        <a:pt x="638" y="20"/>
                      </a:lnTo>
                      <a:lnTo>
                        <a:pt x="473" y="0"/>
                      </a:lnTo>
                      <a:lnTo>
                        <a:pt x="388" y="48"/>
                      </a:lnTo>
                      <a:lnTo>
                        <a:pt x="150" y="128"/>
                      </a:lnTo>
                      <a:lnTo>
                        <a:pt x="0" y="295"/>
                      </a:lnTo>
                      <a:lnTo>
                        <a:pt x="150" y="170"/>
                      </a:lnTo>
                      <a:lnTo>
                        <a:pt x="313" y="198"/>
                      </a:lnTo>
                      <a:lnTo>
                        <a:pt x="370" y="198"/>
                      </a:lnTo>
                      <a:lnTo>
                        <a:pt x="365" y="248"/>
                      </a:lnTo>
                      <a:lnTo>
                        <a:pt x="265" y="320"/>
                      </a:lnTo>
                      <a:lnTo>
                        <a:pt x="108" y="320"/>
                      </a:lnTo>
                      <a:lnTo>
                        <a:pt x="108" y="385"/>
                      </a:lnTo>
                      <a:lnTo>
                        <a:pt x="188" y="385"/>
                      </a:lnTo>
                      <a:lnTo>
                        <a:pt x="265" y="348"/>
                      </a:lnTo>
                      <a:lnTo>
                        <a:pt x="288" y="410"/>
                      </a:lnTo>
                      <a:lnTo>
                        <a:pt x="405" y="358"/>
                      </a:lnTo>
                      <a:lnTo>
                        <a:pt x="288" y="570"/>
                      </a:lnTo>
                      <a:lnTo>
                        <a:pt x="438" y="398"/>
                      </a:lnTo>
                      <a:lnTo>
                        <a:pt x="455" y="265"/>
                      </a:lnTo>
                      <a:lnTo>
                        <a:pt x="510" y="170"/>
                      </a:lnTo>
                      <a:lnTo>
                        <a:pt x="448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63920" y="5656320"/>
                  <a:ext cx="155520" cy="226800"/>
                </a:xfrm>
                <a:custGeom>
                  <a:avLst/>
                  <a:gdLst/>
                  <a:ahLst/>
                  <a:rect l="l" t="t" r="r" b="b"/>
                  <a:pathLst>
                    <a:path w="555" h="830">
                      <a:moveTo>
                        <a:pt x="302" y="13"/>
                      </a:moveTo>
                      <a:lnTo>
                        <a:pt x="555" y="510"/>
                      </a:lnTo>
                      <a:lnTo>
                        <a:pt x="470" y="645"/>
                      </a:lnTo>
                      <a:lnTo>
                        <a:pt x="230" y="650"/>
                      </a:lnTo>
                      <a:lnTo>
                        <a:pt x="217" y="830"/>
                      </a:lnTo>
                      <a:lnTo>
                        <a:pt x="145" y="718"/>
                      </a:lnTo>
                      <a:lnTo>
                        <a:pt x="165" y="638"/>
                      </a:lnTo>
                      <a:lnTo>
                        <a:pt x="0" y="645"/>
                      </a:lnTo>
                      <a:lnTo>
                        <a:pt x="37" y="510"/>
                      </a:lnTo>
                      <a:lnTo>
                        <a:pt x="190" y="608"/>
                      </a:lnTo>
                      <a:lnTo>
                        <a:pt x="460" y="590"/>
                      </a:lnTo>
                      <a:lnTo>
                        <a:pt x="502" y="510"/>
                      </a:lnTo>
                      <a:lnTo>
                        <a:pt x="267" y="0"/>
                      </a:lnTo>
                      <a:lnTo>
                        <a:pt x="302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498760" y="5916600"/>
                  <a:ext cx="106200" cy="52560"/>
                </a:xfrm>
                <a:custGeom>
                  <a:avLst/>
                  <a:gdLst/>
                  <a:ahLst/>
                  <a:rect l="l" t="t" r="r" b="b"/>
                  <a:pathLst>
                    <a:path w="378" h="193">
                      <a:moveTo>
                        <a:pt x="378" y="0"/>
                      </a:moveTo>
                      <a:lnTo>
                        <a:pt x="128" y="65"/>
                      </a:lnTo>
                      <a:lnTo>
                        <a:pt x="0" y="108"/>
                      </a:lnTo>
                      <a:lnTo>
                        <a:pt x="30" y="193"/>
                      </a:lnTo>
                      <a:lnTo>
                        <a:pt x="148" y="105"/>
                      </a:lnTo>
                      <a:lnTo>
                        <a:pt x="330" y="155"/>
                      </a:lnTo>
                      <a:lnTo>
                        <a:pt x="333" y="133"/>
                      </a:lnTo>
                      <a:lnTo>
                        <a:pt x="338" y="110"/>
                      </a:lnTo>
                      <a:lnTo>
                        <a:pt x="340" y="93"/>
                      </a:lnTo>
                      <a:lnTo>
                        <a:pt x="343" y="75"/>
                      </a:lnTo>
                      <a:lnTo>
                        <a:pt x="348" y="58"/>
                      </a:lnTo>
                      <a:lnTo>
                        <a:pt x="355" y="40"/>
                      </a:lnTo>
                      <a:lnTo>
                        <a:pt x="365" y="23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60560" y="5578560"/>
                  <a:ext cx="219240" cy="280800"/>
                </a:xfrm>
                <a:custGeom>
                  <a:avLst/>
                  <a:gdLst/>
                  <a:ahLst/>
                  <a:rect l="l" t="t" r="r" b="b"/>
                  <a:pathLst>
                    <a:path w="780" h="1025">
                      <a:moveTo>
                        <a:pt x="455" y="105"/>
                      </a:moveTo>
                      <a:lnTo>
                        <a:pt x="310" y="10"/>
                      </a:lnTo>
                      <a:lnTo>
                        <a:pt x="132" y="0"/>
                      </a:lnTo>
                      <a:lnTo>
                        <a:pt x="0" y="153"/>
                      </a:lnTo>
                      <a:lnTo>
                        <a:pt x="22" y="393"/>
                      </a:lnTo>
                      <a:lnTo>
                        <a:pt x="202" y="670"/>
                      </a:lnTo>
                      <a:lnTo>
                        <a:pt x="275" y="875"/>
                      </a:lnTo>
                      <a:lnTo>
                        <a:pt x="550" y="1025"/>
                      </a:lnTo>
                      <a:lnTo>
                        <a:pt x="780" y="953"/>
                      </a:lnTo>
                      <a:lnTo>
                        <a:pt x="765" y="875"/>
                      </a:lnTo>
                      <a:lnTo>
                        <a:pt x="622" y="890"/>
                      </a:lnTo>
                      <a:lnTo>
                        <a:pt x="347" y="808"/>
                      </a:lnTo>
                      <a:lnTo>
                        <a:pt x="190" y="495"/>
                      </a:lnTo>
                      <a:lnTo>
                        <a:pt x="92" y="385"/>
                      </a:lnTo>
                      <a:lnTo>
                        <a:pt x="85" y="178"/>
                      </a:lnTo>
                      <a:lnTo>
                        <a:pt x="142" y="60"/>
                      </a:lnTo>
                      <a:lnTo>
                        <a:pt x="310" y="48"/>
                      </a:lnTo>
                      <a:lnTo>
                        <a:pt x="45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14560" y="5587920"/>
                  <a:ext cx="131760" cy="147600"/>
                </a:xfrm>
                <a:custGeom>
                  <a:avLst/>
                  <a:gdLst/>
                  <a:ahLst/>
                  <a:rect l="l" t="t" r="r" b="b"/>
                  <a:pathLst>
                    <a:path w="467" h="540">
                      <a:moveTo>
                        <a:pt x="430" y="265"/>
                      </a:moveTo>
                      <a:lnTo>
                        <a:pt x="380" y="387"/>
                      </a:lnTo>
                      <a:lnTo>
                        <a:pt x="467" y="540"/>
                      </a:lnTo>
                      <a:lnTo>
                        <a:pt x="322" y="455"/>
                      </a:lnTo>
                      <a:lnTo>
                        <a:pt x="200" y="407"/>
                      </a:lnTo>
                      <a:lnTo>
                        <a:pt x="262" y="265"/>
                      </a:lnTo>
                      <a:lnTo>
                        <a:pt x="140" y="147"/>
                      </a:lnTo>
                      <a:lnTo>
                        <a:pt x="22" y="170"/>
                      </a:lnTo>
                      <a:lnTo>
                        <a:pt x="0" y="300"/>
                      </a:lnTo>
                      <a:lnTo>
                        <a:pt x="0" y="147"/>
                      </a:lnTo>
                      <a:lnTo>
                        <a:pt x="140" y="97"/>
                      </a:lnTo>
                      <a:lnTo>
                        <a:pt x="252" y="147"/>
                      </a:lnTo>
                      <a:lnTo>
                        <a:pt x="272" y="62"/>
                      </a:lnTo>
                      <a:lnTo>
                        <a:pt x="372" y="0"/>
                      </a:lnTo>
                      <a:lnTo>
                        <a:pt x="467" y="185"/>
                      </a:lnTo>
                      <a:lnTo>
                        <a:pt x="430" y="2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716120" y="5873760"/>
                  <a:ext cx="177840" cy="403200"/>
                </a:xfrm>
                <a:custGeom>
                  <a:avLst/>
                  <a:gdLst/>
                  <a:ahLst/>
                  <a:rect l="l" t="t" r="r" b="b"/>
                  <a:pathLst>
                    <a:path w="633" h="1472">
                      <a:moveTo>
                        <a:pt x="258" y="0"/>
                      </a:moveTo>
                      <a:lnTo>
                        <a:pt x="58" y="392"/>
                      </a:lnTo>
                      <a:lnTo>
                        <a:pt x="408" y="725"/>
                      </a:lnTo>
                      <a:lnTo>
                        <a:pt x="390" y="970"/>
                      </a:lnTo>
                      <a:lnTo>
                        <a:pt x="575" y="1212"/>
                      </a:lnTo>
                      <a:lnTo>
                        <a:pt x="633" y="1472"/>
                      </a:lnTo>
                      <a:lnTo>
                        <a:pt x="443" y="1112"/>
                      </a:lnTo>
                      <a:lnTo>
                        <a:pt x="323" y="930"/>
                      </a:lnTo>
                      <a:lnTo>
                        <a:pt x="298" y="750"/>
                      </a:lnTo>
                      <a:lnTo>
                        <a:pt x="0" y="400"/>
                      </a:lnTo>
                      <a:lnTo>
                        <a:pt x="0" y="270"/>
                      </a:lnTo>
                      <a:lnTo>
                        <a:pt x="80" y="245"/>
                      </a:lnTo>
                      <a:lnTo>
                        <a:pt x="188" y="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44640" y="5878440"/>
                  <a:ext cx="446040" cy="522360"/>
                </a:xfrm>
                <a:custGeom>
                  <a:avLst/>
                  <a:gdLst/>
                  <a:ahLst/>
                  <a:rect l="l" t="t" r="r" b="b"/>
                  <a:pathLst>
                    <a:path w="1588" h="1905">
                      <a:moveTo>
                        <a:pt x="0" y="58"/>
                      </a:moveTo>
                      <a:lnTo>
                        <a:pt x="330" y="248"/>
                      </a:lnTo>
                      <a:lnTo>
                        <a:pt x="975" y="783"/>
                      </a:lnTo>
                      <a:lnTo>
                        <a:pt x="1443" y="1308"/>
                      </a:lnTo>
                      <a:lnTo>
                        <a:pt x="1525" y="1500"/>
                      </a:lnTo>
                      <a:lnTo>
                        <a:pt x="1455" y="1788"/>
                      </a:lnTo>
                      <a:lnTo>
                        <a:pt x="1393" y="1905"/>
                      </a:lnTo>
                      <a:lnTo>
                        <a:pt x="1525" y="1760"/>
                      </a:lnTo>
                      <a:lnTo>
                        <a:pt x="1588" y="1460"/>
                      </a:lnTo>
                      <a:lnTo>
                        <a:pt x="1455" y="1090"/>
                      </a:lnTo>
                      <a:lnTo>
                        <a:pt x="805" y="533"/>
                      </a:lnTo>
                      <a:lnTo>
                        <a:pt x="223" y="113"/>
                      </a:lnTo>
                      <a:lnTo>
                        <a:pt x="15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862280" y="6134040"/>
                  <a:ext cx="406080" cy="351000"/>
                </a:xfrm>
                <a:custGeom>
                  <a:avLst/>
                  <a:gdLst/>
                  <a:ahLst/>
                  <a:rect l="l" t="t" r="r" b="b"/>
                  <a:pathLst>
                    <a:path w="1450" h="1280">
                      <a:moveTo>
                        <a:pt x="1280" y="1025"/>
                      </a:moveTo>
                      <a:lnTo>
                        <a:pt x="1033" y="1205"/>
                      </a:lnTo>
                      <a:lnTo>
                        <a:pt x="828" y="760"/>
                      </a:lnTo>
                      <a:lnTo>
                        <a:pt x="495" y="372"/>
                      </a:lnTo>
                      <a:lnTo>
                        <a:pt x="0" y="0"/>
                      </a:lnTo>
                      <a:lnTo>
                        <a:pt x="495" y="422"/>
                      </a:lnTo>
                      <a:lnTo>
                        <a:pt x="770" y="797"/>
                      </a:lnTo>
                      <a:lnTo>
                        <a:pt x="1015" y="1280"/>
                      </a:lnTo>
                      <a:lnTo>
                        <a:pt x="1243" y="1135"/>
                      </a:lnTo>
                      <a:lnTo>
                        <a:pt x="1433" y="907"/>
                      </a:lnTo>
                      <a:lnTo>
                        <a:pt x="1450" y="782"/>
                      </a:lnTo>
                      <a:lnTo>
                        <a:pt x="1280" y="10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321000" y="5153040"/>
                  <a:ext cx="932040" cy="1041480"/>
                </a:xfrm>
                <a:custGeom>
                  <a:avLst/>
                  <a:gdLst/>
                  <a:ahLst/>
                  <a:rect l="l" t="t" r="r" b="b"/>
                  <a:pathLst>
                    <a:path w="3322" h="3800">
                      <a:moveTo>
                        <a:pt x="417" y="572"/>
                      </a:moveTo>
                      <a:lnTo>
                        <a:pt x="270" y="1467"/>
                      </a:lnTo>
                      <a:lnTo>
                        <a:pt x="400" y="1680"/>
                      </a:lnTo>
                      <a:lnTo>
                        <a:pt x="400" y="1820"/>
                      </a:lnTo>
                      <a:lnTo>
                        <a:pt x="0" y="2342"/>
                      </a:lnTo>
                      <a:lnTo>
                        <a:pt x="145" y="2462"/>
                      </a:lnTo>
                      <a:lnTo>
                        <a:pt x="455" y="2490"/>
                      </a:lnTo>
                      <a:lnTo>
                        <a:pt x="442" y="2665"/>
                      </a:lnTo>
                      <a:lnTo>
                        <a:pt x="532" y="2795"/>
                      </a:lnTo>
                      <a:lnTo>
                        <a:pt x="550" y="2855"/>
                      </a:lnTo>
                      <a:lnTo>
                        <a:pt x="560" y="2975"/>
                      </a:lnTo>
                      <a:lnTo>
                        <a:pt x="745" y="3080"/>
                      </a:lnTo>
                      <a:lnTo>
                        <a:pt x="757" y="3187"/>
                      </a:lnTo>
                      <a:lnTo>
                        <a:pt x="672" y="3337"/>
                      </a:lnTo>
                      <a:lnTo>
                        <a:pt x="665" y="3445"/>
                      </a:lnTo>
                      <a:lnTo>
                        <a:pt x="757" y="3567"/>
                      </a:lnTo>
                      <a:lnTo>
                        <a:pt x="1600" y="3577"/>
                      </a:lnTo>
                      <a:lnTo>
                        <a:pt x="1785" y="3800"/>
                      </a:lnTo>
                      <a:lnTo>
                        <a:pt x="2395" y="3240"/>
                      </a:lnTo>
                      <a:lnTo>
                        <a:pt x="2977" y="2790"/>
                      </a:lnTo>
                      <a:lnTo>
                        <a:pt x="3322" y="2625"/>
                      </a:lnTo>
                      <a:lnTo>
                        <a:pt x="2040" y="0"/>
                      </a:lnTo>
                      <a:lnTo>
                        <a:pt x="827" y="155"/>
                      </a:lnTo>
                      <a:lnTo>
                        <a:pt x="417" y="57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414600" y="5014800"/>
                  <a:ext cx="979560" cy="871560"/>
                </a:xfrm>
                <a:custGeom>
                  <a:avLst/>
                  <a:gdLst/>
                  <a:ahLst/>
                  <a:rect l="l" t="t" r="r" b="b"/>
                  <a:pathLst>
                    <a:path w="3492" h="3180">
                      <a:moveTo>
                        <a:pt x="25" y="1220"/>
                      </a:moveTo>
                      <a:lnTo>
                        <a:pt x="300" y="902"/>
                      </a:lnTo>
                      <a:lnTo>
                        <a:pt x="667" y="802"/>
                      </a:lnTo>
                      <a:lnTo>
                        <a:pt x="855" y="835"/>
                      </a:lnTo>
                      <a:lnTo>
                        <a:pt x="1045" y="710"/>
                      </a:lnTo>
                      <a:lnTo>
                        <a:pt x="1000" y="1387"/>
                      </a:lnTo>
                      <a:lnTo>
                        <a:pt x="1967" y="2205"/>
                      </a:lnTo>
                      <a:lnTo>
                        <a:pt x="2040" y="2140"/>
                      </a:lnTo>
                      <a:lnTo>
                        <a:pt x="2187" y="2062"/>
                      </a:lnTo>
                      <a:lnTo>
                        <a:pt x="2345" y="2062"/>
                      </a:lnTo>
                      <a:lnTo>
                        <a:pt x="2452" y="2217"/>
                      </a:lnTo>
                      <a:lnTo>
                        <a:pt x="2445" y="2495"/>
                      </a:lnTo>
                      <a:lnTo>
                        <a:pt x="2485" y="2637"/>
                      </a:lnTo>
                      <a:lnTo>
                        <a:pt x="2425" y="2907"/>
                      </a:lnTo>
                      <a:lnTo>
                        <a:pt x="2515" y="2902"/>
                      </a:lnTo>
                      <a:lnTo>
                        <a:pt x="2535" y="3067"/>
                      </a:lnTo>
                      <a:lnTo>
                        <a:pt x="2897" y="3180"/>
                      </a:lnTo>
                      <a:lnTo>
                        <a:pt x="3210" y="3085"/>
                      </a:lnTo>
                      <a:lnTo>
                        <a:pt x="3290" y="2942"/>
                      </a:lnTo>
                      <a:lnTo>
                        <a:pt x="3322" y="2675"/>
                      </a:lnTo>
                      <a:lnTo>
                        <a:pt x="3357" y="2437"/>
                      </a:lnTo>
                      <a:lnTo>
                        <a:pt x="3492" y="1815"/>
                      </a:lnTo>
                      <a:lnTo>
                        <a:pt x="3460" y="1162"/>
                      </a:lnTo>
                      <a:lnTo>
                        <a:pt x="3380" y="872"/>
                      </a:lnTo>
                      <a:lnTo>
                        <a:pt x="3055" y="467"/>
                      </a:lnTo>
                      <a:lnTo>
                        <a:pt x="2827" y="352"/>
                      </a:lnTo>
                      <a:lnTo>
                        <a:pt x="2397" y="87"/>
                      </a:lnTo>
                      <a:lnTo>
                        <a:pt x="1865" y="0"/>
                      </a:lnTo>
                      <a:lnTo>
                        <a:pt x="1447" y="32"/>
                      </a:lnTo>
                      <a:lnTo>
                        <a:pt x="750" y="217"/>
                      </a:lnTo>
                      <a:lnTo>
                        <a:pt x="515" y="380"/>
                      </a:lnTo>
                      <a:lnTo>
                        <a:pt x="157" y="607"/>
                      </a:lnTo>
                      <a:lnTo>
                        <a:pt x="25" y="802"/>
                      </a:lnTo>
                      <a:lnTo>
                        <a:pt x="0" y="1047"/>
                      </a:lnTo>
                      <a:lnTo>
                        <a:pt x="25" y="1220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433680" y="5573880"/>
                  <a:ext cx="181080" cy="156960"/>
                </a:xfrm>
                <a:custGeom>
                  <a:avLst/>
                  <a:gdLst/>
                  <a:ahLst/>
                  <a:rect l="l" t="t" r="r" b="b"/>
                  <a:pathLst>
                    <a:path w="645" h="572">
                      <a:moveTo>
                        <a:pt x="193" y="170"/>
                      </a:moveTo>
                      <a:lnTo>
                        <a:pt x="0" y="22"/>
                      </a:lnTo>
                      <a:lnTo>
                        <a:pt x="168" y="0"/>
                      </a:lnTo>
                      <a:lnTo>
                        <a:pt x="258" y="47"/>
                      </a:lnTo>
                      <a:lnTo>
                        <a:pt x="495" y="127"/>
                      </a:lnTo>
                      <a:lnTo>
                        <a:pt x="645" y="297"/>
                      </a:lnTo>
                      <a:lnTo>
                        <a:pt x="495" y="170"/>
                      </a:lnTo>
                      <a:lnTo>
                        <a:pt x="330" y="197"/>
                      </a:lnTo>
                      <a:lnTo>
                        <a:pt x="273" y="197"/>
                      </a:lnTo>
                      <a:lnTo>
                        <a:pt x="280" y="250"/>
                      </a:lnTo>
                      <a:lnTo>
                        <a:pt x="380" y="322"/>
                      </a:lnTo>
                      <a:lnTo>
                        <a:pt x="538" y="322"/>
                      </a:lnTo>
                      <a:lnTo>
                        <a:pt x="538" y="385"/>
                      </a:lnTo>
                      <a:lnTo>
                        <a:pt x="458" y="385"/>
                      </a:lnTo>
                      <a:lnTo>
                        <a:pt x="380" y="350"/>
                      </a:lnTo>
                      <a:lnTo>
                        <a:pt x="358" y="412"/>
                      </a:lnTo>
                      <a:lnTo>
                        <a:pt x="238" y="357"/>
                      </a:lnTo>
                      <a:lnTo>
                        <a:pt x="358" y="572"/>
                      </a:lnTo>
                      <a:lnTo>
                        <a:pt x="205" y="400"/>
                      </a:lnTo>
                      <a:lnTo>
                        <a:pt x="183" y="267"/>
                      </a:lnTo>
                      <a:lnTo>
                        <a:pt x="128" y="170"/>
                      </a:lnTo>
                      <a:lnTo>
                        <a:pt x="193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313080" y="5649840"/>
                  <a:ext cx="193680" cy="230400"/>
                </a:xfrm>
                <a:custGeom>
                  <a:avLst/>
                  <a:gdLst/>
                  <a:ahLst/>
                  <a:rect l="l" t="t" r="r" b="b"/>
                  <a:pathLst>
                    <a:path w="688" h="840">
                      <a:moveTo>
                        <a:pt x="383" y="15"/>
                      </a:moveTo>
                      <a:lnTo>
                        <a:pt x="0" y="533"/>
                      </a:lnTo>
                      <a:lnTo>
                        <a:pt x="165" y="673"/>
                      </a:lnTo>
                      <a:lnTo>
                        <a:pt x="455" y="655"/>
                      </a:lnTo>
                      <a:lnTo>
                        <a:pt x="468" y="840"/>
                      </a:lnTo>
                      <a:lnTo>
                        <a:pt x="540" y="723"/>
                      </a:lnTo>
                      <a:lnTo>
                        <a:pt x="520" y="643"/>
                      </a:lnTo>
                      <a:lnTo>
                        <a:pt x="688" y="650"/>
                      </a:lnTo>
                      <a:lnTo>
                        <a:pt x="650" y="515"/>
                      </a:lnTo>
                      <a:lnTo>
                        <a:pt x="493" y="613"/>
                      </a:lnTo>
                      <a:lnTo>
                        <a:pt x="175" y="633"/>
                      </a:lnTo>
                      <a:lnTo>
                        <a:pt x="50" y="530"/>
                      </a:lnTo>
                      <a:lnTo>
                        <a:pt x="415" y="0"/>
                      </a:lnTo>
                      <a:lnTo>
                        <a:pt x="38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90840" y="5103720"/>
                  <a:ext cx="317520" cy="513000"/>
                </a:xfrm>
                <a:custGeom>
                  <a:avLst/>
                  <a:gdLst/>
                  <a:ahLst/>
                  <a:rect l="l" t="t" r="r" b="b"/>
                  <a:pathLst>
                    <a:path w="1130" h="1870">
                      <a:moveTo>
                        <a:pt x="117" y="1825"/>
                      </a:moveTo>
                      <a:lnTo>
                        <a:pt x="50" y="1660"/>
                      </a:lnTo>
                      <a:lnTo>
                        <a:pt x="152" y="1315"/>
                      </a:lnTo>
                      <a:lnTo>
                        <a:pt x="132" y="967"/>
                      </a:lnTo>
                      <a:lnTo>
                        <a:pt x="395" y="642"/>
                      </a:lnTo>
                      <a:lnTo>
                        <a:pt x="785" y="510"/>
                      </a:lnTo>
                      <a:lnTo>
                        <a:pt x="987" y="570"/>
                      </a:lnTo>
                      <a:lnTo>
                        <a:pt x="1130" y="437"/>
                      </a:lnTo>
                      <a:lnTo>
                        <a:pt x="1092" y="377"/>
                      </a:lnTo>
                      <a:lnTo>
                        <a:pt x="865" y="457"/>
                      </a:lnTo>
                      <a:lnTo>
                        <a:pt x="457" y="320"/>
                      </a:lnTo>
                      <a:lnTo>
                        <a:pt x="722" y="437"/>
                      </a:lnTo>
                      <a:lnTo>
                        <a:pt x="465" y="437"/>
                      </a:lnTo>
                      <a:lnTo>
                        <a:pt x="205" y="607"/>
                      </a:lnTo>
                      <a:lnTo>
                        <a:pt x="152" y="520"/>
                      </a:lnTo>
                      <a:lnTo>
                        <a:pt x="300" y="387"/>
                      </a:lnTo>
                      <a:lnTo>
                        <a:pt x="152" y="412"/>
                      </a:lnTo>
                      <a:lnTo>
                        <a:pt x="277" y="277"/>
                      </a:lnTo>
                      <a:lnTo>
                        <a:pt x="672" y="0"/>
                      </a:lnTo>
                      <a:lnTo>
                        <a:pt x="242" y="277"/>
                      </a:lnTo>
                      <a:lnTo>
                        <a:pt x="62" y="500"/>
                      </a:lnTo>
                      <a:lnTo>
                        <a:pt x="25" y="917"/>
                      </a:lnTo>
                      <a:lnTo>
                        <a:pt x="95" y="967"/>
                      </a:lnTo>
                      <a:lnTo>
                        <a:pt x="0" y="1672"/>
                      </a:lnTo>
                      <a:lnTo>
                        <a:pt x="107" y="1870"/>
                      </a:lnTo>
                      <a:lnTo>
                        <a:pt x="117" y="18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52760" y="5886360"/>
                  <a:ext cx="109440" cy="79560"/>
                </a:xfrm>
                <a:custGeom>
                  <a:avLst/>
                  <a:gdLst/>
                  <a:ahLst/>
                  <a:rect l="l" t="t" r="r" b="b"/>
                  <a:pathLst>
                    <a:path w="390" h="288">
                      <a:moveTo>
                        <a:pt x="0" y="45"/>
                      </a:moveTo>
                      <a:lnTo>
                        <a:pt x="278" y="93"/>
                      </a:lnTo>
                      <a:lnTo>
                        <a:pt x="355" y="0"/>
                      </a:lnTo>
                      <a:lnTo>
                        <a:pt x="390" y="288"/>
                      </a:lnTo>
                      <a:lnTo>
                        <a:pt x="275" y="228"/>
                      </a:lnTo>
                      <a:lnTo>
                        <a:pt x="88" y="245"/>
                      </a:lnTo>
                      <a:lnTo>
                        <a:pt x="83" y="220"/>
                      </a:lnTo>
                      <a:lnTo>
                        <a:pt x="80" y="190"/>
                      </a:lnTo>
                      <a:lnTo>
                        <a:pt x="73" y="160"/>
                      </a:lnTo>
                      <a:lnTo>
                        <a:pt x="65" y="133"/>
                      </a:lnTo>
                      <a:lnTo>
                        <a:pt x="53" y="105"/>
                      </a:lnTo>
                      <a:lnTo>
                        <a:pt x="40" y="80"/>
                      </a:lnTo>
                      <a:lnTo>
                        <a:pt x="23" y="6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52840" y="5075280"/>
                  <a:ext cx="519120" cy="574560"/>
                </a:xfrm>
                <a:custGeom>
                  <a:avLst/>
                  <a:gdLst/>
                  <a:ahLst/>
                  <a:rect l="l" t="t" r="r" b="b"/>
                  <a:pathLst>
                    <a:path w="1853" h="2095">
                      <a:moveTo>
                        <a:pt x="808" y="432"/>
                      </a:moveTo>
                      <a:lnTo>
                        <a:pt x="808" y="592"/>
                      </a:lnTo>
                      <a:lnTo>
                        <a:pt x="1250" y="887"/>
                      </a:lnTo>
                      <a:lnTo>
                        <a:pt x="1853" y="1325"/>
                      </a:lnTo>
                      <a:lnTo>
                        <a:pt x="1250" y="955"/>
                      </a:lnTo>
                      <a:lnTo>
                        <a:pt x="828" y="895"/>
                      </a:lnTo>
                      <a:lnTo>
                        <a:pt x="815" y="1037"/>
                      </a:lnTo>
                      <a:lnTo>
                        <a:pt x="1045" y="1110"/>
                      </a:lnTo>
                      <a:lnTo>
                        <a:pt x="928" y="1195"/>
                      </a:lnTo>
                      <a:lnTo>
                        <a:pt x="1350" y="1407"/>
                      </a:lnTo>
                      <a:lnTo>
                        <a:pt x="1710" y="1735"/>
                      </a:lnTo>
                      <a:lnTo>
                        <a:pt x="1825" y="1850"/>
                      </a:lnTo>
                      <a:lnTo>
                        <a:pt x="1515" y="1592"/>
                      </a:lnTo>
                      <a:lnTo>
                        <a:pt x="1190" y="1372"/>
                      </a:lnTo>
                      <a:lnTo>
                        <a:pt x="808" y="1195"/>
                      </a:lnTo>
                      <a:lnTo>
                        <a:pt x="675" y="1222"/>
                      </a:lnTo>
                      <a:lnTo>
                        <a:pt x="1205" y="1637"/>
                      </a:lnTo>
                      <a:lnTo>
                        <a:pt x="1468" y="1827"/>
                      </a:lnTo>
                      <a:lnTo>
                        <a:pt x="1398" y="1912"/>
                      </a:lnTo>
                      <a:lnTo>
                        <a:pt x="1373" y="2095"/>
                      </a:lnTo>
                      <a:lnTo>
                        <a:pt x="900" y="2095"/>
                      </a:lnTo>
                      <a:lnTo>
                        <a:pt x="865" y="1912"/>
                      </a:lnTo>
                      <a:lnTo>
                        <a:pt x="398" y="1625"/>
                      </a:lnTo>
                      <a:lnTo>
                        <a:pt x="455" y="1325"/>
                      </a:lnTo>
                      <a:lnTo>
                        <a:pt x="370" y="1122"/>
                      </a:lnTo>
                      <a:lnTo>
                        <a:pt x="530" y="585"/>
                      </a:lnTo>
                      <a:lnTo>
                        <a:pt x="363" y="437"/>
                      </a:lnTo>
                      <a:lnTo>
                        <a:pt x="0" y="257"/>
                      </a:lnTo>
                      <a:lnTo>
                        <a:pt x="855" y="320"/>
                      </a:lnTo>
                      <a:lnTo>
                        <a:pt x="618" y="187"/>
                      </a:lnTo>
                      <a:lnTo>
                        <a:pt x="335" y="130"/>
                      </a:lnTo>
                      <a:lnTo>
                        <a:pt x="710" y="177"/>
                      </a:lnTo>
                      <a:lnTo>
                        <a:pt x="928" y="257"/>
                      </a:lnTo>
                      <a:lnTo>
                        <a:pt x="1093" y="177"/>
                      </a:lnTo>
                      <a:lnTo>
                        <a:pt x="660" y="0"/>
                      </a:lnTo>
                      <a:lnTo>
                        <a:pt x="1120" y="0"/>
                      </a:lnTo>
                      <a:lnTo>
                        <a:pt x="1505" y="72"/>
                      </a:lnTo>
                      <a:lnTo>
                        <a:pt x="1108" y="22"/>
                      </a:lnTo>
                      <a:lnTo>
                        <a:pt x="855" y="12"/>
                      </a:lnTo>
                      <a:lnTo>
                        <a:pt x="1190" y="187"/>
                      </a:lnTo>
                      <a:lnTo>
                        <a:pt x="815" y="382"/>
                      </a:lnTo>
                      <a:lnTo>
                        <a:pt x="808" y="4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79960" y="5867280"/>
                  <a:ext cx="177840" cy="406440"/>
                </a:xfrm>
                <a:custGeom>
                  <a:avLst/>
                  <a:gdLst/>
                  <a:ahLst/>
                  <a:rect l="l" t="t" r="r" b="b"/>
                  <a:pathLst>
                    <a:path w="632" h="1482">
                      <a:moveTo>
                        <a:pt x="375" y="0"/>
                      </a:moveTo>
                      <a:lnTo>
                        <a:pt x="575" y="395"/>
                      </a:lnTo>
                      <a:lnTo>
                        <a:pt x="225" y="730"/>
                      </a:lnTo>
                      <a:lnTo>
                        <a:pt x="242" y="977"/>
                      </a:lnTo>
                      <a:lnTo>
                        <a:pt x="57" y="1220"/>
                      </a:lnTo>
                      <a:lnTo>
                        <a:pt x="0" y="1482"/>
                      </a:lnTo>
                      <a:lnTo>
                        <a:pt x="192" y="1120"/>
                      </a:lnTo>
                      <a:lnTo>
                        <a:pt x="310" y="935"/>
                      </a:lnTo>
                      <a:lnTo>
                        <a:pt x="337" y="755"/>
                      </a:lnTo>
                      <a:lnTo>
                        <a:pt x="632" y="402"/>
                      </a:lnTo>
                      <a:lnTo>
                        <a:pt x="632" y="272"/>
                      </a:lnTo>
                      <a:lnTo>
                        <a:pt x="552" y="247"/>
                      </a:lnTo>
                      <a:lnTo>
                        <a:pt x="442" y="0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781440" y="5873760"/>
                  <a:ext cx="447840" cy="527040"/>
                </a:xfrm>
                <a:custGeom>
                  <a:avLst/>
                  <a:gdLst/>
                  <a:ahLst/>
                  <a:rect l="l" t="t" r="r" b="b"/>
                  <a:pathLst>
                    <a:path w="1597" h="1923">
                      <a:moveTo>
                        <a:pt x="1597" y="60"/>
                      </a:moveTo>
                      <a:lnTo>
                        <a:pt x="1267" y="250"/>
                      </a:lnTo>
                      <a:lnTo>
                        <a:pt x="615" y="790"/>
                      </a:lnTo>
                      <a:lnTo>
                        <a:pt x="145" y="1318"/>
                      </a:lnTo>
                      <a:lnTo>
                        <a:pt x="62" y="1510"/>
                      </a:lnTo>
                      <a:lnTo>
                        <a:pt x="132" y="1800"/>
                      </a:lnTo>
                      <a:lnTo>
                        <a:pt x="197" y="1923"/>
                      </a:lnTo>
                      <a:lnTo>
                        <a:pt x="62" y="1773"/>
                      </a:lnTo>
                      <a:lnTo>
                        <a:pt x="0" y="1473"/>
                      </a:lnTo>
                      <a:lnTo>
                        <a:pt x="132" y="1100"/>
                      </a:lnTo>
                      <a:lnTo>
                        <a:pt x="787" y="540"/>
                      </a:lnTo>
                      <a:lnTo>
                        <a:pt x="1372" y="115"/>
                      </a:lnTo>
                      <a:lnTo>
                        <a:pt x="1580" y="0"/>
                      </a:lnTo>
                      <a:lnTo>
                        <a:pt x="159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138480" y="5854680"/>
                  <a:ext cx="214200" cy="55440"/>
                </a:xfrm>
                <a:custGeom>
                  <a:avLst/>
                  <a:gdLst/>
                  <a:ahLst/>
                  <a:rect l="l" t="t" r="r" b="b"/>
                  <a:pathLst>
                    <a:path w="765" h="203">
                      <a:moveTo>
                        <a:pt x="762" y="185"/>
                      </a:moveTo>
                      <a:lnTo>
                        <a:pt x="765" y="165"/>
                      </a:lnTo>
                      <a:lnTo>
                        <a:pt x="7" y="0"/>
                      </a:lnTo>
                      <a:lnTo>
                        <a:pt x="0" y="38"/>
                      </a:lnTo>
                      <a:lnTo>
                        <a:pt x="760" y="203"/>
                      </a:lnTo>
                      <a:lnTo>
                        <a:pt x="762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159000" y="5946840"/>
                  <a:ext cx="193680" cy="27000"/>
                </a:xfrm>
                <a:custGeom>
                  <a:avLst/>
                  <a:gdLst/>
                  <a:ahLst/>
                  <a:rect l="l" t="t" r="r" b="b"/>
                  <a:pathLst>
                    <a:path w="690" h="95">
                      <a:moveTo>
                        <a:pt x="3" y="75"/>
                      </a:moveTo>
                      <a:lnTo>
                        <a:pt x="5" y="95"/>
                      </a:lnTo>
                      <a:lnTo>
                        <a:pt x="690" y="38"/>
                      </a:lnTo>
                      <a:lnTo>
                        <a:pt x="688" y="0"/>
                      </a:lnTo>
                      <a:lnTo>
                        <a:pt x="0" y="58"/>
                      </a:lnTo>
                      <a:lnTo>
                        <a:pt x="3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192480" y="6004080"/>
                  <a:ext cx="182520" cy="69840"/>
                </a:xfrm>
                <a:custGeom>
                  <a:avLst/>
                  <a:gdLst/>
                  <a:ahLst/>
                  <a:rect l="l" t="t" r="r" b="b"/>
                  <a:pathLst>
                    <a:path w="652" h="253">
                      <a:moveTo>
                        <a:pt x="5" y="233"/>
                      </a:moveTo>
                      <a:lnTo>
                        <a:pt x="10" y="253"/>
                      </a:lnTo>
                      <a:lnTo>
                        <a:pt x="652" y="38"/>
                      </a:lnTo>
                      <a:lnTo>
                        <a:pt x="640" y="0"/>
                      </a:lnTo>
                      <a:lnTo>
                        <a:pt x="0" y="215"/>
                      </a:lnTo>
                      <a:lnTo>
                        <a:pt x="5" y="2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243240" y="6054840"/>
                  <a:ext cx="163440" cy="85680"/>
                </a:xfrm>
                <a:custGeom>
                  <a:avLst/>
                  <a:gdLst/>
                  <a:ahLst/>
                  <a:rect l="l" t="t" r="r" b="b"/>
                  <a:pathLst>
                    <a:path w="582" h="310">
                      <a:moveTo>
                        <a:pt x="7" y="293"/>
                      </a:moveTo>
                      <a:lnTo>
                        <a:pt x="15" y="310"/>
                      </a:lnTo>
                      <a:lnTo>
                        <a:pt x="582" y="35"/>
                      </a:lnTo>
                      <a:lnTo>
                        <a:pt x="565" y="0"/>
                      </a:lnTo>
                      <a:lnTo>
                        <a:pt x="0" y="275"/>
                      </a:lnTo>
                      <a:lnTo>
                        <a:pt x="7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1790640" y="5154480"/>
              <a:ext cx="81612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"/>
          <p:cNvSpPr/>
          <p:nvPr/>
        </p:nvSpPr>
        <p:spPr>
          <a:xfrm>
            <a:off x="3086280" y="1486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019920" y="3124080"/>
          <a:ext cx="26226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124080"/>
                    <a:ext cx="2622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 txBox="1"/>
          <p:nvPr/>
        </p:nvSpPr>
        <p:spPr>
          <a:xfrm>
            <a:off x="1066680" y="3429000"/>
            <a:ext cx="49536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486400" y="3429000"/>
            <a:ext cx="3715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dur="indefinite" fill="hold">
                      <p:stCondLst>
                        <p:cond delay="indefinite"/>
                      </p:stCondLst>
                      <p:childTnLst>
                        <p:par>
                          <p:cTn id="1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dur="indefinite" fill="hold">
                      <p:stCondLst>
                        <p:cond delay="indefinite"/>
                      </p:stCondLst>
                      <p:childTnLst>
                        <p:par>
                          <p:cTn id="1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dur="indefinite" fill="hold">
                      <p:stCondLst>
                        <p:cond delay="indefinite"/>
                      </p:stCondLst>
                      <p:childTnLst>
                        <p:par>
                          <p:cTn id="1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dur="indefinite" fill="hold">
                      <p:stCondLst>
                        <p:cond delay="indefinite"/>
                      </p:stCondLst>
                      <p:childTnLst>
                        <p:par>
                          <p:cTn id="1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dur="indefinite" fill="hold">
                      <p:stCondLst>
                        <p:cond delay="indefinite"/>
                      </p:stCondLst>
                      <p:childTnLst>
                        <p:par>
                          <p:cTn id="1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dur="indefinite" fill="hold">
                      <p:stCondLst>
                        <p:cond delay="indefinite"/>
                      </p:stCondLst>
                      <p:childTnLst>
                        <p:par>
                          <p:cTn id="1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dur="indefinite" fill="hold">
                      <p:stCondLst>
                        <p:cond delay="indefinite"/>
                      </p:stCondLst>
                      <p:childTnLst>
                        <p:par>
                          <p:cTn id="1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dur="indefinite" fill="hold">
                      <p:stCondLst>
                        <p:cond delay="indefinite"/>
                      </p:stCondLst>
                      <p:childTnLst>
                        <p:par>
                          <p:cTn id="1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7162920" y="2133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00    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297180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76920" y="3733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interlocutore n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6920" y="4724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pi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72400" y="4724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24280" y="5562720"/>
            <a:ext cx="2895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è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vinto di aver cap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51960" y="56386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609480"/>
            <a:ext cx="5029200" cy="703440"/>
          </a:xfrm>
          <a:prstGeom prst="rect">
            <a:avLst/>
          </a:prstGeom>
          <a:gradFill rotWithShape="0">
            <a:gsLst>
              <a:gs pos="0">
                <a:srgbClr val="e99898"/>
              </a:gs>
              <a:gs pos="50000">
                <a:srgbClr val="cc0000"/>
              </a:gs>
              <a:gs pos="100000">
                <a:srgbClr val="e99898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hamas"/>
              </a:rPr>
              <a:t>Attenzione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-360" y="16761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noi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ia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rremmo dire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noi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mente dicia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il nostro interlocutor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de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tiene di aver udit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pis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cet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rd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rrebbe dirc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,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mente ci d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lnSpc>
                <a:spcPct val="125000"/>
              </a:lnSpc>
              <a:buClr>
                <a:srgbClr val="cc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d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29718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lnSpc>
                <a:spcPct val="100000"/>
              </a:lnSpc>
              <a:buClr>
                <a:srgbClr val="cc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esc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i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2234160" y="3786480"/>
            <a:ext cx="4649760" cy="581400"/>
          </a:xfrm>
          <a:prstGeom prst="rect">
            <a:avLst/>
          </a:prstGeom>
          <a:gradFill rotWithShape="0">
            <a:gsLst>
              <a:gs pos="0">
                <a:srgbClr val="e99898"/>
              </a:gs>
              <a:gs pos="50000">
                <a:srgbClr val="cc0000"/>
              </a:gs>
              <a:gs pos="100000">
                <a:srgbClr val="e99898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hamas"/>
              </a:rPr>
              <a:t>Questo vuol d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dur="indefinite" fill="hold">
                      <p:stCondLst>
                        <p:cond delay="indefinite"/>
                      </p:stCondLst>
                      <p:childTnLst>
                        <p:par>
                          <p:cTn id="1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dur="indefinite" fill="hold">
                      <p:stCondLst>
                        <p:cond delay="indefinite"/>
                      </p:stCondLst>
                      <p:childTnLst>
                        <p:par>
                          <p:cTn id="1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dur="indefinite" fill="hold">
                      <p:stCondLst>
                        <p:cond delay="indefinite"/>
                      </p:stCondLst>
                      <p:childTnLst>
                        <p:par>
                          <p:cTn id="1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9" dur="2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dur="indefinite" fill="hold">
                      <p:stCondLst>
                        <p:cond delay="indefinite"/>
                      </p:stCondLst>
                      <p:childTnLst>
                        <p:par>
                          <p:cTn id="1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dur="indefinite" fill="hold">
                      <p:stCondLst>
                        <p:cond delay="indefinite"/>
                      </p:stCondLst>
                      <p:childTnLst>
                        <p:par>
                          <p:cTn id="1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dur="indefinite" fill="hold">
                      <p:stCondLst>
                        <p:cond delay="indefinite"/>
                      </p:stCondLst>
                      <p:childTnLst>
                        <p:par>
                          <p:cTn id="1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dur="indefinite" fill="hold">
                      <p:stCondLst>
                        <p:cond delay="indefinite"/>
                      </p:stCondLst>
                      <p:childTnLst>
                        <p:par>
                          <p:cTn id="1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3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4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dur="indefinite" fill="hold">
                      <p:stCondLst>
                        <p:cond delay="indefinite"/>
                      </p:stCondLst>
                      <p:childTnLst>
                        <p:par>
                          <p:cTn id="1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dur="indefinite" fill="hold">
                      <p:stCondLst>
                        <p:cond delay="indefinite"/>
                      </p:stCondLst>
                      <p:childTnLst>
                        <p:par>
                          <p:cTn id="1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dur="indefinite" fill="hold">
                      <p:stCondLst>
                        <p:cond delay="indefinite"/>
                      </p:stCondLst>
                      <p:childTnLst>
                        <p:par>
                          <p:cTn id="1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dur="indefinite" fill="hold">
                      <p:stCondLst>
                        <p:cond delay="indefinite"/>
                      </p:stCondLst>
                      <p:childTnLst>
                        <p:par>
                          <p:cTn id="1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2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dur="indefinite" fill="hold">
                      <p:stCondLst>
                        <p:cond delay="indefinite"/>
                      </p:stCondLst>
                      <p:childTnLst>
                        <p:par>
                          <p:cTn id="1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7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dur="indefinite" fill="hold">
                      <p:stCondLst>
                        <p:cond delay="indefinite"/>
                      </p:stCondLst>
                      <p:childTnLst>
                        <p:par>
                          <p:cTn id="1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dur="indefinite" fill="hold">
                      <p:stCondLst>
                        <p:cond delay="indefinite"/>
                      </p:stCondLst>
                      <p:childTnLst>
                        <p:par>
                          <p:cTn id="1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dur="indefinite" fill="hold">
                      <p:stCondLst>
                        <p:cond delay="indefinite"/>
                      </p:stCondLst>
                      <p:childTnLst>
                        <p:par>
                          <p:cTn id="1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dur="indefinite" fill="hold">
                      <p:stCondLst>
                        <p:cond delay="indefinite"/>
                      </p:stCondLst>
                      <p:childTnLst>
                        <p:par>
                          <p:cTn id="1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dur="indefinite" fill="hold">
                      <p:stCondLst>
                        <p:cond delay="indefinite"/>
                      </p:stCondLst>
                      <p:childTnLst>
                        <p:par>
                          <p:cTn id="1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dur="indefinite" fill="hold">
                      <p:stCondLst>
                        <p:cond delay="indefinite"/>
                      </p:stCondLst>
                      <p:childTnLst>
                        <p:par>
                          <p:cTn id="1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dur="indefinite" fill="hold">
                      <p:stCondLst>
                        <p:cond delay="indefinite"/>
                      </p:stCondLst>
                      <p:childTnLst>
                        <p:par>
                          <p:cTn id="1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dur="indefinite" fill="hold">
                      <p:stCondLst>
                        <p:cond delay="indefinite"/>
                      </p:stCondLst>
                      <p:childTnLst>
                        <p:par>
                          <p:cTn id="1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dur="indefinite" fill="hold">
                      <p:stCondLst>
                        <p:cond delay="indefinite"/>
                      </p:stCondLst>
                      <p:childTnLst>
                        <p:par>
                          <p:cTn id="1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dur="indefinite" fill="hold">
                      <p:stCondLst>
                        <p:cond delay="indefinite"/>
                      </p:stCondLst>
                      <p:childTnLst>
                        <p:par>
                          <p:cTn id="1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dur="indefinite" fill="hold">
                      <p:stCondLst>
                        <p:cond delay="indefinite"/>
                      </p:stCondLst>
                      <p:childTnLst>
                        <p:par>
                          <p:cTn id="1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066680" y="1792440"/>
            <a:ext cx="6934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 si può non comun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114800" cy="2740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603440" y="685800"/>
            <a:ext cx="584712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43000" y="2438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che il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silenz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è comun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dur="indefinite" fill="hold">
                      <p:stCondLst>
                        <p:cond delay="indefinite"/>
                      </p:stCondLst>
                      <p:childTnLst>
                        <p:par>
                          <p:cTn id="1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dur="indefinite" fill="hold">
                      <p:stCondLst>
                        <p:cond delay="indefinite"/>
                      </p:stCondLst>
                      <p:childTnLst>
                        <p:par>
                          <p:cTn id="1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dur="indefinite" fill="hold">
                      <p:stCondLst>
                        <p:cond delay="indefinite"/>
                      </p:stCondLst>
                      <p:childTnLst>
                        <p:par>
                          <p:cTn id="1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dur="indefinite" fill="hold">
                      <p:stCondLst>
                        <p:cond delay="indefinite"/>
                      </p:stCondLst>
                      <p:childTnLst>
                        <p:par>
                          <p:cTn id="1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81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process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2640" y="299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5120" y="2514600"/>
          <a:ext cx="52387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5238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833480" y="2890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3581280"/>
          <a:ext cx="5476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81280"/>
                    <a:ext cx="5476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tti gli scambi di comunicazione son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immetric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ompleme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429000" cy="1727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990720" y="685800"/>
            <a:ext cx="70866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dur="indefinite" fill="hold">
                      <p:stCondLst>
                        <p:cond delay="indefinite"/>
                      </p:stCondLst>
                      <p:childTnLst>
                        <p:par>
                          <p:cTn id="1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dur="indefinite" fill="hold">
                      <p:stCondLst>
                        <p:cond delay="indefinite"/>
                      </p:stCondLst>
                      <p:childTnLst>
                        <p:par>
                          <p:cTn id="1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dur="indefinite" fill="hold">
                      <p:stCondLst>
                        <p:cond delay="indefinite"/>
                      </p:stCondLst>
                      <p:childTnLst>
                        <p:par>
                          <p:cTn id="1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gni comunicazione ha un asp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contenu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 uno di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re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876920" cy="19368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755720" y="990720"/>
            <a:ext cx="58471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dur="indefinite" fill="hold">
                      <p:stCondLst>
                        <p:cond delay="indefinite"/>
                      </p:stCondLst>
                      <p:childTnLst>
                        <p:par>
                          <p:cTn id="1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dur="indefinite" fill="hold">
                      <p:stCondLst>
                        <p:cond delay="indefinite"/>
                      </p:stCondLst>
                      <p:childTnLst>
                        <p:par>
                          <p:cTn id="1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362320" y="167652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olere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strare che si asco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per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714680" y="3657600"/>
            <a:ext cx="5810040" cy="27050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171880" y="479520"/>
            <a:ext cx="47815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dur="indefinite" fill="hold">
                      <p:stCondLst>
                        <p:cond delay="indefinite"/>
                      </p:stCondLst>
                      <p:childTnLst>
                        <p:par>
                          <p:cTn id="1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dur="indefinite" fill="hold">
                      <p:stCondLst>
                        <p:cond delay="indefinite"/>
                      </p:stCondLst>
                      <p:childTnLst>
                        <p:par>
                          <p:cTn id="1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dur="indefinite" fill="hold">
                      <p:stCondLst>
                        <p:cond delay="indefinite"/>
                      </p:stCondLst>
                      <p:childTnLst>
                        <p:par>
                          <p:cTn id="1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dur="indefinite" fill="hold">
                      <p:stCondLst>
                        <p:cond delay="indefinite"/>
                      </p:stCondLst>
                      <p:childTnLst>
                        <p:par>
                          <p:cTn id="1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09480" y="1600200"/>
            <a:ext cx="5105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comunicazione è in primo luogo </a:t>
            </a:r>
            <a:r>
              <a:rPr b="0" i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rilasciare un messagg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ma è anche, e a volte soprattutto </a:t>
            </a:r>
            <a:r>
              <a:rPr b="0" i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scoltare il messaggio altru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oltare qualcuno significa mettersi al suo posto e tentare di comprendere il suo punto di 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48120" y="609480"/>
            <a:ext cx="3276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dur="indefinite" fill="hold">
                      <p:stCondLst>
                        <p:cond delay="indefinite"/>
                      </p:stCondLst>
                      <p:childTnLst>
                        <p:par>
                          <p:cTn id="1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dur="indefinite" fill="hold">
                      <p:stCondLst>
                        <p:cond delay="indefinite"/>
                      </p:stCondLst>
                      <p:childTnLst>
                        <p:par>
                          <p:cTn id="1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dur="indefinite" fill="hold">
                      <p:stCondLst>
                        <p:cond delay="indefinite"/>
                      </p:stCondLst>
                      <p:childTnLst>
                        <p:par>
                          <p:cTn id="1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dur="indefinite" fill="hold">
                      <p:stCondLst>
                        <p:cond delay="indefinite"/>
                      </p:stCondLst>
                      <p:childTnLst>
                        <p:par>
                          <p:cTn id="1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cellare i pregiudi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e valutazioni affret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re le dist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 interromp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nere il contatt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venire solo tra le “pau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rollare la propria emo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8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rcare di capire lo “spirito” al di là delle pa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sservare il comportamento non verb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36576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0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e di trarre conclusioni fin dalle prime bat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loquire ogni tanto con rapide domande che rassicurino l’interlocutore circa la nostra atte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rcare di cogliere l’idea-base di ogni es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tare attenzione anche quando l’argomento è conosc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icurarsi che l’interlocutore abbia espresso la propria opi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54320" y="479520"/>
            <a:ext cx="45608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 fare ascolto attiv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1447920"/>
            <a:ext cx="1800" cy="4647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5"/>
          <a:stretch/>
        </p:blipFill>
        <p:spPr>
          <a:xfrm>
            <a:off x="7238880" y="380880"/>
            <a:ext cx="1363680" cy="16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dur="indefinite" fill="hold">
                      <p:stCondLst>
                        <p:cond delay="indefinite"/>
                      </p:stCondLst>
                      <p:childTnLst>
                        <p:par>
                          <p:cTn id="1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dur="indefinite" fill="hold">
                      <p:stCondLst>
                        <p:cond delay="indefinite"/>
                      </p:stCondLst>
                      <p:childTnLst>
                        <p:par>
                          <p:cTn id="1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0" dur="20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dur="indefinite" fill="hold">
                      <p:stCondLst>
                        <p:cond delay="indefinite"/>
                      </p:stCondLst>
                      <p:childTnLst>
                        <p:par>
                          <p:cTn id="1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20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dur="indefinite" fill="hold">
                      <p:stCondLst>
                        <p:cond delay="indefinite"/>
                      </p:stCondLst>
                      <p:childTnLst>
                        <p:par>
                          <p:cTn id="1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dur="indefinite" fill="hold">
                      <p:stCondLst>
                        <p:cond delay="indefinite"/>
                      </p:stCondLst>
                      <p:childTnLst>
                        <p:par>
                          <p:cTn id="1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dur="indefinite" fill="hold">
                      <p:stCondLst>
                        <p:cond delay="indefinite"/>
                      </p:stCondLst>
                      <p:childTnLst>
                        <p:par>
                          <p:cTn id="1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dur="indefinite" fill="hold">
                      <p:stCondLst>
                        <p:cond delay="indefinite"/>
                      </p:stCondLst>
                      <p:childTnLst>
                        <p:par>
                          <p:cTn id="1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dur="indefinite" fill="hold">
                      <p:stCondLst>
                        <p:cond delay="indefinite"/>
                      </p:stCondLst>
                      <p:childTnLst>
                        <p:par>
                          <p:cTn id="1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dur="indefinite" fill="hold">
                      <p:stCondLst>
                        <p:cond delay="indefinite"/>
                      </p:stCondLst>
                      <p:childTnLst>
                        <p:par>
                          <p:cTn id="1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dur="indefinite" fill="hold">
                      <p:stCondLst>
                        <p:cond delay="indefinite"/>
                      </p:stCondLst>
                      <p:childTnLst>
                        <p:par>
                          <p:cTn id="1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0" dur="2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dur="indefinite" fill="hold">
                      <p:stCondLst>
                        <p:cond delay="indefinite"/>
                      </p:stCondLst>
                      <p:childTnLst>
                        <p:par>
                          <p:cTn id="1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5" dur="8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8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dur="indefinite" fill="hold">
                      <p:stCondLst>
                        <p:cond delay="indefinite"/>
                      </p:stCondLst>
                      <p:childTnLst>
                        <p:par>
                          <p:cTn id="1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dur="indefinite" fill="hold">
                      <p:stCondLst>
                        <p:cond delay="indefinite"/>
                      </p:stCondLst>
                      <p:childTnLst>
                        <p:par>
                          <p:cTn id="1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dur="indefinite" fill="hold">
                      <p:stCondLst>
                        <p:cond delay="indefinite"/>
                      </p:stCondLst>
                      <p:childTnLst>
                        <p:par>
                          <p:cTn id="16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dur="indefinite" fill="hold">
                      <p:stCondLst>
                        <p:cond delay="indefinite"/>
                      </p:stCondLst>
                      <p:childTnLst>
                        <p:par>
                          <p:cTn id="1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dur="indefinite" fill="hold">
                      <p:stCondLst>
                        <p:cond delay="indefinite"/>
                      </p:stCondLst>
                      <p:childTnLst>
                        <p:par>
                          <p:cTn id="1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914400" y="2205000"/>
            <a:ext cx="740268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ascolto attivo non è una formula meccanica e ripet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unic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ima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teresse, immedesim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’ l’espressione verbale dell’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mpat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793800"/>
            <a:ext cx="495324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 A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dur="indefinite" fill="hold">
                      <p:stCondLst>
                        <p:cond delay="indefinite"/>
                      </p:stCondLst>
                      <p:childTnLst>
                        <p:par>
                          <p:cTn id="16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9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dur="indefinite" fill="hold">
                      <p:stCondLst>
                        <p:cond delay="indefinite"/>
                      </p:stCondLst>
                      <p:childTnLst>
                        <p:par>
                          <p:cTn id="1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dur="indefinite" fill="hold">
                      <p:stCondLst>
                        <p:cond delay="indefinite"/>
                      </p:stCondLst>
                      <p:childTnLst>
                        <p:par>
                          <p:cTn id="16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4" dur="1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dur="indefinite" fill="hold">
                      <p:stCondLst>
                        <p:cond delay="indefinite"/>
                      </p:stCondLst>
                      <p:childTnLst>
                        <p:par>
                          <p:cTn id="1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dur="indefinite" fill="hold">
                      <p:stCondLst>
                        <p:cond delay="indefinite"/>
                      </p:stCondLst>
                      <p:childTnLst>
                        <p:par>
                          <p:cTn id="1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dur="indefinite" fill="hold">
                      <p:stCondLst>
                        <p:cond delay="indefinite"/>
                      </p:stCondLst>
                      <p:childTnLst>
                        <p:par>
                          <p:cTn id="1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7772400" cy="579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process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720" y="957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1143000"/>
          <a:ext cx="70866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0866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23800" y="1552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3276720"/>
          <a:ext cx="6858000" cy="31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685800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2590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17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ggiore chiarezza e prec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ossibilità di ritarare il messaggio in funzione del feed-back inviato dal rice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ilanciamento della capacità di trasmissione con quella di ricezion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ts val="411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cessità di maggiore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ts val="411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ischio di allargamento di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4320" y="380880"/>
            <a:ext cx="51688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comunicazione a 2 v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30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676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2057400"/>
            <a:ext cx="1523880" cy="304920"/>
          </a:xfrm>
          <a:prstGeom prst="lef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1800" cy="3886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2600" y="1828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19080" y="479520"/>
            <a:ext cx="546300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mod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8446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unicazione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90204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unicazione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600200"/>
            <a:ext cx="2514600" cy="12193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ola/conten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200400"/>
            <a:ext cx="2743200" cy="13176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paraverb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no, velocità, pause, inflessioni, silenz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200400"/>
            <a:ext cx="2971800" cy="12560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l cor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ressioni del viso, posizioni del corpo, gestualità, postura,  prossemica, sguard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648320"/>
            <a:ext cx="2743200" cy="18043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ll’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 compo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 comunicazione che esprimono l’atteggiamento e il tipo di rappo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653000"/>
            <a:ext cx="2957400" cy="13176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gli oggetti e dell’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bigliamento, trucco, arredi, oggettistica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182880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7242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77440"/>
            <a:ext cx="7772400" cy="5223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paraver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70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447920"/>
            <a:ext cx="7315200" cy="410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Lucida Casual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TONO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RITMO DI ELOC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VOLUME, TIMBRO, SONORITÀ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INFLES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ALTERAZIONI (EMOTIVE)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PUNTEGGIATURA E ACCENTUAZIONE SEMA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MODULAZIONE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SILENZI E 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INTERIEZIONI 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791320"/>
            <a:ext cx="8458200" cy="39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lbertus Extra Bold"/>
              </a:rPr>
              <a:t>MODULARE LA VOCE COME UNO STRUMENTO MUS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chimes.wav"/>
                            </p:tgtEl>
                          </p:cMediaNode>
                        </p:audio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chimes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80880"/>
            <a:ext cx="777240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143000"/>
            <a:ext cx="7696080" cy="4483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GUARDO E LINGUAGGIO DEGLI OC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MIMICA FAC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RITMO DEL RESP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GEST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ORR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POST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ABBIGLIAMENTO E TRU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IZIONE DELLA T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IZIONE DI MANI E PI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DEAMBU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CONTATTO CORP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DISTANZA E GESTIONE DEGLI SPAZI INTERPERSONALI  (PROSSEM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ECC.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19920"/>
            <a:ext cx="86104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Lucida Sans Unicode"/>
              </a:rPr>
              <a:t>STRUMENTO PRINCIPE: LO SGU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dur="indefinite" fill="hold">
                      <p:stCondLst>
                        <p:cond delay="indefinite"/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camera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3120" y="90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9040" y="-157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5160" y="685800"/>
            <a:ext cx="5256360" cy="579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990720"/>
            <a:ext cx="49579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"/>
              </a:rPr>
              <a:t>PROSSE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Bahamas"/>
              </a:rPr>
              <a:t>COMUNICAZIONE NON VER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ollaborazione di Anna Bruni</dc:description>
  <dc:language>en-US</dc:language>
  <cp:lastModifiedBy/>
  <cp:revision>0</cp:revision>
  <dc:subject/>
  <dc:title>La Percezione</dc:title>
</cp:coreProperties>
</file>