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20EBE-72D6-4F4A-8F5A-6D11C43A81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720" y="125280"/>
            <a:ext cx="606600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70B-0C65-4E63-8C95-9C0E27D2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B7A-696A-48D7-B7CA-CD8E9BD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B8E-8C3A-46BC-B738-7E22DAEA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71E-240F-4E95-8F18-E2BC4FCB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B2C-AFD7-4A57-834B-09DF5944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A2FF-9E01-435C-A611-C1D7187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C21-8661-4CCD-9642-2B392D7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AD0-154C-4644-AD8A-7F876A91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C85-AF18-47EF-9B4F-C9F1847D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F68B-F9B3-4896-86CD-6F582F13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7593-30F9-4245-9828-E0D338C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E4E-6088-4A02-A5DC-34129840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090-3926-4276-9A3A-598D161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547B-AE96-4C38-8ED6-AF7464D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EA8-335E-49D7-A33E-64829D7B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5D42-0EDB-48D1-BC09-F719E952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C90A-2FFC-4D63-8BF5-BEE019D0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DDD-B068-43E4-AED8-0A74580B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6D8-9E55-4C96-82DE-CB74B1FC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79E-D88D-4A7A-9299-517F760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00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044-6E5D-4B02-969E-B1F78BA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121-155E-41F6-912C-4DCCE5A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0F2-D0D8-497F-BC2F-381C935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631-256D-4AA8-B0A9-A26939F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F65C-6227-47FE-8412-23AACDC809F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EDBF4A-A590-4927-B9D1-D909C22EC18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lligenza emo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struttura della competenza emo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276640"/>
            <a:ext cx="29606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mpetenza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apevolezza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dronanza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18360" y="4152960"/>
            <a:ext cx="2998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ompetenza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pa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à so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competenza personale:</a:t>
            </a: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Tahoma"/>
              </a:rPr>
              <a:t>consapevolezza di s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286000"/>
            <a:ext cx="746748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oscere i propri sent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are questa conoscenza nei proc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cis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per valutare in modo reali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 proprie possibilità  e i propri lim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competenza personale:</a:t>
            </a: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Tahoma"/>
              </a:rPr>
              <a:t>padronanza di se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898560" y="186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057400"/>
            <a:ext cx="7086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stire le emozioni in modo che non sian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turbo rispetto agl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ggere le frust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dat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unzione di responsa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dronanza di s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 termine ingle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mastery” (padronanza in itali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deriva dalla radice sanscrit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he significa “più grande” (ed è anche la fonte di “maharaja”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 corso dei secoli, in Latino e in Antico Inglese, il significato di “mastery” come dominio su qualcos’altro è rimas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 nel francese medievale si è avuta un’evoluzione del termin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ît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he significava qualcuno eccezionalmente competente e abile, il maestro di un’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dronanza di s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y”, così come si usa oggi, riflet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ît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ignifica la capacità non solo di produrre risultati, ma anche di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ere padronanza” dei principi alla base del modo in cui si producono 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ultati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 qualcuno riesce a creare una grande opera solo con una lotta costante, non lo definiremmo magistra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lla padronanza vi è un senso di naturalezza e di gioi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riva dalla propria abilità e disponibilità a capire e a lavorare con le forze che ha dentro 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rno a s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dronanza di s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la disciplina della padronanza personale suggerisce che possiamo, come individui, coltivare un modo di pensare che ci guidi gradualmente verso ess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Quanto più ci esercitiamo in questo modo di pensare, tanto più ci sentiremo competenti e sicuri, e tanto più ci concederemo di essere consapevoli della tensione che ci può far andare avanti, se la coltivia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competenza personale:</a:t>
            </a: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Tahoma"/>
              </a:rPr>
              <a:t>automotiv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3141720"/>
            <a:ext cx="32115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inta alla re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e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iz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ositiv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competenza sociale:</a:t>
            </a: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Tahoma"/>
              </a:rPr>
              <a:t>empa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421000"/>
            <a:ext cx="5921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sapevolezza dei sentimenti, delle esig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 degli interessi altr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percepire i sentimenti degli al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aper adottare il loro punto di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ccettare e valorizzare le divers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vere un atteggiamento di fid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competenza sociale:</a:t>
            </a: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Tahoma"/>
              </a:rPr>
              <a:t>abilita’ soci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276640"/>
            <a:ext cx="42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telligenza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llabo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aper sviluppare reti di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avorire il camb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estire i confl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egoz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 capacità comunicative e relazional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95200" y="2030040"/>
            <a:ext cx="7746840" cy="408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e capacità comunicative e relazionali non sono date o innate, bensì sono da svilupp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no legate allo sviluppo della persona e comportano un processo di interrogazione e di riflessione su di s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’ apprendimento dall’esperienz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e cosa sono le emo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’emozione è una modalità sensoriale diretta verso l’inte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emozioni sono insiemi di risposte chimiche e neur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nno un ruolo regolatore da svolgere, assistendo l’organismo nella conservazione della v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no processi determinati biologicamente, anche se apprendimento e cultura possono conferire alle emozioni nuovi signific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i processi si innescano automaticamente, anche se all’interno di una variabilità individuale e cultu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emozioni usano il corpo come tea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viluppare la padronanza di s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916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a base per lo sviluppo della padronanza  e’ 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590920"/>
            <a:ext cx="472428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NSAPEVOLEZZA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680" y="4724280"/>
            <a:ext cx="72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n e’ possibile sviluppare abilità sociali se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non si e’ raggiunto un adeguato sviluppo n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sapevolezza e padronanza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in cosa si distingue l’uomo dagli altri animali?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239920"/>
            <a:ext cx="77724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uò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conoscer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le emozioni (le registra, se le rappresenta, le conosce sotto forma di sentiment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può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volontariamente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sforzarsi di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controllar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4724280"/>
            <a:ext cx="754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ossiamo cercare di superare la tirannica 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automaticità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 inconsapevolezza dei meccanis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mo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adronanza di sè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239920"/>
            <a:ext cx="77724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’uomo, a differenza degli altri esseri animali, può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conoscer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le emozioni (le registra, se le rappresenta, le conosce sottoforma di sentiment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uò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volontariament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forzarsi di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controll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5013360"/>
            <a:ext cx="754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ossiamo cercare di superare la tirannica </a:t>
            </a: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automaticità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 inconsapevolezza dei meccanis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mo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adronanza di sé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noscere ed usare le emozion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1844640"/>
            <a:ext cx="72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ssere consapevoli delle proprie emozioni significa poterle usare come “informazioni” su quanto sta accad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53960" y="3614760"/>
            <a:ext cx="1526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DO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657600"/>
            <a:ext cx="761760" cy="609480"/>
          </a:xfrm>
          <a:prstGeom prst="rightArrow">
            <a:avLst>
              <a:gd name="adj1" fmla="val 50000"/>
              <a:gd name="adj2" fmla="val 31246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3733920"/>
            <a:ext cx="116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8360" y="3733920"/>
            <a:ext cx="114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65760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29400" y="4800600"/>
            <a:ext cx="70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sequenza evidenzia una reazione automa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cc"/>
                </a:solidFill>
                <a:uFillTx/>
                <a:latin typeface="Tahoma"/>
              </a:rPr>
              <a:t>dall’emozione al comport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cc"/>
                </a:solidFill>
                <a:uFillTx/>
                <a:latin typeface="Tahoma"/>
              </a:rPr>
              <a:t>dov’e’ la mia liberta’ di sce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adronanza di sé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noscere ed usare le emozion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804600" y="1981080"/>
            <a:ext cx="1526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VEDO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023920"/>
            <a:ext cx="762120" cy="609840"/>
          </a:xfrm>
          <a:prstGeom prst="rightArrow">
            <a:avLst>
              <a:gd name="adj1" fmla="val 50000"/>
              <a:gd name="adj2" fmla="val 31243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22800" y="2100240"/>
            <a:ext cx="116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023920"/>
            <a:ext cx="762120" cy="609840"/>
          </a:xfrm>
          <a:prstGeom prst="rightArrow">
            <a:avLst>
              <a:gd name="adj1" fmla="val 50000"/>
              <a:gd name="adj2" fmla="val 31243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50400" y="1600200"/>
            <a:ext cx="3478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O CHE STO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TTERE IN A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UN COMPO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I 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41280" y="3505320"/>
            <a:ext cx="698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o usando l’informazione che deriva 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oscere le mie emozioni; la liberta’ di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siste nel valutare se voglio veramente ag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il comportamento di fuga oppure domandar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54640" y="5562720"/>
            <a:ext cx="383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S’ALTRO POTREI F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adronanza di sé: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noscere ed usare le emozion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23600" y="1844640"/>
            <a:ext cx="7322400" cy="825480"/>
            <a:chOff x="723600" y="1844640"/>
            <a:chExt cx="7322400" cy="825480"/>
          </a:xfrm>
        </p:grpSpPr>
        <p:sp>
          <p:nvSpPr>
            <p:cNvPr id="177" name=""/>
            <p:cNvSpPr/>
            <p:nvPr/>
          </p:nvSpPr>
          <p:spPr>
            <a:xfrm>
              <a:off x="3626280" y="2149560"/>
              <a:ext cx="12596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RAB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600" y="184464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O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AGGRED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5440" y="1963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99040" y="192096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1954080"/>
              <a:ext cx="210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AGGREDIS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666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usare le emozioni come “alleati” nella regolazione dei comportamenti significa che, grazie all’emozione (che riconosco!), so quanto sta per accader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4240" y="4038480"/>
            <a:ext cx="61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la rabbia non e’ necessariamente un impulso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ttaccare ma un avvertimento 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ale impulso e’ in at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5516640"/>
            <a:ext cx="5715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QUESTO AVVERTIMENTO APRE LO SPAZIO ALLA LIBERTA’ DI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R.K. Cooper, A. Sawaf,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Il fattore emozione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trad. ital. Sperling &amp; Kuffer editori, Torino, 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.R. Damasio,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Emozione e coscienz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trad. ital. Adelphi, Milano,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. Goleman,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Intelligenza emotiv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traduz. Ital. Rizzoli, Milano, 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. Goleman,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Lavorare con intelligenza emotiva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traduz. Ital. Rizzoli, Milano,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. Goleman, R. Boyatzis, . McKee, </a:t>
            </a: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Essere leader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, traduz. Ital. Rizzoli, Milano,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mozione”: defini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zioni o movimenti, in larga misur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ubblici,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ssia visibili ad altri, che si manifestano nel volto, nella voce o in comportamenti specifi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zioni, che si manifestano nel corpo, a determinati stim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ma viene l’emozione (nel corpo) poi il sentimento (nella mente): il sentimento è la consapevolezza dell’emozi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 EMOZIONI SI DIVIDONO IN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900080"/>
            <a:ext cx="76183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cf01"/>
                </a:solidFill>
                <a:uFillTx/>
                <a:latin typeface="Tahoma"/>
              </a:rPr>
              <a:t>Di fond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: energia, entusiasmo, malessere, eccitamento, nervosismo, tranquill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cf01"/>
                </a:solidFill>
                <a:uFillTx/>
                <a:latin typeface="Tahoma"/>
              </a:rPr>
              <a:t>Primari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: paura, rabbia, disgusto, sorpresa, tristezza, felic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cf01"/>
                </a:solidFill>
                <a:uFillTx/>
                <a:latin typeface="Tahoma"/>
              </a:rPr>
              <a:t>Sociali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: imbarazzo, vergogna, senso di colpa, orgoglio, gelosia, invidia, gratitudine, ammirazione, indignazione, disprezzo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 funzione biologica delle emo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Produrre una reazione specifica alla situazione che induce l’emozione ( un animale che si sente minacciato può fuggire, aggredire, restare immobile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Regolare lo stato interno dell’organismo in modo da prepararlo alla reazione specifica (aumentare il flusso sanguigno negli arti, modificare il ritmo del cuore o della respirazione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egli organismi dotati di coscienza, che “sanno” cioè di avere emozioni, queste agiscono anche sulla mente, per il tramite del sentimento, e accrescono le capacità dell’organismo di reagire in maniera adat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unzione negativa delle emozion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Le parole sono spesso mosse dalle emozioni: timori, paure,  gelosia, invidia, competizione, desiderio di rivalsa, lati ombra che dimorano in noi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L’emozione in questo caso pregiudica la comunicazione e condiziona la relazion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 algn="just">
              <a:lnSpc>
                <a:spcPct val="113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Non ascoltare, rimanere sordi a ciò che si muove in noi  rende incongrue le nostre azioni, fa sì che mandiamo messaggi contrastanti agli altri, vanificando i nostri sforzi comunicativi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zione positiva, di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orientamen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41528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13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 sentimenti, le emozioni, gli stati d’animo ci aiutano a comprendere il contesto in cui agiam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 algn="just">
              <a:lnSpc>
                <a:spcPct val="113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’è chi definisce l’emozione una specie di sesto senso: consente valutazioni rapide e sintetich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3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Le emozioni ci rendono attenti al clima, all’atmosfera, alla relazione, creano sintonia con gli altr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3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ccompagnano e suscitano immagini e fantas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3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iguardano i colori, le sfumature e il contatto; danno pienezza alla comunicazione  e fondamento alla mem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6200000">
            <a:off x="-1515240" y="3461400"/>
            <a:ext cx="37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Garamond"/>
              </a:rPr>
              <a:t>LE EMO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355680"/>
            <a:ext cx="777528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etenza emo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45240" y="2590920"/>
            <a:ext cx="656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competenza emotiva si manifesta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à di riconoscere le emozioni prop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 altrui, di motivare noi stessi, di usare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lligenza” le emozioni, tanto in 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e stessi quanto nelle relazioni con gli al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La padronanza di sè</dc:title>
</cp:coreProperties>
</file>